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107-2840-4B4A-8B2A-B451EE72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38F-E9E4-4B2A-B9C9-352C529A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478-0592-4A9C-A8DF-EE375E23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F46-D1A4-4A70-ADE5-0585ECA5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5E4-38D1-4F47-81A7-39441431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6C4-CA49-400D-B476-93324FF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039-E419-4364-8358-B00BB369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57D-8ED2-4237-B424-6575B45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BA7-0A05-4005-9D65-EA9A8DCA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6D0-41AF-43D4-87FA-8F0D3107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770-8F24-419B-BEC8-FDE232D5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AEB-8E53-4F82-ADE3-4C936C3E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329D-EFBF-440C-8FE7-2A5E921D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0000"/>
                </a:solidFill>
                <a:latin typeface="Comic Sans MS"/>
              </a:rPr>
              <a:t>Aplicarea efectelor de anima</a:t>
            </a:r>
            <a:r>
              <a:rPr b="0" lang="ro-RO" sz="4000" spc="-1" strike="noStrike">
                <a:solidFill>
                  <a:srgbClr val="760000"/>
                </a:solidFill>
                <a:latin typeface="Comic Sans MS"/>
              </a:rPr>
              <a:t>ţie în prezentările Powe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760000"/>
                </a:solidFill>
                <a:latin typeface="Comic Sans MS"/>
              </a:rPr>
              <a:t>Prof. </a:t>
            </a:r>
            <a:r>
              <a:rPr b="0" lang="en-US" sz="3200" spc="-1" strike="noStrike">
                <a:solidFill>
                  <a:srgbClr val="760000"/>
                </a:solidFill>
                <a:latin typeface="Comic Sans MS"/>
              </a:rPr>
              <a:t>Nicolae Coma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42920" y="2276640"/>
            <a:ext cx="741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Problema turnurilor din Hanoi este o problemă-joc propusă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de</a:t>
            </a:r>
            <a:r>
              <a:rPr b="0" lang="en-US" sz="3200" spc="-1" strike="noStrike">
                <a:solidFill>
                  <a:srgbClr val="811b1b"/>
                </a:solidFill>
                <a:latin typeface="Comic Sans MS"/>
              </a:rPr>
              <a:t>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matematicianul francez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 Edouard Lucas,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î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n 1883.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El s-a inspirat din legenda unui templu hindus .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Algoritmul de rezolvare matematică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 va fi studiat de voi în clasa a X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70a07"/>
                </a:solidFill>
                <a:latin typeface="Comic Sans MS"/>
              </a:rPr>
              <a:t>Turnurile din Hano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33360"/>
            <a:ext cx="2557440" cy="814320"/>
          </a:xfrm>
          <a:prstGeom prst="roundRect">
            <a:avLst>
              <a:gd name="adj" fmla="val 50000"/>
            </a:avLst>
          </a:prstGeom>
          <a:solidFill>
            <a:srgbClr val="8d7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Comic Sans MS"/>
              </a:rPr>
              <a:t>Le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005360"/>
            <a:ext cx="83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Atunci când lumea a fost creată, preoţilor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 dintr</a:t>
            </a: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-un templu din Benares (India) le-au fost dăruite 3 ace de diamant şi 64 discuri de aur.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103640" y="606600"/>
            <a:ext cx="3923640" cy="2857680"/>
            <a:chOff x="4103640" y="606600"/>
            <a:chExt cx="3923640" cy="2857680"/>
          </a:xfrm>
        </p:grpSpPr>
        <p:grpSp>
          <p:nvGrpSpPr>
            <p:cNvPr id="48" name=""/>
            <p:cNvGrpSpPr/>
            <p:nvPr/>
          </p:nvGrpSpPr>
          <p:grpSpPr>
            <a:xfrm>
              <a:off x="4103640" y="606600"/>
              <a:ext cx="3923640" cy="2857680"/>
              <a:chOff x="4103640" y="606600"/>
              <a:chExt cx="3923640" cy="285768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4103640" y="606600"/>
                <a:ext cx="3923640" cy="2857680"/>
                <a:chOff x="4103640" y="606600"/>
                <a:chExt cx="3923640" cy="2857680"/>
              </a:xfrm>
            </p:grpSpPr>
            <p:pic>
              <p:nvPicPr>
                <p:cNvPr id="5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195440" y="704520"/>
                  <a:ext cx="3686400" cy="265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" name=""/>
                <p:cNvSpPr/>
                <p:nvPr/>
              </p:nvSpPr>
              <p:spPr>
                <a:xfrm>
                  <a:off x="4103640" y="704520"/>
                  <a:ext cx="290520" cy="27597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736760" y="655200"/>
                  <a:ext cx="290520" cy="27597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5400000">
                  <a:off x="5943960" y="-1185480"/>
                  <a:ext cx="290160" cy="3874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4394160" y="898920"/>
                <a:ext cx="3342600" cy="2128320"/>
              </a:xfrm>
              <a:prstGeom prst="rect">
                <a:avLst/>
              </a:prstGeom>
              <a:noFill/>
              <a:ln w="57240">
                <a:solidFill>
                  <a:srgbClr val="8d72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284720" y="3079800"/>
              <a:ext cx="3490920" cy="368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7d653f"/>
                  </a:solidFill>
                  <a:latin typeface="Comic Sans MS"/>
                </a:rPr>
                <a:t>Templul Pura Ulu Dan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333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Preoţilor li s-a poruncit să depună pe acul din stânga toate discurile, în ordine  descrescătoare a diametrelor, apoi să mute întregul turn astfel format pe acul din dreapta, folosind acul din mijloc ca intermediar,mutând câte un disc odată şi fără a pune un disc mai mare peste un disc mai 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În conformitate cu legenda, Dumnezeu le-a zis oameni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66100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Comic Sans MS"/>
              </a:rPr>
              <a:t>”</a:t>
            </a:r>
            <a:r>
              <a:rPr b="1" lang="ro-RO" sz="2400" spc="-1" strike="noStrike">
                <a:solidFill>
                  <a:srgbClr val="006600"/>
                </a:solidFill>
                <a:latin typeface="Comic Sans MS"/>
              </a:rPr>
              <a:t>Când veţi termina de mutat turnul, atunci lumea se va sfârşi !”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5013360"/>
            <a:ext cx="3673440" cy="0"/>
          </a:xfrm>
          <a:prstGeom prst="line">
            <a:avLst/>
          </a:prstGeom>
          <a:ln w="7632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440" y="4819680"/>
            <a:ext cx="1655640" cy="144360"/>
          </a:xfrm>
          <a:prstGeom prst="roundRect">
            <a:avLst>
              <a:gd name="adj" fmla="val 16667"/>
            </a:avLst>
          </a:prstGeom>
          <a:solidFill>
            <a:srgbClr val="f408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2640" y="4664160"/>
            <a:ext cx="1335240" cy="144360"/>
          </a:xfrm>
          <a:prstGeom prst="roundRect">
            <a:avLst>
              <a:gd name="adj" fmla="val 16667"/>
            </a:avLst>
          </a:prstGeom>
          <a:solidFill>
            <a:srgbClr val="332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84400" y="4508640"/>
            <a:ext cx="1052640" cy="150840"/>
          </a:xfrm>
          <a:prstGeom prst="roundRect">
            <a:avLst>
              <a:gd name="adj" fmla="val 16667"/>
            </a:avLst>
          </a:prstGeom>
          <a:solidFill>
            <a:srgbClr val="3eb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2240" y="4354560"/>
            <a:ext cx="731880" cy="154080"/>
          </a:xfrm>
          <a:prstGeom prst="roundRect">
            <a:avLst>
              <a:gd name="adj" fmla="val 16667"/>
            </a:avLst>
          </a:prstGeom>
          <a:solidFill>
            <a:srgbClr val="f7c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73480" y="4199040"/>
            <a:ext cx="509400" cy="144360"/>
          </a:xfrm>
          <a:prstGeom prst="roundRect">
            <a:avLst>
              <a:gd name="adj" fmla="val 16667"/>
            </a:avLst>
          </a:prstGeom>
          <a:solidFill>
            <a:srgbClr val="8c7e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0872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70a07"/>
                </a:solidFill>
                <a:latin typeface="Comic Sans MS"/>
              </a:rPr>
              <a:t>Turnurile din Hano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013360"/>
            <a:ext cx="2737080" cy="1224000"/>
          </a:xfrm>
          <a:prstGeom prst="rect">
            <a:avLst/>
          </a:prstGeom>
          <a:solidFill>
            <a:srgbClr val="811b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933720"/>
            <a:ext cx="2016360" cy="1079640"/>
          </a:xfrm>
          <a:prstGeom prst="rect">
            <a:avLst/>
          </a:prstGeom>
          <a:solidFill>
            <a:srgbClr val="3995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6880" y="2986200"/>
            <a:ext cx="1368360" cy="936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0048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0424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8267E-007 L 0.62969 0.35357 E">
                                      <p:cBhvr>
                                        <p:cTn id="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6.30213E-007 L 0.30712 0.18397 E">
                                      <p:cBhvr>
                                        <p:cTn id="1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69 0.35357 L 0.30677 0.18536 E">
                                      <p:cBhvr>
                                        <p:cTn id="1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394 L 0.63004 0.00927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77 0.18536 L -0.00035 0.34314 E">
                                      <p:cBhvr>
                                        <p:cTn id="2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0.18397 L 0.62951 0.00927 E">
                                      <p:cBhvr>
                                        <p:cTn id="2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4314 L 0.6309 0.01043 E">
                                      <p:cBhvr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3280" y="1292400"/>
          <a:ext cx="8126280" cy="482724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3280" y="1292400"/>
          <a:ext cx="8126280" cy="482724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.446.744.073.709.551.615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03280" y="1292400"/>
          <a:ext cx="8126280" cy="470988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.446.744.073.709.551.615  </a:t>
                      </a:r>
                      <a:r>
                        <a:rPr b="0" lang="ro-RO" sz="14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care se citeş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8 trilioane, 446 biliarde, 744 bilioane, 73 miliarde,  709 milioane, 551 mii, 61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79640" y="1989000"/>
            <a:ext cx="70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1" lang="ro-RO" sz="2400" spc="-1" strike="noStrike">
                <a:solidFill>
                  <a:srgbClr val="333399"/>
                </a:solidFill>
                <a:latin typeface="Comic Sans MS"/>
              </a:rPr>
              <a:t>acă preoţii ar lucra zi şi noapte, făcând o mutare în fiecare secundă, le-ar lua mai mult de 580 miliarde de ani pentru a termina mutarea turnului format din cele 64 disc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985080" y="44280"/>
            <a:ext cx="2086920" cy="1335960"/>
            <a:chOff x="6985080" y="44280"/>
            <a:chExt cx="2086920" cy="13359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27200" y="84600"/>
              <a:ext cx="198828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446680" y="502560"/>
              <a:ext cx="167400" cy="12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85480" y="502560"/>
              <a:ext cx="167400" cy="12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985080" y="44280"/>
              <a:ext cx="2086920" cy="1335960"/>
              <a:chOff x="6985080" y="44280"/>
              <a:chExt cx="2086920" cy="1335960"/>
            </a:xfrm>
          </p:grpSpPr>
          <p:sp>
            <p:nvSpPr>
              <p:cNvPr id="89" name=""/>
              <p:cNvSpPr/>
              <p:nvPr/>
            </p:nvSpPr>
            <p:spPr>
              <a:xfrm>
                <a:off x="8571600" y="502200"/>
                <a:ext cx="500400" cy="750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85080" y="460080"/>
                <a:ext cx="500400" cy="750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85080" y="1170360"/>
                <a:ext cx="2086920" cy="209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85080" y="44280"/>
                <a:ext cx="2086920" cy="457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393840" y="311040"/>
            <a:ext cx="3673440" cy="814320"/>
          </a:xfrm>
          <a:prstGeom prst="roundRect">
            <a:avLst>
              <a:gd name="adj" fmla="val 50000"/>
            </a:avLst>
          </a:prstGeom>
          <a:solidFill>
            <a:srgbClr val="85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Comic Sans MS"/>
              </a:rPr>
              <a:t>Timpul de luc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46600" y="4113360"/>
            <a:ext cx="530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Pentru 64 discu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18.446.744.073.709.551.615 mută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580.000.000.000 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6:35:37Z</dcterms:created>
  <dc:creator>HP</dc:creator>
  <dc:description/>
  <dc:language>en-US</dc:language>
  <cp:lastModifiedBy>Nik</cp:lastModifiedBy>
  <dcterms:modified xsi:type="dcterms:W3CDTF">2011-11-01T18:36:58Z</dcterms:modified>
  <cp:revision>8</cp:revision>
  <dc:subject/>
  <dc:title>Turnurile din Hanoi</dc:title>
</cp:coreProperties>
</file>