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347E-9C64-4289-BCBE-BE0991C17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AE62-6088-494C-94AC-B99CCE18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80B1-064A-4D2E-83B5-9B56F5650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5BE4-2E20-4931-BFF9-1172C5261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995B-0F86-4375-B215-C0421B1B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A6D1-676E-4B43-9269-3E8AC615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C582-589C-48DC-8B0F-33DEA3A3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D28E-8B87-43EA-BDD3-DE886BBF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3E92-DF22-4112-B1AE-5D4416F2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B722-17B8-4B1F-AAF9-023E972E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DE4F-2789-4C07-B4A7-93A6BDDD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CEB6-7D2F-486B-82ED-FEBDCFCA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79B0-2FAC-4930-8DAC-689FDC811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60000"/>
                </a:solidFill>
                <a:latin typeface="Comic Sans MS"/>
              </a:rPr>
              <a:t>Aplicarea efectelor de anima</a:t>
            </a:r>
            <a:r>
              <a:rPr b="0" lang="ro-RO" sz="4000" spc="-1" strike="noStrike">
                <a:solidFill>
                  <a:srgbClr val="760000"/>
                </a:solidFill>
                <a:latin typeface="Comic Sans MS"/>
              </a:rPr>
              <a:t>ţie în prezentările Power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760000"/>
                </a:solidFill>
                <a:latin typeface="Comic Sans MS"/>
              </a:rPr>
              <a:t>Prof. </a:t>
            </a:r>
            <a:r>
              <a:rPr b="0" lang="en-US" sz="3200" spc="-1" strike="noStrike">
                <a:solidFill>
                  <a:srgbClr val="760000"/>
                </a:solidFill>
                <a:latin typeface="Comic Sans MS"/>
              </a:rPr>
              <a:t>Nicolae Coman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42920" y="2276640"/>
            <a:ext cx="7416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     </a:t>
            </a:r>
            <a:r>
              <a:rPr b="1" lang="en-US" sz="3200" spc="-1" strike="noStrike">
                <a:solidFill>
                  <a:srgbClr val="811b1b"/>
                </a:solidFill>
                <a:latin typeface="Comic Sans MS"/>
              </a:rPr>
              <a:t>Problema turnurilor din Hanoi este o problemă-joc propusă</a:t>
            </a:r>
            <a:r>
              <a:rPr b="1" lang="ro-RO" sz="3200" spc="-1" strike="noStrike">
                <a:solidFill>
                  <a:srgbClr val="811b1b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811b1b"/>
                </a:solidFill>
                <a:latin typeface="Comic Sans MS"/>
              </a:rPr>
              <a:t>de</a:t>
            </a:r>
            <a:r>
              <a:rPr b="0" lang="en-US" sz="3200" spc="-1" strike="noStrike">
                <a:solidFill>
                  <a:srgbClr val="811b1b"/>
                </a:solidFill>
                <a:latin typeface="Comic Sans MS"/>
              </a:rPr>
              <a:t> </a:t>
            </a:r>
            <a:r>
              <a:rPr b="1" lang="ro-RO" sz="3200" spc="-1" strike="noStrike">
                <a:solidFill>
                  <a:srgbClr val="811b1b"/>
                </a:solidFill>
                <a:latin typeface="Comic Sans MS"/>
              </a:rPr>
              <a:t>matematicianul francez</a:t>
            </a:r>
            <a:r>
              <a:rPr b="1" lang="en-US" sz="3200" spc="-1" strike="noStrike">
                <a:solidFill>
                  <a:srgbClr val="811b1b"/>
                </a:solidFill>
                <a:latin typeface="Comic Sans MS"/>
              </a:rPr>
              <a:t> Edouard Lucas, </a:t>
            </a:r>
            <a:r>
              <a:rPr b="1" lang="ro-RO" sz="3200" spc="-1" strike="noStrike">
                <a:solidFill>
                  <a:srgbClr val="811b1b"/>
                </a:solidFill>
                <a:latin typeface="Comic Sans MS"/>
              </a:rPr>
              <a:t>î</a:t>
            </a:r>
            <a:r>
              <a:rPr b="1" lang="en-US" sz="3200" spc="-1" strike="noStrike">
                <a:solidFill>
                  <a:srgbClr val="811b1b"/>
                </a:solidFill>
                <a:latin typeface="Comic Sans MS"/>
              </a:rPr>
              <a:t>n 1883. </a:t>
            </a:r>
            <a:r>
              <a:rPr b="1" lang="ro-RO" sz="3200" spc="-1" strike="noStrike">
                <a:solidFill>
                  <a:srgbClr val="811b1b"/>
                </a:solidFill>
                <a:latin typeface="Comic Sans MS"/>
              </a:rPr>
              <a:t>El s-a inspirat din legenda unui templu hindus . </a:t>
            </a:r>
            <a:r>
              <a:rPr b="1" lang="en-US" sz="3200" spc="-1" strike="noStrike">
                <a:solidFill>
                  <a:srgbClr val="811b1b"/>
                </a:solidFill>
                <a:latin typeface="Comic Sans MS"/>
              </a:rPr>
              <a:t>Algoritmul de rezolvare matematică</a:t>
            </a:r>
            <a:r>
              <a:rPr b="1" lang="ro-RO" sz="3200" spc="-1" strike="noStrike">
                <a:solidFill>
                  <a:srgbClr val="811b1b"/>
                </a:solidFill>
                <a:latin typeface="Comic Sans MS"/>
              </a:rPr>
              <a:t> va fi studiat de voi în clasa a XI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70a07"/>
                </a:solidFill>
                <a:latin typeface="Comic Sans MS"/>
              </a:rPr>
              <a:t>Turnurile din Hano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33360"/>
            <a:ext cx="2557440" cy="814320"/>
          </a:xfrm>
          <a:prstGeom prst="roundRect">
            <a:avLst>
              <a:gd name="adj" fmla="val 50000"/>
            </a:avLst>
          </a:prstGeom>
          <a:solidFill>
            <a:srgbClr val="8d72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cc"/>
                </a:solidFill>
                <a:latin typeface="Comic Sans MS"/>
              </a:rPr>
              <a:t>Le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4005360"/>
            <a:ext cx="8389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00000"/>
                </a:solidFill>
                <a:latin typeface="Comic Sans MS"/>
              </a:rPr>
              <a:t>     </a:t>
            </a:r>
            <a:r>
              <a:rPr b="1" lang="ro-RO" sz="3200" spc="-1" strike="noStrike">
                <a:solidFill>
                  <a:srgbClr val="800000"/>
                </a:solidFill>
                <a:latin typeface="Comic Sans MS"/>
              </a:rPr>
              <a:t>Atunci când lumea a fost creată, preoţilor</a:t>
            </a:r>
            <a:r>
              <a:rPr b="1" lang="en-US" sz="3200" spc="-1" strike="noStrike">
                <a:solidFill>
                  <a:srgbClr val="800000"/>
                </a:solidFill>
                <a:latin typeface="Comic Sans MS"/>
              </a:rPr>
              <a:t> dintr</a:t>
            </a:r>
            <a:r>
              <a:rPr b="1" lang="ro-RO" sz="3200" spc="-1" strike="noStrike">
                <a:solidFill>
                  <a:srgbClr val="800000"/>
                </a:solidFill>
                <a:latin typeface="Comic Sans MS"/>
              </a:rPr>
              <a:t>-un templu din Benares (India) le-au fost dăruite 3 ace de diamant şi 64 discuri de aur.</a:t>
            </a:r>
            <a:r>
              <a:rPr b="1" lang="ro-RO" sz="2400" spc="-1" strike="noStrike">
                <a:solidFill>
                  <a:srgbClr val="8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103640" y="606600"/>
            <a:ext cx="3923640" cy="2857680"/>
            <a:chOff x="4103640" y="606600"/>
            <a:chExt cx="3923640" cy="2857680"/>
          </a:xfrm>
        </p:grpSpPr>
        <p:grpSp>
          <p:nvGrpSpPr>
            <p:cNvPr id="48" name=""/>
            <p:cNvGrpSpPr/>
            <p:nvPr/>
          </p:nvGrpSpPr>
          <p:grpSpPr>
            <a:xfrm>
              <a:off x="4103640" y="606600"/>
              <a:ext cx="3923640" cy="2857680"/>
              <a:chOff x="4103640" y="606600"/>
              <a:chExt cx="3923640" cy="2857680"/>
            </a:xfrm>
          </p:grpSpPr>
          <p:grpSp>
            <p:nvGrpSpPr>
              <p:cNvPr id="49" name=""/>
              <p:cNvGrpSpPr/>
              <p:nvPr/>
            </p:nvGrpSpPr>
            <p:grpSpPr>
              <a:xfrm>
                <a:off x="4103640" y="606600"/>
                <a:ext cx="3923640" cy="2857680"/>
                <a:chOff x="4103640" y="606600"/>
                <a:chExt cx="3923640" cy="2857680"/>
              </a:xfrm>
            </p:grpSpPr>
            <p:pic>
              <p:nvPicPr>
                <p:cNvPr id="5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195440" y="704520"/>
                  <a:ext cx="3686400" cy="265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1" name=""/>
                <p:cNvSpPr/>
                <p:nvPr/>
              </p:nvSpPr>
              <p:spPr>
                <a:xfrm>
                  <a:off x="4103640" y="704520"/>
                  <a:ext cx="290520" cy="275976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7736760" y="655200"/>
                  <a:ext cx="290520" cy="275976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rot="5400000">
                  <a:off x="5943960" y="-1185480"/>
                  <a:ext cx="290160" cy="387468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" name=""/>
              <p:cNvSpPr/>
              <p:nvPr/>
            </p:nvSpPr>
            <p:spPr>
              <a:xfrm>
                <a:off x="4394160" y="898920"/>
                <a:ext cx="3342600" cy="2128320"/>
              </a:xfrm>
              <a:prstGeom prst="rect">
                <a:avLst/>
              </a:prstGeom>
              <a:noFill/>
              <a:ln w="57240">
                <a:solidFill>
                  <a:srgbClr val="8d72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4284720" y="3079800"/>
              <a:ext cx="3490920" cy="3682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7d653f"/>
                  </a:solidFill>
                  <a:latin typeface="Comic Sans MS"/>
                </a:rPr>
                <a:t>Templul Pura Ulu Dana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333360"/>
            <a:ext cx="813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1" lang="ro-RO" sz="2400" spc="-1" strike="noStrike">
                <a:solidFill>
                  <a:srgbClr val="800000"/>
                </a:solidFill>
                <a:latin typeface="Comic Sans MS"/>
              </a:rPr>
              <a:t>Preoţilor li s-a poruncit să depună pe acul din stânga toate discurile, în ordine  descrescătoare a diametrelor, apoi să mute întregul turn astfel format pe acul din dreapta, folosind acul din mijloc ca intermediar,mutând câte un disc odată şi fără a pune un disc mai mare peste un disc mai m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1" lang="ro-RO" sz="2400" spc="-1" strike="noStrike">
                <a:solidFill>
                  <a:srgbClr val="800000"/>
                </a:solidFill>
                <a:latin typeface="Comic Sans MS"/>
              </a:rPr>
              <a:t>În conformitate cu legenda, Dumnezeu le-a zis oamenil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5661000"/>
            <a:ext cx="63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00"/>
                </a:solidFill>
                <a:latin typeface="Comic Sans MS"/>
              </a:rPr>
              <a:t>”</a:t>
            </a:r>
            <a:r>
              <a:rPr b="1" lang="ro-RO" sz="2400" spc="-1" strike="noStrike">
                <a:solidFill>
                  <a:srgbClr val="006600"/>
                </a:solidFill>
                <a:latin typeface="Comic Sans MS"/>
              </a:rPr>
              <a:t>Când veţi termina de mutat turnul, atunci lumea se va sfârşi !”</a:t>
            </a:r>
            <a:r>
              <a:rPr b="1" lang="ro-RO" sz="2400" spc="-1" strike="noStrike">
                <a:solidFill>
                  <a:srgbClr val="8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5013360"/>
            <a:ext cx="3673440" cy="0"/>
          </a:xfrm>
          <a:prstGeom prst="line">
            <a:avLst/>
          </a:prstGeom>
          <a:ln w="76320">
            <a:solidFill>
              <a:srgbClr val="811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27280" y="3716280"/>
            <a:ext cx="0" cy="1297080"/>
          </a:xfrm>
          <a:prstGeom prst="line">
            <a:avLst/>
          </a:prstGeom>
          <a:ln w="57240">
            <a:solidFill>
              <a:srgbClr val="811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3716280"/>
            <a:ext cx="0" cy="1297080"/>
          </a:xfrm>
          <a:prstGeom prst="line">
            <a:avLst/>
          </a:prstGeom>
          <a:ln w="57240">
            <a:solidFill>
              <a:srgbClr val="811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00720" y="3716280"/>
            <a:ext cx="0" cy="1297080"/>
          </a:xfrm>
          <a:prstGeom prst="line">
            <a:avLst/>
          </a:prstGeom>
          <a:ln w="57240">
            <a:solidFill>
              <a:srgbClr val="811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440" y="4819680"/>
            <a:ext cx="1655640" cy="144360"/>
          </a:xfrm>
          <a:prstGeom prst="roundRect">
            <a:avLst>
              <a:gd name="adj" fmla="val 16667"/>
            </a:avLst>
          </a:prstGeom>
          <a:solidFill>
            <a:srgbClr val="f408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52640" y="4664160"/>
            <a:ext cx="1335240" cy="144360"/>
          </a:xfrm>
          <a:prstGeom prst="roundRect">
            <a:avLst>
              <a:gd name="adj" fmla="val 16667"/>
            </a:avLst>
          </a:prstGeom>
          <a:solidFill>
            <a:srgbClr val="3328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84400" y="4508640"/>
            <a:ext cx="1052640" cy="150840"/>
          </a:xfrm>
          <a:prstGeom prst="roundRect">
            <a:avLst>
              <a:gd name="adj" fmla="val 16667"/>
            </a:avLst>
          </a:prstGeom>
          <a:solidFill>
            <a:srgbClr val="3eb73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2240" y="4354560"/>
            <a:ext cx="731880" cy="154080"/>
          </a:xfrm>
          <a:prstGeom prst="roundRect">
            <a:avLst>
              <a:gd name="adj" fmla="val 16667"/>
            </a:avLst>
          </a:prstGeom>
          <a:solidFill>
            <a:srgbClr val="f7c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73480" y="4199040"/>
            <a:ext cx="509400" cy="144360"/>
          </a:xfrm>
          <a:prstGeom prst="roundRect">
            <a:avLst>
              <a:gd name="adj" fmla="val 16667"/>
            </a:avLst>
          </a:prstGeom>
          <a:solidFill>
            <a:srgbClr val="8c7e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308720" y="2060640"/>
            <a:ext cx="0" cy="4176720"/>
          </a:xfrm>
          <a:prstGeom prst="line">
            <a:avLst/>
          </a:prstGeom>
          <a:ln w="38160">
            <a:solidFill>
              <a:srgbClr val="870a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70a07"/>
                </a:solidFill>
                <a:latin typeface="Comic Sans MS"/>
              </a:rPr>
              <a:t>Turnurile din Hano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47640" y="2060640"/>
            <a:ext cx="0" cy="4176720"/>
          </a:xfrm>
          <a:prstGeom prst="line">
            <a:avLst/>
          </a:prstGeom>
          <a:ln w="38160">
            <a:solidFill>
              <a:srgbClr val="870a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5013360"/>
            <a:ext cx="2737080" cy="1224000"/>
          </a:xfrm>
          <a:prstGeom prst="rect">
            <a:avLst/>
          </a:prstGeom>
          <a:solidFill>
            <a:srgbClr val="811b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56000" y="2060640"/>
            <a:ext cx="0" cy="4176720"/>
          </a:xfrm>
          <a:prstGeom prst="line">
            <a:avLst/>
          </a:prstGeom>
          <a:ln w="38160">
            <a:solidFill>
              <a:srgbClr val="870a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3933720"/>
            <a:ext cx="2016360" cy="1079640"/>
          </a:xfrm>
          <a:prstGeom prst="rect">
            <a:avLst/>
          </a:prstGeom>
          <a:solidFill>
            <a:srgbClr val="3995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66880" y="2986200"/>
            <a:ext cx="1368360" cy="936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68360" y="170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00480" y="170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04240" y="170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5.28267E-007 L 0.62969 0.35357 E">
                                      <p:cBhvr>
                                        <p:cTn id="6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6.30213E-007 L 0.30712 0.18397 E">
                                      <p:cBhvr>
                                        <p:cTn id="1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2969 0.35357 L 0.30677 0.18536 E">
                                      <p:cBhvr>
                                        <p:cTn id="14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0.00394 L 0.63004 0.00927 E">
                                      <p:cBhvr>
                                        <p:cTn id="18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677 0.18536 L -0.00035 0.34314 E">
                                      <p:cBhvr>
                                        <p:cTn id="22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712 0.18397 L 0.62951 0.00927 E">
                                      <p:cBhvr>
                                        <p:cTn id="26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0.34314 L 0.6309 0.01043 E">
                                      <p:cBhvr>
                                        <p:cTn id="30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03280" y="1292400"/>
          <a:ext cx="8126280" cy="4827240"/>
        </p:xfrm>
        <a:graphic>
          <a:graphicData uri="http://schemas.openxmlformats.org/drawingml/2006/table">
            <a:tbl>
              <a:tblPr/>
              <a:tblGrid>
                <a:gridCol w="1476360"/>
                <a:gridCol w="66499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Număr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uri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9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Numărul minim de mută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986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2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- 1 = 4 -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3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- 1 = 8 -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4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16 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5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32 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6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64 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7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128 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64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539640" y="619920"/>
            <a:ext cx="80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800000"/>
                </a:solidFill>
                <a:latin typeface="Comic Sans MS"/>
              </a:rPr>
              <a:t>Tabelul următor conţine numărul minim de mutări neces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03280" y="1292400"/>
          <a:ext cx="8126280" cy="4827240"/>
        </p:xfrm>
        <a:graphic>
          <a:graphicData uri="http://schemas.openxmlformats.org/drawingml/2006/table">
            <a:tbl>
              <a:tblPr/>
              <a:tblGrid>
                <a:gridCol w="1476360"/>
                <a:gridCol w="66499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Număr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uri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9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Numărul minim de mută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986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2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- 1 = 4 -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3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- 1 = 8 -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4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16 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5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32 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6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64 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7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128 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64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8.446.744.073.709.551.615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539640" y="619920"/>
            <a:ext cx="80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800000"/>
                </a:solidFill>
                <a:latin typeface="Comic Sans MS"/>
              </a:rPr>
              <a:t>Tabelul următor conţine numărul minim de mutări neces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503280" y="1292400"/>
          <a:ext cx="8126280" cy="4709880"/>
        </p:xfrm>
        <a:graphic>
          <a:graphicData uri="http://schemas.openxmlformats.org/drawingml/2006/table">
            <a:tbl>
              <a:tblPr/>
              <a:tblGrid>
                <a:gridCol w="1476360"/>
                <a:gridCol w="66499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Număr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uri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9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Numărul minim de mută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986a"/>
                    </a:solidFill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2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- 1 = 4 -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3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- 1 = 8 -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4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16 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5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32 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6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64 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7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128 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1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3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64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8.446.744.073.709.551.615  </a:t>
                      </a:r>
                      <a:r>
                        <a:rPr b="0" lang="ro-RO" sz="14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care se citeş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18 trilioane, 446 biliarde, 744 bilioane, 73 miliarde,  709 milioane, 551 mii, 615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539640" y="619920"/>
            <a:ext cx="80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800000"/>
                </a:solidFill>
                <a:latin typeface="Comic Sans MS"/>
              </a:rPr>
              <a:t>Tabelul următor conţine numărul minim de mutări neces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79640" y="1989000"/>
            <a:ext cx="70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20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</a:t>
            </a:r>
            <a:r>
              <a:rPr b="1" lang="ro-RO" sz="2400" spc="-1" strike="noStrike">
                <a:solidFill>
                  <a:srgbClr val="333399"/>
                </a:solidFill>
                <a:latin typeface="Comic Sans MS"/>
              </a:rPr>
              <a:t>acă preoţii ar lucra zi şi noapte, făcând o mutare în fiecare secundă, le-ar lua mai mult de 580 miliarde de ani pentru a termina mutarea turnului format din cele 64 discu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6985080" y="44280"/>
            <a:ext cx="2086920" cy="1335960"/>
            <a:chOff x="6985080" y="44280"/>
            <a:chExt cx="2086920" cy="133596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27200" y="84600"/>
              <a:ext cx="1988280" cy="12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8446680" y="502560"/>
              <a:ext cx="167400" cy="12492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85480" y="502560"/>
              <a:ext cx="167400" cy="12492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6985080" y="44280"/>
              <a:ext cx="2086920" cy="1335960"/>
              <a:chOff x="6985080" y="44280"/>
              <a:chExt cx="2086920" cy="1335960"/>
            </a:xfrm>
          </p:grpSpPr>
          <p:sp>
            <p:nvSpPr>
              <p:cNvPr id="89" name=""/>
              <p:cNvSpPr/>
              <p:nvPr/>
            </p:nvSpPr>
            <p:spPr>
              <a:xfrm>
                <a:off x="8571600" y="502200"/>
                <a:ext cx="500400" cy="7506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985080" y="460080"/>
                <a:ext cx="500400" cy="7506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985080" y="1170360"/>
                <a:ext cx="2086920" cy="209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985080" y="44280"/>
                <a:ext cx="2086920" cy="4579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" name=""/>
          <p:cNvSpPr/>
          <p:nvPr/>
        </p:nvSpPr>
        <p:spPr>
          <a:xfrm>
            <a:off x="393840" y="311040"/>
            <a:ext cx="3673440" cy="814320"/>
          </a:xfrm>
          <a:prstGeom prst="roundRect">
            <a:avLst>
              <a:gd name="adj" fmla="val 50000"/>
            </a:avLst>
          </a:prstGeom>
          <a:solidFill>
            <a:srgbClr val="858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Comic Sans MS"/>
              </a:rPr>
              <a:t>Timpul de luc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46600" y="4113360"/>
            <a:ext cx="5302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Comic Sans MS"/>
              </a:rPr>
              <a:t>Pentru 64 discu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Comic Sans MS"/>
              </a:rPr>
              <a:t>18.446.744.073.709.551.615 mută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Comic Sans MS"/>
              </a:rPr>
              <a:t>580.000.000.000 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6:35:37Z</dcterms:created>
  <dc:creator>HP</dc:creator>
  <dc:description/>
  <dc:language>en-US</dc:language>
  <cp:lastModifiedBy>Nik</cp:lastModifiedBy>
  <dcterms:modified xsi:type="dcterms:W3CDTF">2011-11-01T18:36:58Z</dcterms:modified>
  <cp:revision>8</cp:revision>
  <dc:subject/>
  <dc:title>Turnurile din Hanoi</dc:title>
</cp:coreProperties>
</file>