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2.jpeg" ContentType="image/jpeg"/>
  <Override PartName="/ppt/media/image15.jpeg" ContentType="image/jpeg"/>
  <Override PartName="/ppt/media/image14.jpeg" ContentType="image/jpeg"/>
  <Override PartName="/ppt/media/image13.jpeg" ContentType="image/jpeg"/>
  <Override PartName="/ppt/media/image8.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torndo..wav" ContentType="audio/x-wav"/>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33A6E-6D3A-42B3-B9C8-E218002BD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C0AC-0F0C-4B61-A45D-BCB20C89A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0FDE-E6C5-429F-9D72-E38CACE78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60A76-D817-4D35-B5A1-C34F6CB24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841DCF-E21B-4B47-B29E-8AE94E650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2CDD3-39BF-4C41-A521-6FDC1DCAC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FF68F-508D-468C-BD6B-2EAA85548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F43EA-3751-4151-87BE-85F6EE404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E8D75-AB1E-4CE4-8A96-C7635F558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2445C-7A71-4FA6-B72F-D18B036AA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D592-AAA1-4CA3-890C-1F569C435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DF325-2725-4525-BAAE-1F69A4767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06C5-ACA8-4AAD-9D4F-EFE1E39AD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B09B6-0F13-468C-9FAE-829FC8DF9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5BFD0-5ADE-472B-95D6-E16600921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42612-6F61-4674-B2F0-447FB5977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CA4F5-224D-4028-93D8-FBE19E5A0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A85E1-3F50-4158-ADFE-3EC8CD37B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038E2-26FD-45B2-A7DE-ADA795DE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8EBD-E763-4A5C-9A2E-417492F3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B195E-BC39-4719-9145-9FF970F3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90A5-D641-45DC-8E1F-4724D395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128A9-FA22-4E76-8CA2-43531848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0B854-55B8-4927-B158-240E40B8C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038C-24D0-4D60-895E-D4ED97F521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4C1F-BBE6-49B8-AC35-F7B086060AF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dixiedining.files.wordpress.com/2008/07/waterspout_noaa.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1.bp.blogspot.com/_QQmvCN-pR0M/SGS4vmiwdjI/AAAAAAAABQE/B-fFrjiscnI/s1600-h/TORNADA+2.jpg"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listverse.files.wordpress.com/2007/10/grady-tornado-330314.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torndo..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nationalgeographic.com/" TargetMode="External"/><Relationship Id="rId2" Type="http://schemas.openxmlformats.org/officeDocument/2006/relationships/hyperlink" Target="http://www.discovery.com/" TargetMode="External"/><Relationship Id="rId3" Type="http://schemas.openxmlformats.org/officeDocument/2006/relationships/hyperlink" Target="http://www.tornadossafari.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276720" y="3049560"/>
            <a:ext cx="3821040" cy="236232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
          <p:cNvPicPr/>
          <p:nvPr/>
        </p:nvPicPr>
        <p:blipFill>
          <a:blip r:embed="rId1"/>
          <a:stretch/>
        </p:blipFill>
        <p:spPr>
          <a:xfrm>
            <a:off x="0" y="0"/>
            <a:ext cx="9144000" cy="6858000"/>
          </a:xfrm>
          <a:prstGeom prst="rect">
            <a:avLst/>
          </a:prstGeom>
          <a:ln w="0">
            <a:noFill/>
          </a:ln>
        </p:spPr>
      </p:pic>
      <p:sp>
        <p:nvSpPr>
          <p:cNvPr id="151" name="PlaceHolder 2"/>
          <p:cNvSpPr>
            <a:spLocks noGrp="1"/>
          </p:cNvSpPr>
          <p:nvPr>
            <p:ph type="title"/>
          </p:nvPr>
        </p:nvSpPr>
        <p:spPr>
          <a:xfrm>
            <a:off x="990720" y="380880"/>
            <a:ext cx="6781680" cy="419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RNADELE</a:t>
            </a:r>
            <a:br>
              <a:rPr sz="4400"/>
            </a:br>
            <a:br>
              <a:rPr sz="4400"/>
            </a:br>
            <a:br>
              <a:rPr sz="4400"/>
            </a:br>
            <a:r>
              <a:rPr b="1" lang="en-US" sz="4400" spc="-1" strike="noStrike">
                <a:solidFill>
                  <a:srgbClr val="ffff00"/>
                </a:solidFill>
                <a:latin typeface="Arial"/>
              </a:rPr>
              <a:t> </a:t>
            </a:r>
            <a:br>
              <a:rPr sz="4400"/>
            </a:br>
            <a:r>
              <a:rPr b="1" lang="en-US" sz="4400" spc="-1" strike="noStrike">
                <a:solidFill>
                  <a:srgbClr val="ffff00"/>
                </a:solidFill>
                <a:latin typeface="Arial"/>
              </a:rPr>
              <a:t>              </a:t>
            </a:r>
            <a:r>
              <a:rPr b="1" lang="en-US" sz="3600" spc="-1" strike="noStrike">
                <a:solidFill>
                  <a:srgbClr val="ffff00"/>
                </a:solidFill>
                <a:latin typeface="Arial"/>
              </a:rPr>
              <a:t>de BOLFEA IULIAN</a:t>
            </a:r>
            <a:endParaRPr b="1" lang="en-US" sz="36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4" name="" descr="">
            <a:hlinkClick r:id="rId1"/>
          </p:cNvPr>
          <p:cNvPicPr/>
          <p:nvPr/>
        </p:nvPicPr>
        <p:blipFill>
          <a:blip r:embed="rId2"/>
          <a:stretch/>
        </p:blipFill>
        <p:spPr>
          <a:xfrm>
            <a:off x="0" y="0"/>
            <a:ext cx="9144000" cy="6858000"/>
          </a:xfrm>
          <a:prstGeom prst="rect">
            <a:avLst/>
          </a:prstGeom>
          <a:ln w="0">
            <a:noFill/>
          </a:ln>
        </p:spPr>
      </p:pic>
      <p:sp>
        <p:nvSpPr>
          <p:cNvPr id="165" name=""/>
          <p:cNvSpPr/>
          <p:nvPr/>
        </p:nvSpPr>
        <p:spPr>
          <a:xfrm>
            <a:off x="84240" y="307800"/>
            <a:ext cx="4638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Arial"/>
              </a:rPr>
              <a:t>"trombe de apa"(water spou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66" name="" descr="Waterspouts erupting over ocean"/>
          <p:cNvPicPr/>
          <p:nvPr/>
        </p:nvPicPr>
        <p:blipFill>
          <a:blip r:embed="rId1"/>
          <a:stretch/>
        </p:blipFill>
        <p:spPr>
          <a:xfrm>
            <a:off x="0" y="0"/>
            <a:ext cx="9144000" cy="6858000"/>
          </a:xfrm>
          <a:prstGeom prst="rect">
            <a:avLst/>
          </a:prstGeom>
          <a:ln w="0">
            <a:noFill/>
          </a:ln>
        </p:spPr>
      </p:pic>
      <p:sp>
        <p:nvSpPr>
          <p:cNvPr id="167" name=""/>
          <p:cNvSpPr/>
          <p:nvPr/>
        </p:nvSpPr>
        <p:spPr>
          <a:xfrm>
            <a:off x="230040" y="304920"/>
            <a:ext cx="352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00"/>
                </a:solidFill>
                <a:latin typeface="Arial"/>
              </a:rPr>
              <a:t>"trombe de apa"(water spo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533160"/>
            <a:ext cx="609588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4. UNDE APAR TORNADE?</a:t>
            </a:r>
            <a:endParaRPr b="1" lang="en-US" sz="35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retutindeni în lume şi sunt foarte des întâlnite în America de Nord, Europa, Asia de est şi Australia, Africa de Sud.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SUA, în fiecare an, au loc circa 800 de tornade. </a:t>
            </a:r>
            <a:endParaRPr b="0" lang="en-US" sz="2400" spc="-1" strike="noStrike">
              <a:solidFill>
                <a:srgbClr val="000000"/>
              </a:solidFill>
              <a:latin typeface="Arial"/>
            </a:endParaRPr>
          </a:p>
        </p:txBody>
      </p:sp>
      <p:pic>
        <p:nvPicPr>
          <p:cNvPr id="170" name="" descr="">
            <a:hlinkClick r:id="rId1"/>
          </p:cNvPr>
          <p:cNvPicPr/>
          <p:nvPr/>
        </p:nvPicPr>
        <p:blipFill>
          <a:blip r:embed="rId2"/>
          <a:stretch/>
        </p:blipFill>
        <p:spPr>
          <a:xfrm>
            <a:off x="2362320" y="3962520"/>
            <a:ext cx="3809880" cy="244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1760"/>
            <a:ext cx="4114800" cy="65556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500" spc="-1" strike="noStrike">
                <a:solidFill>
                  <a:srgbClr val="0033cc"/>
                </a:solidFill>
                <a:latin typeface="Arial"/>
              </a:rPr>
              <a:t>Aleea tornadelor</a:t>
            </a:r>
            <a:endParaRPr b="1" lang="en-US" sz="35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uternice şi mai violente tornade au loc la începutul primăverii în centrul SUA; dintre acestea, cele mai puternice se concentrează în zona numita "Tornado Alley"(aleea tornadelor), care cuprinde porţiuni mari din statele Texas, Oklahoma, Kansas şi Iowa.</a:t>
            </a:r>
            <a:br>
              <a:rPr sz="2400"/>
            </a:br>
            <a:r>
              <a:rPr b="0" lang="ro-RO"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ste tornade reprezintă o treime din tornadele care au loc în SU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desfăşoară mai ales după-amiaza sau spre seară, dar au apărut tornade şi în timpul nopţi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73" name="" descr="US map showing Tornado Alley, which encompasses parts of TX, OK, KS, CO, NE, IA, SD, MN"/>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143000"/>
            <a:ext cx="3200400" cy="384336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Din Europa, Olanda este ţara unde au loc cele mai multe tornad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Arial"/>
              </a:rPr>
              <a:t>Cea mai devastatoare tornadă din Europa a avut loc în Franţa. </a:t>
            </a:r>
            <a:endParaRPr b="0" lang="en-US" sz="2600" spc="-1" strike="noStrike">
              <a:solidFill>
                <a:srgbClr val="000000"/>
              </a:solidFill>
              <a:latin typeface="Arial"/>
            </a:endParaRPr>
          </a:p>
        </p:txBody>
      </p:sp>
      <p:pic>
        <p:nvPicPr>
          <p:cNvPr id="175" name="" descr="Grady Tornado 330314">
            <a:hlinkClick r:id="rId1"/>
          </p:cNvPr>
          <p:cNvPicPr/>
          <p:nvPr/>
        </p:nvPicPr>
        <p:blipFill>
          <a:blip r:embed="rId2"/>
          <a:stretch/>
        </p:blipFill>
        <p:spPr>
          <a:xfrm>
            <a:off x="4114800" y="1295280"/>
            <a:ext cx="373392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380880"/>
            <a:ext cx="3581280" cy="574992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exasul este statul american care suferă cel mai mult de pe urma tornadelo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Uneori, când o tornadă se formează într-o regiune fierbinte şi uscată, se absoarbe mult praf şi nisip, fiind denumită “diavol de praf”.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este tornade pline de praf par să-şi obţină energia din căldura pământului şi se pot ridica până la 300 m în aer. </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stfel de tornade sunt obişnuite în zonele deşertice din SUA, Australia, India, Africa, incluzând şi deşertul Sahara. </a:t>
            </a:r>
            <a:endParaRPr b="0" lang="en-US" sz="2000" spc="-1" strike="noStrike">
              <a:solidFill>
                <a:srgbClr val="000000"/>
              </a:solidFill>
              <a:latin typeface="Arial"/>
            </a:endParaRPr>
          </a:p>
        </p:txBody>
      </p:sp>
      <p:pic>
        <p:nvPicPr>
          <p:cNvPr id="177" name="" descr=""/>
          <p:cNvPicPr/>
          <p:nvPr/>
        </p:nvPicPr>
        <p:blipFill>
          <a:blip r:embed="rId1"/>
          <a:stretch/>
        </p:blipFill>
        <p:spPr>
          <a:xfrm>
            <a:off x="4114800" y="1981080"/>
            <a:ext cx="4572000" cy="3657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audio isNarration="0">
                                      <p:cMediaNode showWhenStopped="1">
                                        <p:cTn/>
                                        <p:tgtEl>
                                          <p:sndTgt r:embed="rId2" name="torndo..wav"/>
                                        </p:tgtEl>
                                      </p:cMediaNode>
                                    </p:audio>
                                    <p:set>
                                      <p:cBhvr>
                                        <p:cTn id="6" dur="1" fill="hold">
                                          <p:stCondLst>
                                            <p:cond delay="0"/>
                                          </p:stCondLst>
                                        </p:cTn>
                                        <p:tgtEl>
                                          <p:spTgt spid="177"/>
                                        </p:tgtEl>
                                        <p:attrNameLst>
                                          <p:attrName>style.visibility</p:attrName>
                                        </p:attrNameLst>
                                      </p:cBhvr>
                                      <p:to>
                                        <p:strVal val="visible"/>
                                      </p:to>
                                    </p:set>
                                    <p:anim calcmode="lin" valueType="num">
                                      <p:cBhvr additive="base">
                                        <p:cTn id="7" dur="500" fill="hold"/>
                                        <p:tgtEl>
                                          <p:spTgt spid="177"/>
                                        </p:tgtEl>
                                        <p:attrNameLst>
                                          <p:attrName>ppt_x</p:attrName>
                                        </p:attrNameLst>
                                      </p:cBhvr>
                                      <p:tavLst>
                                        <p:tav tm="0">
                                          <p:val>
                                            <p:strVal val="0-#ppt_w/2"/>
                                          </p:val>
                                        </p:tav>
                                        <p:tav tm="100000">
                                          <p:val>
                                            <p:strVal val="#ppt_x"/>
                                          </p:val>
                                        </p:tav>
                                      </p:tavLst>
                                    </p:anim>
                                    <p:anim calcmode="lin" valueType="num">
                                      <p:cBhvr additive="base">
                                        <p:cTn id="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apar pe neaşteptate şi sunt de scurtă durată, motiv pentru care avem puţine informaţii despre el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se află în centrul multor povestiri, sunt menţionate de-a lungul istoriei.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rile, tornadele, trâmbele de apă s-ar putea afla la baza a multe mistere din istori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 mai celebru vârtej îl întâlnim în “Vrăjitorul din Oz” roman pe care Frank Baum l-a publicat în anul 19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533520"/>
            <a:ext cx="5790960" cy="8841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30066"/>
                </a:solidFill>
                <a:latin typeface="Arial"/>
              </a:rPr>
              <a:t>5. ROMÂNI, OBIŞNUIŢI-VĂ CU TORNADELE!</a:t>
            </a:r>
            <a:endParaRPr b="1" lang="en-US" sz="28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 se înregistrează şi în România. Specialiştii ne anunţă că este posibil ca în viitor să ne confruntăm cu tornade mult mai violen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România, au loc anual câte 15-20 de tornade. De obicei, durează circa 2 minu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rima tornadă a avut loc în România în perioada 1894-1896.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le mai propice zone pentru formarea tornadelor din România sunt Dobrogea şi Bărăgan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04920" y="304560"/>
            <a:ext cx="7238880" cy="1252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ea mai devastatoare tornadă de până acum din România a fost cea din 12 august 2002 din localitatea ialomiţeană Făcăieni. </a:t>
            </a:r>
            <a:endParaRPr b="0" lang="en-US" sz="2400" spc="-1" strike="noStrike">
              <a:solidFill>
                <a:srgbClr val="000000"/>
              </a:solidFill>
              <a:latin typeface="Arial"/>
            </a:endParaRPr>
          </a:p>
        </p:txBody>
      </p:sp>
      <p:pic>
        <p:nvPicPr>
          <p:cNvPr id="182" name="" descr="tornada"/>
          <p:cNvPicPr/>
          <p:nvPr/>
        </p:nvPicPr>
        <p:blipFill>
          <a:blip r:embed="rId1"/>
          <a:stretch/>
        </p:blipFill>
        <p:spPr>
          <a:xfrm>
            <a:off x="990720" y="2000160"/>
            <a:ext cx="70102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2" name="" descr="The Wyoming Sideways Tornad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9360">
            <a:solidFill>
              <a:srgbClr val="cccc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900" spc="-1" strike="noStrike">
                <a:solidFill>
                  <a:srgbClr val="330066"/>
                </a:solidFill>
                <a:latin typeface="Arial"/>
              </a:rPr>
              <a:t>Bibliografie: </a:t>
            </a: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1"/>
              </a:rPr>
              <a:t>www.nationalgeographic.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Image.google.ro</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2"/>
              </a:rPr>
              <a:t>www.discovery.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7e9ce8"/>
                </a:solidFill>
                <a:uFillTx/>
                <a:latin typeface="Arial"/>
                <a:hlinkClick r:id="rId3"/>
              </a:rPr>
              <a:t>www.tornadossafari.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www.cyclonejim.co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Neil Morris, Uragane şi tornade, Ed. Arc, 20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6324840" cy="65556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33cc"/>
                </a:solidFill>
                <a:latin typeface="Arial"/>
              </a:rPr>
              <a:t>1. CE ESTE TORNADA</a:t>
            </a:r>
            <a:r>
              <a:rPr b="1" lang="ro-RO" sz="3500" spc="-1" strike="noStrike">
                <a:solidFill>
                  <a:srgbClr val="0033cc"/>
                </a:solidFill>
                <a:latin typeface="Arial"/>
              </a:rPr>
              <a:t>?</a:t>
            </a:r>
            <a:endParaRPr b="1" lang="en-US" sz="3500" spc="-1" strike="noStrike">
              <a:solidFill>
                <a:srgbClr val="330066"/>
              </a:solidFill>
              <a:latin typeface="Arial"/>
            </a:endParaRPr>
          </a:p>
        </p:txBody>
      </p:sp>
      <p:sp>
        <p:nvSpPr>
          <p:cNvPr id="15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este o furtună violentă, mai mică decât un uragan, dar cu vânturi mai puternice, sub forma unui vârtej.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pecific unei tornade coboară dinspre un nor negru de furtună până la suprafaţa pământului, având aspectul unui coş care se roteşte.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ele tornade durează doar câteva secunde, altele pot dura mai mult de o oră.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şul unei tornade mici are diametru de 3 m; o tornadă mare poate avea coşul de 300 m.</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Majoritatea tornadelor se deplasează cu 35-65 km/h şi pot provoca distrugeri pe o suprafaţă de 1-100 k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7200"/>
            <a:ext cx="7238880" cy="5796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33cc"/>
                </a:solidFill>
                <a:latin typeface="Arial"/>
              </a:rPr>
              <a:t>2. CLASIFICAREA TORNADELOR</a:t>
            </a:r>
            <a:endParaRPr b="1" lang="en-US" sz="3200" spc="-1" strike="noStrike">
              <a:solidFill>
                <a:srgbClr val="330066"/>
              </a:solidFill>
              <a:latin typeface="Arial"/>
            </a:endParaRPr>
          </a:p>
        </p:txBody>
      </p:sp>
      <p:sp>
        <p:nvSpPr>
          <p:cNvPr id="15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Tornadele se clasifică în funcţie de viteză şi distrugeri, conform scarei Fujita, numită după numele lui I. Theodore Fujita, profesor de geofizică la Univ. din Chicago. Scara are o gradaţie de la 0 la 5:</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0( viteza vântului este mai mică de 116 km/h iar distrugerile sunt uş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1 (viteza vântului este cuprinsă între 117-180 km/h iar distrugerile provocate sunt moder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2 ( viteza vântului este cuprinsă între 181-253 km/hiar distrugerile provocate sunt considerabi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3 (viteza vântului este cuprinsă între 254-332 km/h iar distrugerile provocate sunt seve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4 (viteza vântului este cuprinsă între 333-419 km/h iar distrugerile provocate sunt devastato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F-5 (viteza vântului este mai mare de 420 km/h iar distrugerile provocate sunt incredib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pic>
        <p:nvPicPr>
          <p:cNvPr id="157" name="" descr="Si tornadele sunt rezultatul poluarii"/>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85800"/>
            <a:ext cx="6477120" cy="579600"/>
          </a:xfrm>
          <a:prstGeom prst="rect">
            <a:avLst/>
          </a:prstGeom>
          <a:solidFill>
            <a:srgbClr val="ffffff"/>
          </a:solidFill>
          <a:ln w="9360">
            <a:solidFill>
              <a:srgbClr val="0000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33cc"/>
                </a:solidFill>
                <a:latin typeface="Arial"/>
              </a:rPr>
              <a:t>3. STRUCTURA UNEI TORNADE</a:t>
            </a:r>
            <a:endParaRPr b="1" lang="en-US" sz="28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formează de-a lungul unor fronturi atmosferice, unde aerul cald şi umed întâlneşte alt aer, rece şi usc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e formează un nor de furtună, aerul cald se ridică şi, pe măsură ce tot mai mult aer cald înaintează pentru a-l înlocui, aerul începe să se rotească.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Această spirală formează o tornadă care, în emisfera nordică, se deplasează, în general, împotriva acelor de ceasornic.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a şi norul de furtună se deplasează pe orizontală din cauza vânturilor care suflă la nivelurile superioare ale atmosfere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920"/>
            <a:ext cx="7696080" cy="1218960"/>
          </a:xfrm>
          <a:prstGeom prst="rect">
            <a:avLst/>
          </a:prstGeom>
          <a:noFill/>
          <a:ln w="0">
            <a:noFill/>
          </a:ln>
        </p:spPr>
        <p:txBody>
          <a:bodyPr lIns="90000" rIns="90000" tIns="46800" bIns="46800"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Formarea tornadelor reprezintă încă un mister pentru cercetători, dar un nou studiu sugerează că poluarea atmosferei ar putea determina naşterea tornadelor. </a:t>
            </a:r>
            <a:endParaRPr b="0" lang="en-US" sz="2000" spc="-1" strike="noStrike">
              <a:solidFill>
                <a:srgbClr val="000000"/>
              </a:solidFill>
              <a:latin typeface="Arial"/>
            </a:endParaRPr>
          </a:p>
        </p:txBody>
      </p:sp>
      <p:pic>
        <p:nvPicPr>
          <p:cNvPr id="161" name="" descr=""/>
          <p:cNvPicPr/>
          <p:nvPr/>
        </p:nvPicPr>
        <p:blipFill>
          <a:blip r:embed="rId1"/>
          <a:stretch/>
        </p:blipFill>
        <p:spPr>
          <a:xfrm>
            <a:off x="533520" y="1905120"/>
            <a:ext cx="800100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2" name=""/>
          <p:cNvSpPr/>
          <p:nvPr/>
        </p:nvSpPr>
        <p:spPr>
          <a:xfrm>
            <a:off x="685800" y="1204560"/>
            <a:ext cx="7391520" cy="484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ârtejul se roteşte în spirale din ce în ce mai strânse, mărindu-şi viteza şi înalţându-se spre nori. Apoi tornada coboară din nori şi atinge pamântul cu o mare violenţă. </a:t>
            </a:r>
            <a:br>
              <a:rPr sz="2400"/>
            </a:br>
            <a:br>
              <a:rPr sz="2400"/>
            </a:br>
            <a:r>
              <a:rPr b="0" lang="ro-RO" sz="2400" spc="-1" strike="noStrike">
                <a:solidFill>
                  <a:srgbClr val="000000"/>
                </a:solidFill>
                <a:latin typeface="Arial"/>
              </a:rPr>
              <a:t>Vânturile distrug aprope tot ce le stă în cale. Ridică în aer, până la mari înălţimi, o dată cu praful, care face tornada vizibilă, şi maşini, trenuri, acoperişuri şi oameni. Le "aspiră" în vârtej şi le transformă în proiectile mortale atunci când le aruncă înapoi. Drumul tornadei poate fi detectat după distrugerile pe care le lasă în urma e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ffccff"/>
            </a:gs>
            <a:gs pos="100000">
              <a:srgbClr val="dddddd"/>
            </a:gs>
          </a:gsLst>
          <a:lin ang="8100000"/>
        </a:gradFill>
      </p:bgPr>
    </p:bg>
    <p:spTree>
      <p:nvGrpSpPr>
        <p:cNvPr id="1" name=""/>
        <p:cNvGrpSpPr/>
        <p:nvPr/>
      </p:nvGrpSpPr>
      <p:grpSpPr>
        <a:xfrm>
          <a:off x="0" y="0"/>
          <a:ext cx="0" cy="0"/>
          <a:chOff x="0" y="0"/>
          <a:chExt cx="0" cy="0"/>
        </a:xfrm>
      </p:grpSpPr>
      <p:sp>
        <p:nvSpPr>
          <p:cNvPr id="163" name=""/>
          <p:cNvSpPr/>
          <p:nvPr/>
        </p:nvSpPr>
        <p:spPr>
          <a:xfrm>
            <a:off x="457200" y="1006920"/>
            <a:ext cx="781668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Tornadele se învârtesc în sensul acelor de ceas în emisfera sudică şi în sens invers în emisfera nordică, dar există şi unele care nu se supun acestei regul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apele tropicale se produc tornade, care "merg" pe apa, numite "trombe de apă"(water spouts). Deşi sunt incluse în categoria tornadelor "slabe" ca putere, aceste coloane foarte mari de apă, cu diametrul de pâna la 30 m, puse în mişcare de puternice valuri turbinoase, reprezintă un mare pericol pentru ambarcaţiunilor apărute în calea l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ev-9</cp:lastModifiedBy>
  <dcterms:modified xsi:type="dcterms:W3CDTF">2012-05-18T06:52:59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