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707-83C5-4F22-8246-EECEF94A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33B-419E-4EC2-AEDA-073E7E57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28D-E38F-4FDF-BEED-5D2E8281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F4E-CE8D-44F8-A81D-AF89BF47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6232-2384-4AB0-9FBA-ABC1E346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0A1B-FBBF-4977-8B8E-9C0AA391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F442-7911-45DC-900F-8572B41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B32-7C25-45B6-86F7-55052DAE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A364-E274-4F1D-9E4D-8D233F19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4A21-A36E-4A42-A8FD-55DDF6E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D7C7-7E22-4786-B7D0-EA1180E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93B-3EDF-4BDF-B6C6-46F18F46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204B-352E-411C-A25A-02351436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54CC-F476-45AD-B903-99AB047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B89-106A-4D00-AB17-24AC6EB6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929D-8226-4211-B3C7-901448B9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2AA2-8C58-442F-994B-47D822C7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56F-90BF-45D4-9C90-ED821422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73D-652C-456B-8B51-DB186A82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1D7-6171-4A1E-AD5E-B7CBAB8B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524-8244-4E46-9727-2330C5E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E00-D9D8-44D3-A047-CB9CCE2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FEC-71F9-4485-B0C2-3FFE3000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334-B30A-4E8D-9C0B-CA4BC07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64E-C58E-4F58-8728-3B295603997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D8C-1B22-4ACF-8007-853AE5B07C7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abele cu subtotaluri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25142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aplicatiile de calcul tabe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ituatiile in care se impune utilizarea optiunii de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recunoastem comanda de executare a subtotalurilor in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 identificam setarile care se fac in fereastra de dialog Sub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ul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vii clasei a X-a au varste de 15, 16 si 17 ani implini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 cere sa se grupeze elevii clasei pe grupe de varsta, iar apoi sa se calculeze media aritmetica a mediilor anuale pe gru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situatiile in care datele din tabel se pot reuni in subgrupe dupa o anumita caracteristica, este avantajoasa optiunea de creare de totaluri partiale(subtotaluri), fiecare calcul referindu-se la grupa respect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gatirea pentru rezolvarea probleme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dosarul clasei se creaza registrul de lucru subtotaluri.x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prima foaie de lucru se insereaza urmatorul tab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05120" y="4419720"/>
          <a:ext cx="5628960" cy="730080"/>
        </p:xfrm>
        <a:graphic>
          <a:graphicData uri="http://schemas.openxmlformats.org/drawingml/2006/table">
            <a:tbl>
              <a:tblPr/>
              <a:tblGrid>
                <a:gridCol w="2565360"/>
                <a:gridCol w="1158840"/>
                <a:gridCol w="1904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e si pren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dia anu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dras Tiber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ut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insereaza inca douazeci de elevi de toate cele trei varste ( 15, 16, 17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ordoneaza datele din tabel dupa varst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electeaza tabelul de d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da comanda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ate-Subtotalur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pare fereastra de dialog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ubtot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care conti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casetel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La fiecare modificare in…(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entru a seta coloana dupa care se face gruparea-in cazul nostru varst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Utilizare functi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functia dorita a se efectua pe grupe de inregistratri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Adaugare subtotal la…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(pentru a selecta coloana sub care se insereaza rezultatul operatiei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butoanele radi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locuire subtotaluri curen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- se bifeaza pentru a inlocui eventuale subtotaluri curen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Sfarsit de pagina intre grupuri-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se bifeaza daca se doreste afisarea subtotalurilor pe pagini distinc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03d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Insumare sub dat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-  se bifeaza pentru insumarea sub d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ed-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and folosim optiunea de subtotalur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are este comanda de executare a subtotaluril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Ce setari se fac in caseta de dialog Subtota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56:22Z</dcterms:created>
  <dc:creator>Adina</dc:creator>
  <dc:description/>
  <dc:language>en-US</dc:language>
  <cp:lastModifiedBy>Nik</cp:lastModifiedBy>
  <dcterms:modified xsi:type="dcterms:W3CDTF">2011-11-01T18:42:00Z</dcterms:modified>
  <cp:revision>7</cp:revision>
  <dc:subject/>
  <dc:title>Tabele cu subtotaluri</dc:title>
</cp:coreProperties>
</file>