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259-2C17-4B94-A0DC-D0D2DC45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AAE-3E58-403C-8DBE-B10A753E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D61-ACB3-4773-B434-39B382FC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7FF-5774-401B-B164-E65EF3C2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CC98-963E-46A9-A289-2DDD36DC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DEE-2094-4036-8745-72E3F575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1F20-6658-455A-925F-0F69DC63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920A-D64A-43DB-9118-BD862AED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F1E-C8D8-45BA-A07D-FE64DA8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C7EA-F79B-427D-B62E-4B8CA14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187B-82B3-468A-9D06-5F0B224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30E-F4B0-406B-8727-1CC431E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8BC2-3337-4E33-BF0B-E4C2CA9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9BDF-3E6D-42A2-836F-873AB8B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59CC-F274-418B-B8AC-5F486CF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0F4-0241-4398-91E9-011238AF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C2EF-9550-46A7-ADD9-BCB03850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136-2ED1-4B42-909F-EC7CC63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277-D2EF-42A0-843A-283487F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9C0-7EE0-401A-9D00-0D352BC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8A5-27AD-437C-BB6E-B81819E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EC0-E16E-4334-9E52-122531E2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DFC-309A-4692-9566-4698820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075-F149-4D09-9F79-01F4F52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95F2-00DE-459E-875E-6406B9337F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5C7-9A64-4C21-B826-D7DE072180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bele cu subtotalur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plicatiile de calcul tabe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ituatiile in care se impune utilizarea optiunii d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recunoastem comanda de executare a subtotalurilor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etarile care se fac in fereastra de dialog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vii clasei a X-a au varste de 15, 16 si 17 ani implini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cere sa se grupeze elevii clasei pe grupe de varsta, iar apoi sa se calculeze media aritmetica a mediilor anuale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ituatiile in care datele din tabel se pot reuni in subgrupe dupa o anumita caracteristica, este avantajoasa optiunea de creare de totaluri partiale(subtotaluri), fiecare calcul referindu-se la grupa respec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gatirea pentru rezolv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dosarul clasei se creaza registrul de lucru subtotaluri.x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rima foaie de lucru se insereaza urmatorul tab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419720"/>
          <a:ext cx="5628960" cy="730080"/>
        </p:xfrm>
        <a:graphic>
          <a:graphicData uri="http://schemas.openxmlformats.org/drawingml/2006/table">
            <a:tbl>
              <a:tblPr/>
              <a:tblGrid>
                <a:gridCol w="2565360"/>
                <a:gridCol w="1158840"/>
                <a:gridCol w="190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 si pren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anu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dras Tiber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insereaza inca douazeci de elevi de toate cele trei varste ( 15, 16, 1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ordoneaza datele din tabel dupa vars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electeaza tabelul de d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da comand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-Subtotalur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pare fereastra de dialog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ubtot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care conti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casete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La fiecare modificare in…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ntru a seta coloana dupa care se face gruparea-in cazul nostru vars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Utilizare funct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functia dorita a se efectua pe grupe de inregistratri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Adaugare subtotal la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coloana sub care se insereaza rezultatul operatiei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butoanele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locuire subtotaluri cure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- se bifeaza pentru a inlocui eventuale subtotaluri cur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Sfarsit de pagina intre grupuri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se bifeaza daca se doreste afisarea subtotalurilor pe pagini distinc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sumare sub da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 se bifeaza pentru insumarea sub d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ed-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and folosim optiunea de subtotalur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are este comanda de executare a subtotaluril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Ce setari se fac in caseta de dialog Subtot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56:22Z</dcterms:created>
  <dc:creator>Adina</dc:creator>
  <dc:description/>
  <dc:language>en-US</dc:language>
  <cp:lastModifiedBy>Nik</cp:lastModifiedBy>
  <dcterms:modified xsi:type="dcterms:W3CDTF">2011-11-01T18:42:00Z</dcterms:modified>
  <cp:revision>7</cp:revision>
  <dc:subject/>
  <dc:title>Tabele cu subtotaluri</dc:title>
</cp:coreProperties>
</file>