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504-7C80-4C3B-8BA4-4FE75DDD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955-76FC-4F6B-B735-F452EE35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BAD-9DC0-4788-B997-62F0256A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118-DD93-4338-8148-9EBC753A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A8CF-04AC-4D88-AF06-FA06BB04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3FA9-35F0-4C54-9B6C-75976E9B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5ED9-D1B8-4AF6-9A9D-CE6C30B1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0A6E-118C-4A34-AB52-6784F7EF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11A8-5BAC-417B-ABC3-D6B8C6A4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E2D0-F8DF-4C53-A7DE-9B4AB3D9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489E-D5D4-46F5-B821-CE77563C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1D7-A439-4DB9-B342-A23E47AB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08C2-8C43-4F7C-8587-F9C3DD72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6D60-06A1-43E1-B212-8729DA0E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6556-6159-4E51-9BC6-3275D80B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C15B-6B54-4CB9-A476-92B0EB40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DB43-1A17-4F6C-B74E-2CCDCBE6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7C6-8A03-468D-A492-73DBE3E8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A18-37CB-4731-A863-AFA3FAFF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608-9EDB-4DD7-AB73-69E8C1EC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59C-12D7-48CD-8F13-7395B911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6BB-C682-4F1F-BCFB-D6F09C81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98C-0A7C-4897-8629-C81F4496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8CC-6837-4B10-AB02-59AFE6DB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4799-D2D5-4BE7-8A13-11954F2BC9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2058-BBBD-402C-9EA8-34ED68B12D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abele cu subtotaluri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25142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aplicatiile de calcul tabe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35268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identificam situatiile in care se impune utilizarea optiunii de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recunoastem comanda de executare a subtotalurilor in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identificam setarile care se fac in fereastra de dialog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ularea problem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vii clasei a X-a au varste de 15, 16 si 17 ani implini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 cere sa se grupeze elevii clasei pe grupe de varsta, iar apoi sa se calculeze media aritmetica a mediilor anuale pe gru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icat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situatiile in care datele din tabel se pot reuni in subgrupe dupa o anumita caracteristica, este avantajoasa optiunea de creare de totaluri partiale(subtotaluri), fiecare calcul referindu-se la grupa respec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gatirea pentru rezolvarea problem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dosarul clasei se creaza registrul de lucru subtotaluri.x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prima foaie de lucru se insereaza urmatorul tabe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4419720"/>
          <a:ext cx="5628960" cy="730080"/>
        </p:xfrm>
        <a:graphic>
          <a:graphicData uri="http://schemas.openxmlformats.org/drawingml/2006/table">
            <a:tbl>
              <a:tblPr/>
              <a:tblGrid>
                <a:gridCol w="2565360"/>
                <a:gridCol w="1158840"/>
                <a:gridCol w="190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me si pren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 anu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dras Tiber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insereaza inca douazeci de elevi de toate cele trei varste ( 15, 16, 17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ordoneaza datele din tabel dupa varst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selecteaza tabelul de d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da comanda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-Subtotalur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apare fereastra de dialog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ubtot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care contin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casetel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La fiecare modificare in…(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entru a seta coloana dupa care se face gruparea-in cazul nostru varst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Utilizare funct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(pentru a selecta functia dorita a se efectua pe grupe de inregistratri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Adaugare subtotal la…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(pentru a selecta coloana sub care se insereaza rezultatul operatiei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butoanele rad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Inlocuire subtotaluri curen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- se bifeaza pentru a inlocui eventuale subtotaluri cur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Sfarsit de pagina intre grupuri-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se bifeaza daca se doreste afisarea subtotalurilor pe pagini distinc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Insumare sub da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-  se bifeaza pentru insumarea sub da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ed-ba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and folosim optiunea de subtotalur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are este comanda de executare a subtotalurilo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Ce setari se fac in caseta de dialog Subtota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7:56:22Z</dcterms:created>
  <dc:creator>Adina</dc:creator>
  <dc:description/>
  <dc:language>en-US</dc:language>
  <cp:lastModifiedBy>Nik</cp:lastModifiedBy>
  <dcterms:modified xsi:type="dcterms:W3CDTF">2011-11-01T18:42:00Z</dcterms:modified>
  <cp:revision>7</cp:revision>
  <dc:subject/>
  <dc:title>Tabele cu subtotaluri</dc:title>
</cp:coreProperties>
</file>