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D12-E248-4932-BCDD-EC7A627C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B62E-EC11-4ADA-AD85-7F00A5B4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EF1-4E64-48BE-AC75-7ABA96A9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4DD-0F4B-41C7-97C5-0AEEAB4A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5B50-BD34-4373-BFD7-1CD47B93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99F6-2E67-4A11-BDA4-958A274D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C6B0-9A46-426B-B6CE-CD090B93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5A65-1A9B-44C3-AA29-EF2CCC70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4340-6780-42E1-A016-83D524FF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F2D3-2D18-4D46-93F7-EA97AB4A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3443-B463-4ED0-8ED0-1D07263E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ED8F-1962-42E1-9E17-FCCBCD11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91E5-F1CB-4F84-955A-2BC60661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1F9F-1D98-49BD-B035-716F73EA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4A49-C31D-49FB-8B41-9A084652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0BCD-5907-4210-82BB-E7CC0744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475D-85C2-4497-B7DF-24DA857D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41E-DB50-4A43-B1A4-B833F228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56EC-B518-4BF0-A510-DD771161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F49-A5D5-47A2-9175-524B277E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FA9-B753-4280-8E46-44859C7A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ABC-ED90-481F-B530-18B20270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4811-09CF-4786-8B2C-554F0DBA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7828-8948-4466-8E2D-DCEA96B9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1D17-6193-454E-BEA6-41D3B0A177A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7BC0-05CE-4EDD-82A6-D325BB05B39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abele cu subtotaluri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52120" y="25142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aplicatiile de calcul tabe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335268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 identificam situatiile in care se impune utilizarea optiunii de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 recunoastem comanda de executare a subtotalurilor in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 identificam setarile care se fac in fereastra de dialog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ularea probleme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vii clasei a X-a au varste de 15, 16 si 17 ani implini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 cere sa se grupeze elevii clasei pe grupe de varsta, iar apoi sa se calculeze media aritmetica a mediilor anuale pe gru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dicat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situatiile in care datele din tabel se pot reuni in subgrupe dupa o anumita caracteristica, este avantajoasa optiunea de creare de totaluri partiale(subtotaluri), fiecare calcul referindu-se la grupa respecti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gatirea pentru rezolvarea probleme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dosarul clasei se creaza registrul de lucru subtotaluri.x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prima foaie de lucru se insereaza urmatorul tabe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05120" y="4419720"/>
          <a:ext cx="5628960" cy="730080"/>
        </p:xfrm>
        <a:graphic>
          <a:graphicData uri="http://schemas.openxmlformats.org/drawingml/2006/table">
            <a:tbl>
              <a:tblPr/>
              <a:tblGrid>
                <a:gridCol w="2565360"/>
                <a:gridCol w="1158840"/>
                <a:gridCol w="1904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me si pren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r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 anua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dras Tiber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,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ut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insereaza inca douazeci de elevi de toate cele trei varste ( 15, 16, 17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ordoneaza datele din tabel dupa varst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selecteaza tabelul de d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da comanda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-Subtotalur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apare fereastra de dialog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ubtot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care contin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casetel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703d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La fiecare modificare in…(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pentru a seta coloana dupa care se face gruparea-in cazul nostru varsta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Utilizare functi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(pentru a selecta functia dorita a se efectua pe grupe de inregistratri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Adaugare subtotal la…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(pentru a selecta coloana sub care se insereaza rezultatul operatiei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butoanele rad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703d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Inlocuire subtotaluri curen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- se bifeaza pentru a inlocui eventuale subtotaluri cur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703d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Sfarsit de pagina intre grupuri-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se bifeaza daca se doreste afisarea subtotalurilor pe pagini distinc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703d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Insumare sub da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-  se bifeaza pentru insumarea sub da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ed-ba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Cand folosim optiunea de subtotaluri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Care este comanda de executare a subtotalurilo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Ce setari se fac in caseta de dialog Subtota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7:56:22Z</dcterms:created>
  <dc:creator>Adina</dc:creator>
  <dc:description/>
  <dc:language>en-US</dc:language>
  <cp:lastModifiedBy>Nik</cp:lastModifiedBy>
  <dcterms:modified xsi:type="dcterms:W3CDTF">2011-11-01T18:42:00Z</dcterms:modified>
  <cp:revision>7</cp:revision>
  <dc:subject/>
  <dc:title>Tabele cu subtotaluri</dc:title>
</cp:coreProperties>
</file>