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D8E-BBA6-4533-9E80-E0DC29E7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7C1-C33A-4167-ACA7-245A850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86F-9B09-4656-9A9A-B9D2D2C4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DBC-0BFB-4A6A-9863-B4151EDE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737-EF38-4A74-9F9F-8F7AD08F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865-1470-4155-AB4B-26EDF3D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8A9-5885-4C0F-85D5-9991FA2B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266-47D4-4256-AFB4-DED0705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10A-957D-4144-B123-3A809A4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F4F-48EF-437A-A2C6-C8E301B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8F3-D7E7-4DD9-A555-D14037CF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891-3645-4CA4-8AB9-12809BE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D59-8D8C-493B-8619-2842A65C980F}" type="slidenum">
              <a:rPr b="0" lang="ro-RO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ttp://t0.gstatic.com/images?q=tbn:ANd9GcR4SLv4BiJbNDgKswzeFPcjIFtnoSsyXZpoJKw3B9Y14c6nY3Y5UbbyLFVzxg"/>
          <p:cNvPicPr/>
          <p:nvPr/>
        </p:nvPicPr>
        <p:blipFill>
          <a:blip r:embed="rId1"/>
          <a:stretch/>
        </p:blipFill>
        <p:spPr>
          <a:xfrm>
            <a:off x="1979640" y="364500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15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2117"/>
                </a:solidFill>
                <a:latin typeface="Corbel"/>
              </a:rPr>
              <a:t>UTILIZAREA INFORMAȚIEI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000" y="2205000"/>
            <a:ext cx="6729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6d2f03"/>
                </a:solidFill>
                <a:latin typeface="Corbel"/>
              </a:rPr>
              <a:t>Surse care furnizează informația</a:t>
            </a:r>
            <a:endParaRPr b="0" lang="en-US" sz="36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4716360" y="4508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Clasa a XI-a, a XII-a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Prof.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Nicolae Com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t1.gstatic.com/images?q=tbn:ANd9GcSMFYbGOL_1uO19tzlmJThLZ5vF95NYQOzGnHqY5SeSWs8yZhvX"/>
          <p:cNvPicPr/>
          <p:nvPr/>
        </p:nvPicPr>
        <p:blipFill>
          <a:blip r:embed="rId2"/>
          <a:stretch/>
        </p:blipFill>
        <p:spPr>
          <a:xfrm>
            <a:off x="826920" y="4292640"/>
            <a:ext cx="1636920" cy="172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t2.gstatic.com/images?q=tbn:ANd9GcR36rDz6Xw2v-Ihlv0kCtHXIXnM1ZWbfV06L6eJZdEJsXlAAPyB4eL7JHQjZg"/>
          <p:cNvPicPr/>
          <p:nvPr/>
        </p:nvPicPr>
        <p:blipFill>
          <a:blip r:embed="rId3"/>
          <a:stretch/>
        </p:blipFill>
        <p:spPr>
          <a:xfrm>
            <a:off x="3564000" y="3213000"/>
            <a:ext cx="1714320" cy="8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442117"/>
                </a:solidFill>
                <a:latin typeface="Corbel"/>
              </a:rPr>
              <a:t>Discuții în grup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Precizați și argumentați ce surse de informare folosiți dacă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să realizați un referat la limba română despre metode de comunicar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ă vă faceți un program pentru petrecerea timpului liber la sfârșitul săptămânii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Doriți să cumpărați un calculat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99" name="Substituent conținut 3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353360" cy="4353120"/>
          </a:xfrm>
          <a:prstGeom prst="rect">
            <a:avLst/>
          </a:prstGeom>
          <a:ln w="0">
            <a:noFill/>
          </a:ln>
        </p:spPr>
      </p:pic>
      <p:sp>
        <p:nvSpPr>
          <p:cNvPr id="100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Fișierul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 – este o colecție de date care descrie o categorie de informații;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z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date care descrie activitatea unei organizații și care furnizează membrilor organizației acces la diferite informații, prezentate în diferite form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nc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una sau mai multe baze de date care acoperă un subiect sau mai multe subiecte, destinate unei categorii largi de utilizatori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4665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Fișierel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5" name="Substituent conținut 3" descr=""/>
          <p:cNvPicPr/>
          <p:nvPr/>
        </p:nvPicPr>
        <p:blipFill>
          <a:blip r:embed="rId1"/>
          <a:stretch/>
        </p:blipFill>
        <p:spPr>
          <a:xfrm>
            <a:off x="-6480" y="1504800"/>
            <a:ext cx="5615280" cy="4438800"/>
          </a:xfrm>
          <a:prstGeom prst="rect">
            <a:avLst/>
          </a:prstGeom>
          <a:ln w="0">
            <a:noFill/>
          </a:ln>
        </p:spPr>
      </p:pic>
      <p:sp>
        <p:nvSpPr>
          <p:cNvPr id="106" name="CasetăText 4"/>
          <p:cNvSpPr/>
          <p:nvPr/>
        </p:nvSpPr>
        <p:spPr>
          <a:xfrm>
            <a:off x="4788000" y="1359000"/>
            <a:ext cx="374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de date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date create și întreținute cu un program de aplicaț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tex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numai coduri de caractere și sunt create și întreținute cu un edit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documen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coduri de caractere, imagini și comenzi pentru formatare. Sunt create cu un proces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cu imagini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în format digital. Sunt create și întreținute  cu un program de graf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vide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video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audi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sunete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4967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aze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9" name="Substituent conținut 3" descr=""/>
          <p:cNvPicPr/>
          <p:nvPr/>
        </p:nvPicPr>
        <p:blipFill>
          <a:blip r:embed="rId1"/>
          <a:stretch/>
        </p:blipFill>
        <p:spPr>
          <a:xfrm>
            <a:off x="847800" y="1335240"/>
            <a:ext cx="3870360" cy="2992320"/>
          </a:xfrm>
          <a:prstGeom prst="rect">
            <a:avLst/>
          </a:prstGeom>
          <a:ln w="0">
            <a:noFill/>
          </a:ln>
        </p:spPr>
      </p:pic>
      <p:sp>
        <p:nvSpPr>
          <p:cNvPr id="110" name="CasetăText 4"/>
          <p:cNvSpPr/>
          <p:nvPr/>
        </p:nvSpPr>
        <p:spPr>
          <a:xfrm>
            <a:off x="4716360" y="140328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individuale – se mai numesc și baze de date pentru microcalculatoare. Sunt colecții de fișiere de date integrate folosite de o singură persoan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artajate – sunt stocate pe un calculator mare (server) și administrate de un specialist numit administratorul bazei d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tăText 5"/>
          <p:cNvSpPr/>
          <p:nvPr/>
        </p:nvSpPr>
        <p:spPr>
          <a:xfrm>
            <a:off x="755640" y="38768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Utilizatorii pot avea acces la baza de date prin intermediul unei rețele locale sau globale. Există două tipuri de baze de 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oper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de deciz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distribuite – pot fi localizate în alt loc decât cel în care se găsește utilizator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le de date reprezintă fundamentul sistemelor informatice pentru conduc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tăText 5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ănci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Tipuri de bănci de date: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articular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sunt colecții foarte mari de date pe care o organizație le dezvoltă ca să acopere un anumit subiec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ublic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cea mai mare bancă de date publică este cea stocată pe rețeaua Interne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Bazele de date sunt forme eficiente de organizare a volumelor mari de d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8640" y="838080"/>
            <a:ext cx="7618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Eficiența organizării volumelor mari de date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Partajarea informații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informațiile pot fi partajate între membrii organizației sau între compartimentele funcționale ale acesteia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Reducerea volumului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mai multe departamente pot avea acces la aceeași colecție de informații, în loc să își creeze fiecare independent propria colecți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Integritatea date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datele vor fi actualizate o singură dată în baza de date la care au acces toate departamentel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8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836640"/>
            <a:ext cx="77040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Securitatea informațiilor – poate fi asigurată mai bine dacă există o singură colecție de date independente centralizate, prin atribuirea de parole utilizatorilor care să permită accesul numai la informațiile necesare în activitatea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Controlul centralizat al datelor – administratorul bazei de date determină structura acesteia evaluează performanțele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0" name="CasetăText 2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739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Criterii de utilizare a informațiilor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1988640"/>
            <a:ext cx="73152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ublic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orice persoană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artaj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grupuri de persoane, conform unor restricții impus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riv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numai de posesorul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9:39:17Z</dcterms:created>
  <dc:creator>admin2</dc:creator>
  <dc:description/>
  <dc:language>en-US</dc:language>
  <cp:lastModifiedBy>Nik</cp:lastModifiedBy>
  <dcterms:modified xsi:type="dcterms:W3CDTF">2011-11-01T18:49:34Z</dcterms:modified>
  <cp:revision>28</cp:revision>
  <dc:subject/>
  <dc:title>UTILIZAREA INFORMAȚIEI</dc:title>
</cp:coreProperties>
</file>