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A39-F7EE-4A97-AF78-64104ED3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E44-BC00-4616-B20F-1EA2E425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514-7CFD-4DB7-A494-5028F0B6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896-FBF9-4F2C-AF7C-073368D1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C50-BD49-4452-A2D7-DB1B27D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76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60800" y="1599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4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76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60800" y="38685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22B-34FB-4E41-8E6F-5F673EA0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8899-AFCD-4DC5-A092-66C3656E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69A-1BFB-4970-8AD9-65160F0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838080"/>
            <a:ext cx="73152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353-618E-418F-9309-4B15CB2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F1E-FC52-4468-BF79-1D6AD5CE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3080" y="38685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083-DC63-43B2-8868-8954C857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7459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080" y="1599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685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A94C-A34F-4EB4-A39C-FB97C65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1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3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2C53-A9B7-44C8-9499-BF49B44A0D96}" type="slidenum">
              <a:rPr b="0" lang="ro-RO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9"/>
          <p:cNvGrpSpPr/>
          <p:nvPr/>
        </p:nvGrpSpPr>
        <p:grpSpPr>
          <a:xfrm>
            <a:off x="0" y="-1440"/>
            <a:ext cx="9144000" cy="6858000"/>
            <a:chOff x="0" y="-1440"/>
            <a:chExt cx="9144000" cy="6858000"/>
          </a:xfrm>
        </p:grpSpPr>
        <p:sp>
          <p:nvSpPr>
            <p:cNvPr id="48" name="Rectangle 6"/>
            <p:cNvSpPr/>
            <p:nvPr/>
          </p:nvSpPr>
          <p:spPr>
            <a:xfrm>
              <a:off x="0" y="-1440"/>
              <a:ext cx="9144000" cy="6858000"/>
            </a:xfrm>
            <a:prstGeom prst="rect">
              <a:avLst/>
            </a:prstGeom>
            <a:solidFill>
              <a:srgbClr val="442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Rectangle 7"/>
            <p:cNvGrpSpPr/>
            <p:nvPr/>
          </p:nvGrpSpPr>
          <p:grpSpPr>
            <a:xfrm>
              <a:off x="438840" y="402480"/>
              <a:ext cx="8266320" cy="5980320"/>
              <a:chOff x="438840" y="402480"/>
              <a:chExt cx="8266320" cy="5980320"/>
            </a:xfrm>
          </p:grpSpPr>
          <p:pic>
            <p:nvPicPr>
              <p:cNvPr id="50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38840" y="402480"/>
                <a:ext cx="8266320" cy="598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456840" y="418320"/>
                <a:ext cx="8229960" cy="594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8"/>
            <p:cNvSpPr/>
            <p:nvPr/>
          </p:nvSpPr>
          <p:spPr>
            <a:xfrm>
              <a:off x="761760" y="723960"/>
              <a:ext cx="7620120" cy="5334120"/>
            </a:xfrm>
            <a:prstGeom prst="rect">
              <a:avLst/>
            </a:prstGeom>
            <a:gradFill rotWithShape="0">
              <a:gsLst>
                <a:gs pos="0">
                  <a:srgbClr val="c2d2ad"/>
                </a:gs>
                <a:gs pos="50000">
                  <a:srgbClr val="edf1e8"/>
                </a:gs>
                <a:gs pos="100000">
                  <a:srgbClr val="c2d2ad"/>
                </a:gs>
              </a:gsLst>
              <a:lin ang="2700000"/>
            </a:gradFill>
            <a:ln cap="sq" w="76320">
              <a:solidFill>
                <a:srgbClr val="ffffff"/>
              </a:solidFill>
              <a:miter/>
            </a:ln>
            <a:effectLst>
              <a:outerShdw dist="50911" dir="8100000" blurRad="0" rotWithShape="0">
                <a:srgbClr val="000000">
                  <a:alpha val="4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traight Connector 17"/>
          <p:cNvSpPr/>
          <p:nvPr/>
        </p:nvSpPr>
        <p:spPr>
          <a:xfrm>
            <a:off x="2705040" y="5638680"/>
            <a:ext cx="3733920" cy="1800"/>
          </a:xfrm>
          <a:prstGeom prst="line">
            <a:avLst/>
          </a:prstGeom>
          <a:ln cap="rnd" w="64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211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421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4421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2117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http://t0.gstatic.com/images?q=tbn:ANd9GcR4SLv4BiJbNDgKswzeFPcjIFtnoSsyXZpoJKw3B9Y14c6nY3Y5UbbyLFVzxg"/>
          <p:cNvPicPr/>
          <p:nvPr/>
        </p:nvPicPr>
        <p:blipFill>
          <a:blip r:embed="rId1"/>
          <a:stretch/>
        </p:blipFill>
        <p:spPr>
          <a:xfrm>
            <a:off x="1979640" y="3645000"/>
            <a:ext cx="1866960" cy="140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15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442117"/>
                </a:solidFill>
                <a:latin typeface="Corbel"/>
              </a:rPr>
              <a:t>UTILIZAREA INFORMAȚIEI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76000" y="2205000"/>
            <a:ext cx="6729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6d2f03"/>
                </a:solidFill>
                <a:latin typeface="Corbel"/>
              </a:rPr>
              <a:t>Surse care furnizează informația</a:t>
            </a:r>
            <a:endParaRPr b="0" lang="en-US" sz="36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95" name="CasetăText 3"/>
          <p:cNvSpPr/>
          <p:nvPr/>
        </p:nvSpPr>
        <p:spPr>
          <a:xfrm>
            <a:off x="4716360" y="4508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Clasa a XI-a, a XII-a 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4f271c"/>
                </a:solidFill>
                <a:latin typeface="Arial"/>
              </a:rPr>
              <a:t>Prof. </a:t>
            </a:r>
            <a:r>
              <a:rPr b="1" lang="en-US" sz="1800" spc="-1" strike="noStrike">
                <a:solidFill>
                  <a:srgbClr val="4f271c"/>
                </a:solidFill>
                <a:latin typeface="Arial"/>
              </a:rPr>
              <a:t>Nicolae Com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t1.gstatic.com/images?q=tbn:ANd9GcSMFYbGOL_1uO19tzlmJThLZ5vF95NYQOzGnHqY5SeSWs8yZhvX"/>
          <p:cNvPicPr/>
          <p:nvPr/>
        </p:nvPicPr>
        <p:blipFill>
          <a:blip r:embed="rId2"/>
          <a:stretch/>
        </p:blipFill>
        <p:spPr>
          <a:xfrm>
            <a:off x="826920" y="4292640"/>
            <a:ext cx="1636920" cy="1720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http://t2.gstatic.com/images?q=tbn:ANd9GcR36rDz6Xw2v-Ihlv0kCtHXIXnM1ZWbfV06L6eJZdEJsXlAAPyB4eL7JHQjZg"/>
          <p:cNvPicPr/>
          <p:nvPr/>
        </p:nvPicPr>
        <p:blipFill>
          <a:blip r:embed="rId3"/>
          <a:stretch/>
        </p:blipFill>
        <p:spPr>
          <a:xfrm>
            <a:off x="3564000" y="3213000"/>
            <a:ext cx="1714320" cy="88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442117"/>
                </a:solidFill>
                <a:latin typeface="Corbel"/>
              </a:rPr>
              <a:t>Discuții în grup</a:t>
            </a:r>
            <a:endParaRPr b="0" lang="en-US" sz="44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Precizați și argumentați ce surse de informare folosiți dacă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să realizați un referat la limba română despre metode de comunicar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Trebuie ă vă faceți un program pentru petrecerea timpului liber la sfârșitul săptămânii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08520" indent="-308520">
              <a:spcBef>
                <a:spcPts val="799"/>
              </a:spcBef>
              <a:buClr>
                <a:srgbClr val="442117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Doriți să cumpărați un calculat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6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99" name="Substituent conținut 3" descr=""/>
          <p:cNvPicPr/>
          <p:nvPr/>
        </p:nvPicPr>
        <p:blipFill>
          <a:blip r:embed="rId1"/>
          <a:stretch/>
        </p:blipFill>
        <p:spPr>
          <a:xfrm>
            <a:off x="895320" y="1596960"/>
            <a:ext cx="7353360" cy="4353120"/>
          </a:xfrm>
          <a:prstGeom prst="rect">
            <a:avLst/>
          </a:prstGeom>
          <a:ln w="0">
            <a:noFill/>
          </a:ln>
        </p:spPr>
      </p:pic>
      <p:sp>
        <p:nvSpPr>
          <p:cNvPr id="100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Surse care furnizează informația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Fișierul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 – este o colecție de date care descrie o categorie de informații;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z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date care descrie activitatea unei organizații și care furnizează membrilor organizației acces la diferite informații, prezentate în diferite form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anca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este o colecție de una sau mai multe baze de date care acoperă un subiect sau mai multe subiecte, destinate unei categorii largi de utilizatori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0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4665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Fișierel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5" name="Substituent conținut 3" descr=""/>
          <p:cNvPicPr/>
          <p:nvPr/>
        </p:nvPicPr>
        <p:blipFill>
          <a:blip r:embed="rId1"/>
          <a:stretch/>
        </p:blipFill>
        <p:spPr>
          <a:xfrm>
            <a:off x="-6480" y="1504800"/>
            <a:ext cx="5615280" cy="4438800"/>
          </a:xfrm>
          <a:prstGeom prst="rect">
            <a:avLst/>
          </a:prstGeom>
          <a:ln w="0">
            <a:noFill/>
          </a:ln>
        </p:spPr>
      </p:pic>
      <p:sp>
        <p:nvSpPr>
          <p:cNvPr id="106" name="CasetăText 4"/>
          <p:cNvSpPr/>
          <p:nvPr/>
        </p:nvSpPr>
        <p:spPr>
          <a:xfrm>
            <a:off x="4788000" y="1359000"/>
            <a:ext cx="374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de date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date create și întreținute cu un program de aplicaț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le tex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numai coduri de caractere și sunt create și întreținute cu un edit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document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coduri de caractere, imagini și comenzi pentru formatare. Sunt create cu un procesor de tex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cu imagini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în format digital. Sunt create și întreținute  cu un program de grafi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vide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imagini video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orbel"/>
              </a:rPr>
              <a:t>Fișiere audio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– conțin sunete în format dig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setăText 4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49672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aze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pic>
        <p:nvPicPr>
          <p:cNvPr id="109" name="Substituent conținut 3" descr=""/>
          <p:cNvPicPr/>
          <p:nvPr/>
        </p:nvPicPr>
        <p:blipFill>
          <a:blip r:embed="rId1"/>
          <a:stretch/>
        </p:blipFill>
        <p:spPr>
          <a:xfrm>
            <a:off x="847800" y="1335240"/>
            <a:ext cx="3870360" cy="2992320"/>
          </a:xfrm>
          <a:prstGeom prst="rect">
            <a:avLst/>
          </a:prstGeom>
          <a:ln w="0">
            <a:noFill/>
          </a:ln>
        </p:spPr>
      </p:pic>
      <p:sp>
        <p:nvSpPr>
          <p:cNvPr id="110" name="CasetăText 4"/>
          <p:cNvSpPr/>
          <p:nvPr/>
        </p:nvSpPr>
        <p:spPr>
          <a:xfrm>
            <a:off x="4716360" y="140328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individuale – se mai numesc și baze de date pentru microcalculatoare. Sunt colecții de fișiere de date integrate folosite de o singură persoan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artajate – sunt stocate pe un calculator mare (server) și administrate de un specialist numit administratorul bazei de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tăText 5"/>
          <p:cNvSpPr/>
          <p:nvPr/>
        </p:nvSpPr>
        <p:spPr>
          <a:xfrm>
            <a:off x="755640" y="38768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Utilizatorii pot avea acces la baza de date prin intermediul unei rețele locale sau globale. Există două tipuri de baze de 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operati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pentru personalul de deciz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 de date distribuite – pot fi localizate în alt loc decât cel în care se găsește utilizatoru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rbel"/>
              </a:rPr>
              <a:t>Bazele de date reprezintă fundamentul sistemelor informatice pentru conduc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setăText 5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3152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Bănci de date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Tipuri de bănci de date: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articular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sunt colecții foarte mari de date pe care o organizație le dezvoltă ca să acopere un anumit subiec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442117"/>
                </a:solidFill>
                <a:latin typeface="Corbel"/>
              </a:rPr>
              <a:t>Bănci de date public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cea mai mare bancă de date publică este cea stocată pe rețeaua Internet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	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Bazele de date sunt forme eficiente de organizare a volumelor mari de dat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5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18640" y="838080"/>
            <a:ext cx="76186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Eficiența organizării volumelor mari de date: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Partajarea informații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informațiile pot fi partajate între membrii organizației sau între compartimentele funcționale ale acesteia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Reducerea volumului de date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mai multe departamente pot avea acces la aceeași colecție de informații, în loc să își creeze fiecare independent propria colecți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  <a:p>
            <a:pPr marL="305280" indent="-305280">
              <a:lnSpc>
                <a:spcPct val="80000"/>
              </a:lnSpc>
              <a:spcBef>
                <a:spcPts val="751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442117"/>
                </a:solidFill>
                <a:latin typeface="Corbel"/>
              </a:rPr>
              <a:t>Integritatea datelor </a:t>
            </a:r>
            <a:r>
              <a:rPr b="0" lang="ro-RO" sz="3000" spc="-1" strike="noStrike">
                <a:solidFill>
                  <a:srgbClr val="442117"/>
                </a:solidFill>
                <a:latin typeface="Corbel"/>
              </a:rPr>
              <a:t>– datele vor fi actualizate o singură dată în baza de date la care au acces toate departamentele.</a:t>
            </a:r>
            <a:endParaRPr b="0" lang="en-US" sz="3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18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836640"/>
            <a:ext cx="77040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Securitatea informațiilor – poate fi asigurată mai bine dacă există o singură colecție de date independente centralizate, prin atribuirea de parole utilizatorilor care să permită accesul numai la informațiile necesare în activitatea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12120" indent="-31212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Controlul centralizat al datelor – administratorul bazei de date determină structura acesteia evaluează performanțele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0" name="CasetăText 2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7396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442117"/>
                </a:solidFill>
                <a:latin typeface="Corbel"/>
              </a:rPr>
              <a:t>Criterii de utilizare a informațiilor</a:t>
            </a:r>
            <a:endParaRPr b="0" lang="en-US" sz="40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0000" y="1988640"/>
            <a:ext cx="73152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ublic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orice persoană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artaj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de grupuri de persoane, conform unor restricții impuse;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4421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442117"/>
                </a:solidFill>
                <a:latin typeface="Corbel"/>
              </a:rPr>
              <a:t>Informații private </a:t>
            </a:r>
            <a:r>
              <a:rPr b="0" lang="ro-RO" sz="3200" spc="-1" strike="noStrike">
                <a:solidFill>
                  <a:srgbClr val="442117"/>
                </a:solidFill>
                <a:latin typeface="Corbel"/>
              </a:rPr>
              <a:t>– ce pot fi folosite numai de posesorul lor.</a:t>
            </a:r>
            <a:endParaRPr b="0" lang="en-US" sz="3200" spc="-1" strike="noStrike">
              <a:solidFill>
                <a:srgbClr val="442117"/>
              </a:solidFill>
              <a:latin typeface="Corbel"/>
            </a:endParaRPr>
          </a:p>
        </p:txBody>
      </p:sp>
      <p:sp>
        <p:nvSpPr>
          <p:cNvPr id="123" name="CasetăText 3"/>
          <p:cNvSpPr/>
          <p:nvPr/>
        </p:nvSpPr>
        <p:spPr>
          <a:xfrm>
            <a:off x="395280" y="6434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riana Miloșescu, T.I.C. 4, Manual pt. Clasa a XI-a R.D. și a XII-a R.P., Ed. D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9:39:17Z</dcterms:created>
  <dc:creator>admin2</dc:creator>
  <dc:description/>
  <dc:language>en-US</dc:language>
  <cp:lastModifiedBy>Nik</cp:lastModifiedBy>
  <dcterms:modified xsi:type="dcterms:W3CDTF">2011-11-01T18:49:34Z</dcterms:modified>
  <cp:revision>28</cp:revision>
  <dc:subject/>
  <dc:title>UTILIZAREA INFORMAȚIEI</dc:title>
</cp:coreProperties>
</file>