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868-051A-4B02-8E85-BB6C9BCF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DDF-9BA0-4236-A015-EB10BF9A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E78-D58E-4D7A-A0FB-6E423976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BF6-BDE5-429B-876D-0D3416B5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5CF-B414-4DEB-BB9C-EBB77887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C9C-7491-483B-A00B-F2F948A9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B7A-18E0-4ABD-8EE3-500D1F8E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CE6-1B32-45AA-8642-268F7294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5F5-7105-4861-A159-B5FE546E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5EA-AF25-49D0-BF20-0C7AEEB8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39E-43C2-46F9-A613-09D1D89E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751-F769-4785-9951-5016CAC3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1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Rectangle 7"/>
            <p:cNvGrpSpPr/>
            <p:nvPr/>
          </p:nvGrpSpPr>
          <p:grpSpPr>
            <a:xfrm>
              <a:off x="438840" y="402480"/>
              <a:ext cx="8266320" cy="5980320"/>
              <a:chOff x="438840" y="402480"/>
              <a:chExt cx="8266320" cy="5980320"/>
            </a:xfrm>
          </p:grpSpPr>
          <p:pic>
            <p:nvPicPr>
              <p:cNvPr id="3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840" y="402480"/>
                <a:ext cx="8266320" cy="59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456840" y="41832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8"/>
            <p:cNvSpPr/>
            <p:nvPr/>
          </p:nvSpPr>
          <p:spPr>
            <a:xfrm>
              <a:off x="761760" y="72396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1B5B-8219-40F3-B2BA-4FAABE263B4D}" type="slidenum">
              <a:rPr b="0" lang="ro-RO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48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Rectangle 7"/>
            <p:cNvGrpSpPr/>
            <p:nvPr/>
          </p:nvGrpSpPr>
          <p:grpSpPr>
            <a:xfrm>
              <a:off x="438840" y="402480"/>
              <a:ext cx="8266320" cy="5980320"/>
              <a:chOff x="438840" y="402480"/>
              <a:chExt cx="8266320" cy="5980320"/>
            </a:xfrm>
          </p:grpSpPr>
          <p:pic>
            <p:nvPicPr>
              <p:cNvPr id="50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840" y="402480"/>
                <a:ext cx="8266320" cy="59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456840" y="41832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8"/>
            <p:cNvSpPr/>
            <p:nvPr/>
          </p:nvSpPr>
          <p:spPr>
            <a:xfrm>
              <a:off x="761760" y="72396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Straight Connector 17"/>
          <p:cNvSpPr/>
          <p:nvPr/>
        </p:nvSpPr>
        <p:spPr>
          <a:xfrm>
            <a:off x="2705040" y="5638680"/>
            <a:ext cx="3733920" cy="1800"/>
          </a:xfrm>
          <a:prstGeom prst="line">
            <a:avLst/>
          </a:prstGeom>
          <a:ln cap="rnd" w="64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http://t0.gstatic.com/images?q=tbn:ANd9GcR4SLv4BiJbNDgKswzeFPcjIFtnoSsyXZpoJKw3B9Y14c6nY3Y5UbbyLFVzxg"/>
          <p:cNvPicPr/>
          <p:nvPr/>
        </p:nvPicPr>
        <p:blipFill>
          <a:blip r:embed="rId1"/>
          <a:stretch/>
        </p:blipFill>
        <p:spPr>
          <a:xfrm>
            <a:off x="1979640" y="3645000"/>
            <a:ext cx="1866960" cy="1400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15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442117"/>
                </a:solidFill>
                <a:latin typeface="Corbel"/>
              </a:rPr>
              <a:t>UTILIZAREA INFORMAȚIEI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76000" y="2205000"/>
            <a:ext cx="67294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6d2f03"/>
                </a:solidFill>
                <a:latin typeface="Corbel"/>
              </a:rPr>
              <a:t>Surse care furnizează informația</a:t>
            </a:r>
            <a:endParaRPr b="0" lang="en-US" sz="36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5" name="CasetăText 3"/>
          <p:cNvSpPr/>
          <p:nvPr/>
        </p:nvSpPr>
        <p:spPr>
          <a:xfrm>
            <a:off x="4716360" y="4508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4f271c"/>
                </a:solidFill>
                <a:latin typeface="Arial"/>
              </a:rPr>
              <a:t>Clasa a XI-a, a XII-a 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4f271c"/>
                </a:solidFill>
                <a:latin typeface="Arial"/>
              </a:rPr>
              <a:t>Prof. </a:t>
            </a:r>
            <a:r>
              <a:rPr b="1" lang="en-US" sz="1800" spc="-1" strike="noStrike">
                <a:solidFill>
                  <a:srgbClr val="4f271c"/>
                </a:solidFill>
                <a:latin typeface="Arial"/>
              </a:rPr>
              <a:t>Nicolae Coma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t1.gstatic.com/images?q=tbn:ANd9GcSMFYbGOL_1uO19tzlmJThLZ5vF95NYQOzGnHqY5SeSWs8yZhvX"/>
          <p:cNvPicPr/>
          <p:nvPr/>
        </p:nvPicPr>
        <p:blipFill>
          <a:blip r:embed="rId2"/>
          <a:stretch/>
        </p:blipFill>
        <p:spPr>
          <a:xfrm>
            <a:off x="826920" y="4292640"/>
            <a:ext cx="1636920" cy="1720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http://t2.gstatic.com/images?q=tbn:ANd9GcR36rDz6Xw2v-Ihlv0kCtHXIXnM1ZWbfV06L6eJZdEJsXlAAPyB4eL7JHQjZg"/>
          <p:cNvPicPr/>
          <p:nvPr/>
        </p:nvPicPr>
        <p:blipFill>
          <a:blip r:embed="rId3"/>
          <a:stretch/>
        </p:blipFill>
        <p:spPr>
          <a:xfrm>
            <a:off x="3564000" y="3213000"/>
            <a:ext cx="1714320" cy="885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442117"/>
                </a:solidFill>
                <a:latin typeface="Corbel"/>
              </a:rPr>
              <a:t>Discuții în grup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Precizați și argumentați ce surse de informare folosiți dacă: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Trebuie să realizați un referat la limba română despre metode de comunicare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Trebuie ă vă faceți un program pentru petrecerea timpului liber la sfârșitul săptămânii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Doriți să cumpărați un calculator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6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Surse care furnizează informația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pic>
        <p:nvPicPr>
          <p:cNvPr id="99" name="Substituent conținut 3" descr=""/>
          <p:cNvPicPr/>
          <p:nvPr/>
        </p:nvPicPr>
        <p:blipFill>
          <a:blip r:embed="rId1"/>
          <a:stretch/>
        </p:blipFill>
        <p:spPr>
          <a:xfrm>
            <a:off x="895320" y="1596960"/>
            <a:ext cx="7353360" cy="4353120"/>
          </a:xfrm>
          <a:prstGeom prst="rect">
            <a:avLst/>
          </a:prstGeom>
          <a:ln w="0">
            <a:noFill/>
          </a:ln>
        </p:spPr>
      </p:pic>
      <p:sp>
        <p:nvSpPr>
          <p:cNvPr id="100" name="CasetăText 4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Surse care furnizează informația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Fișierul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 – este o colecție de date care descrie o categorie de informații;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aza de dat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este o colecție de date care descrie activitatea unei organizații și care furnizează membrilor organizației acces la diferite informații, prezentate în diferite format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anca de dat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este o colecție de una sau mai multe baze de date care acoperă un subiect sau mai multe subiecte, destinate unei categorii largi de utilizatori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3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4665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Fișierele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pic>
        <p:nvPicPr>
          <p:cNvPr id="105" name="Substituent conținut 3" descr=""/>
          <p:cNvPicPr/>
          <p:nvPr/>
        </p:nvPicPr>
        <p:blipFill>
          <a:blip r:embed="rId1"/>
          <a:stretch/>
        </p:blipFill>
        <p:spPr>
          <a:xfrm>
            <a:off x="-6480" y="1504800"/>
            <a:ext cx="5615280" cy="4438800"/>
          </a:xfrm>
          <a:prstGeom prst="rect">
            <a:avLst/>
          </a:prstGeom>
          <a:ln w="0">
            <a:noFill/>
          </a:ln>
        </p:spPr>
      </p:pic>
      <p:sp>
        <p:nvSpPr>
          <p:cNvPr id="106" name="CasetăText 4"/>
          <p:cNvSpPr/>
          <p:nvPr/>
        </p:nvSpPr>
        <p:spPr>
          <a:xfrm>
            <a:off x="4788000" y="1359000"/>
            <a:ext cx="374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le de date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date create și întreținute cu un program de aplicaț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le text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numai coduri de caractere și sunt create și întreținute cu un editor de tex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document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coduri de caractere, imagini și comenzi pentru formatare. Sunt create cu un procesor de tex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cu imagini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imagini în format digital. Sunt create și întreținute  cu un program de grafic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video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imagini video în format 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audio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sunete în format 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setăText 4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49672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Baze de date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pic>
        <p:nvPicPr>
          <p:cNvPr id="109" name="Substituent conținut 3" descr=""/>
          <p:cNvPicPr/>
          <p:nvPr/>
        </p:nvPicPr>
        <p:blipFill>
          <a:blip r:embed="rId1"/>
          <a:stretch/>
        </p:blipFill>
        <p:spPr>
          <a:xfrm>
            <a:off x="847800" y="1335240"/>
            <a:ext cx="3870360" cy="2992320"/>
          </a:xfrm>
          <a:prstGeom prst="rect">
            <a:avLst/>
          </a:prstGeom>
          <a:ln w="0">
            <a:noFill/>
          </a:ln>
        </p:spPr>
      </p:pic>
      <p:sp>
        <p:nvSpPr>
          <p:cNvPr id="110" name="CasetăText 4"/>
          <p:cNvSpPr/>
          <p:nvPr/>
        </p:nvSpPr>
        <p:spPr>
          <a:xfrm>
            <a:off x="4716360" y="1403280"/>
            <a:ext cx="37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individuale – se mai numesc și baze de date pentru microcalculatoare. Sunt colecții de fișiere de date integrate folosite de o singură persoan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partajate – sunt stocate pe un calculator mare (server) și administrate de un specialist numit administratorul bazei de 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setăText 5"/>
          <p:cNvSpPr/>
          <p:nvPr/>
        </p:nvSpPr>
        <p:spPr>
          <a:xfrm>
            <a:off x="755640" y="387684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Utilizatorii pot avea acces la baza de date prin intermediul unei rețele locale sau globale. Există două tipuri de baze de 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pentru personalul operati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pentru personalul de deciz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distribuite – pot fi localizate în alt loc decât cel în care se găsește utilizatoru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le de date reprezintă fundamentul sistemelor informatice pentru conduc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setăText 5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Bănci de date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Tipuri de bănci de date: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ănci de date particular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sunt colecții foarte mari de date pe care o organizație le dezvoltă ca să acopere un anumit subiect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ănci de date public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cea mai mare bancă de date publică este cea stocată pe rețeaua Internet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	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	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Bazele de date sunt forme eficiente de organizare a volumelor mari de dat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5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8640" y="838080"/>
            <a:ext cx="76186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Eficiența organizării volumelor mari de date: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442117"/>
                </a:solidFill>
                <a:latin typeface="Corbel"/>
              </a:rPr>
              <a:t>Partajarea informațiilor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informațiile pot fi partajate între membrii organizației sau între compartimentele funcționale ale acesteia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442117"/>
                </a:solidFill>
                <a:latin typeface="Corbel"/>
              </a:rPr>
              <a:t>Reducerea volumului de dat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mai multe departamente pot avea acces la aceeași colecție de informații, în loc să își creeze fiecare independent propria colecți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442117"/>
                </a:solidFill>
                <a:latin typeface="Corbel"/>
              </a:rPr>
              <a:t>Integritatea datelor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datele vor fi actualizate o singură dată în baza de date la care au acces toate departamentel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8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4360" y="836640"/>
            <a:ext cx="77040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Securitatea informațiilor – poate fi asigurată mai bine dacă există o singură colecție de date independente centralizate, prin atribuirea de parole utilizatorilor care să permită accesul numai la informațiile necesare în activitatea lor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12120" indent="-31212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Controlul centralizat al datelor – administratorul bazei de date determină structura acesteia evaluează performanțele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0" name="CasetăText 2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7396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Criterii de utilizare a informațiilor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00000" y="1988640"/>
            <a:ext cx="73152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442117"/>
                </a:solidFill>
                <a:latin typeface="Corbel"/>
              </a:rPr>
              <a:t>Informații publice </a:t>
            </a: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– ce pot fi folosite de orice persoană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442117"/>
                </a:solidFill>
                <a:latin typeface="Corbel"/>
              </a:rPr>
              <a:t>Informații partajate </a:t>
            </a: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– ce pot fi folosite de grupuri de persoane, conform unor restricții impuse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442117"/>
                </a:solidFill>
                <a:latin typeface="Corbel"/>
              </a:rPr>
              <a:t>Informații private </a:t>
            </a: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– ce pot fi folosite numai de posesorul lor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3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9:39:17Z</dcterms:created>
  <dc:creator>admin2</dc:creator>
  <dc:description/>
  <dc:language>en-US</dc:language>
  <cp:lastModifiedBy>Nik</cp:lastModifiedBy>
  <dcterms:modified xsi:type="dcterms:W3CDTF">2011-11-01T18:49:34Z</dcterms:modified>
  <cp:revision>28</cp:revision>
  <dc:subject/>
  <dc:title>UTILIZAREA INFORMAȚIEI</dc:title>
</cp:coreProperties>
</file>