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406-BD4A-4791-A2A1-77AF871F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C48-DA23-4D4D-8AAA-5865A9CA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1EC-1CCC-4863-825D-6B56BE08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158-8626-4705-A0CD-9F54FF10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CF1E-A500-47AC-A149-06F1F8D0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BC51-EBE3-4761-BEBD-1077A03E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4725-ABD7-4289-A601-BE6BB53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D91-136F-4D43-8341-21BD7C0E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57BC-6B66-489C-9D7B-C86D2F0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830F-566C-42BD-B046-CCD05B5C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0F5E-273B-4F8E-A489-59C5CFD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2C6-CFC9-40A6-B1EE-113F9BE5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493-A6B1-4C96-B6DD-E504E72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EC89-6696-4C11-9175-06A39E9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96DF-53C7-4D48-965D-77DAA40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7A9-912F-468D-ACD1-9002FD72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8E50-9D5A-435F-8E69-058C7D8F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6DD77-6130-4E30-94E2-1FC677EB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EB9B1-BEE2-463F-ACFA-D79D94FF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2A5B-8454-4A6E-9360-EF7753F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AB3E-1DE8-4716-840B-A49BE03A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DF2E-645C-48DB-8CF9-0DBC9A6C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AC3-13FC-4D19-AE80-748F119C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AAB0F-DD1E-44CC-AF71-7B493380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A051-BE81-46D7-A7CE-C30E9A07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5672-AE5D-4D79-B121-C4ECA10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AC80-1685-42F5-AEE3-5C27B193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9F17-DFAE-41D9-92A5-3003FB9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7C3F-64BD-459E-A5B8-6BB192EC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F7E2-69C7-469F-A67C-2F77673C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8A5F-417A-44BF-BE79-A71224A1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947EF-01E6-410B-A0D4-3EAFFCE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7DA73-6300-499C-B418-A2E3B1E3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A9D-7CC3-45A1-B961-1D4C6B7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B275-AFD2-4459-A46D-1DFC1E5E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AE7E-1E9D-4379-B75D-AAC853DE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7217-7A22-49D3-A9B7-92106013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CA5E-45DC-4C16-A8AD-12E47C88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FBC38-2093-4662-B464-F3A0DC9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2FCD-CEF3-4EE0-BE1C-A9742A40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06C8-3244-4F39-993F-FCE08B73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2D2D7-38E4-4C79-9749-2DAC0866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1E98C-0827-4719-987E-13AE001F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E679E-8DA3-48BD-B526-03445ED2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008-FD00-4EAF-826A-858AF4E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EDD8-2EE4-4D75-87B9-EEB03060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30D70-6D1C-44E1-BEB8-AACCF86A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13CE-B2DA-4CDB-B2DB-D9B9BFEA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8BD2F-9844-4260-9233-4371ED2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CBE8-A673-4E86-AC2F-81921341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5C61-E6F3-4D61-B13C-1C32357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2F9DB-F2EF-4172-A79D-0824183F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3184B-F74B-49AF-A5FC-9F63ABD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9A2B-1A88-4F3A-AA91-44322118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6044-35EB-41DC-93B6-6EA23B08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2A3-0031-466E-BA13-06C228D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45FA-C7AB-436A-A47C-BFC6DF22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D2A-8911-488C-8FCB-5AA1632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C41-530E-4C6C-8683-FDD2BD9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ABE-A809-4B8A-A0F7-DAC42EF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6F6D-56ED-43EB-B431-8FBCECA0E4AE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7AA-D973-4B18-9D1E-CF90E5E4472E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Dreptunghi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Dreptunghi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9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10" name="Oval 15" descr=""/>
            <p:cNvPicPr/>
            <p:nvPr/>
          </p:nvPicPr>
          <p:blipFill>
            <a:blip r:embed="rId4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2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127-FAC0-47E9-910E-B537DD137B69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5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5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Dreptunghi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Dreptunghi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9696-E22F-4709-ACC9-D667BD02705C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adială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6" name="Tor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7" name="Tor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09" name="Dreptunghi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Dreptunghi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1" name="Dreptunghi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12" name="Dreptunghi 12" descr=""/>
            <p:cNvPicPr/>
            <p:nvPr/>
          </p:nvPicPr>
          <p:blipFill>
            <a:blip r:embed="rId4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4" name="Schemă logică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Schemă logică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BBB-D566-4163-BEA1-FBEFD11842D2}" type="slidenum">
              <a:rPr b="0" lang="ro-RO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2276280"/>
            <a:ext cx="74073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Prezentarea şi utilizarea informaţiilor în documente, prezentări,</a:t>
            </a:r>
            <a:r>
              <a:rPr b="1" lang="ro-RO" sz="4400" spc="-1" strike="noStrike">
                <a:solidFill>
                  <a:srgbClr val="572314"/>
                </a:solidFill>
                <a:latin typeface="Gill Sans MT"/>
              </a:rPr>
              <a:t>etc</a:t>
            </a:r>
            <a:r>
              <a:rPr b="1" lang="it-IT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reptunghi 3"/>
          <p:cNvSpPr/>
          <p:nvPr/>
        </p:nvSpPr>
        <p:spPr>
          <a:xfrm>
            <a:off x="2987640" y="549360"/>
            <a:ext cx="388800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Document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Prezentări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61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254320" cy="1506600"/>
          </a:xfrm>
          <a:prstGeom prst="rect">
            <a:avLst/>
          </a:prstGeom>
          <a:ln w="0">
            <a:noFill/>
          </a:ln>
        </p:spPr>
      </p:pic>
      <p:pic>
        <p:nvPicPr>
          <p:cNvPr id="262" name="Conector drept cu săgeată 9" descr=""/>
          <p:cNvPicPr/>
          <p:nvPr/>
        </p:nvPicPr>
        <p:blipFill>
          <a:blip r:embed="rId3"/>
          <a:stretch/>
        </p:blipFill>
        <p:spPr>
          <a:xfrm>
            <a:off x="4846680" y="1706400"/>
            <a:ext cx="27925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reptunghi 1"/>
          <p:cNvSpPr/>
          <p:nvPr/>
        </p:nvSpPr>
        <p:spPr>
          <a:xfrm>
            <a:off x="2268360" y="189000"/>
            <a:ext cx="5616720" cy="1800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ill Sans MT"/>
              </a:rPr>
              <a:t>Documentul – conține informații provenite din surse informaționale diferite sub formă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Oval 3"/>
          <p:cNvSpPr/>
          <p:nvPr/>
        </p:nvSpPr>
        <p:spPr>
          <a:xfrm>
            <a:off x="2411280" y="2349360"/>
            <a:ext cx="6337440" cy="3959280"/>
          </a:xfrm>
          <a:prstGeom prst="ellipse">
            <a:avLst/>
          </a:prstGeom>
          <a:solidFill>
            <a:srgbClr val="835e0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Dreptunghi 4"/>
          <p:cNvSpPr/>
          <p:nvPr/>
        </p:nvSpPr>
        <p:spPr>
          <a:xfrm>
            <a:off x="3564000" y="2852640"/>
            <a:ext cx="1224000" cy="79236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Dreptunghi 5"/>
          <p:cNvSpPr/>
          <p:nvPr/>
        </p:nvSpPr>
        <p:spPr>
          <a:xfrm>
            <a:off x="3635280" y="4005360"/>
            <a:ext cx="1297080" cy="718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tab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Dreptunghi 6"/>
          <p:cNvSpPr/>
          <p:nvPr/>
        </p:nvSpPr>
        <p:spPr>
          <a:xfrm>
            <a:off x="3780000" y="5084640"/>
            <a:ext cx="1223640" cy="7207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des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Dreptunghi 7"/>
          <p:cNvSpPr/>
          <p:nvPr/>
        </p:nvSpPr>
        <p:spPr>
          <a:xfrm>
            <a:off x="6156360" y="2852640"/>
            <a:ext cx="1295280" cy="64764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graf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Dreptunghi 8"/>
          <p:cNvSpPr/>
          <p:nvPr/>
        </p:nvSpPr>
        <p:spPr>
          <a:xfrm>
            <a:off x="6300720" y="3933720"/>
            <a:ext cx="1295640" cy="71928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imag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Dreptunghi 9"/>
          <p:cNvSpPr/>
          <p:nvPr/>
        </p:nvSpPr>
        <p:spPr>
          <a:xfrm>
            <a:off x="6372360" y="4941720"/>
            <a:ext cx="1439640" cy="790920"/>
          </a:xfrm>
          <a:prstGeom prst="rect">
            <a:avLst/>
          </a:pr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Gill Sans MT"/>
              </a:rPr>
              <a:t>simbo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Săgeată curbată la dreapta 10"/>
          <p:cNvSpPr/>
          <p:nvPr/>
        </p:nvSpPr>
        <p:spPr>
          <a:xfrm>
            <a:off x="611280" y="1989000"/>
            <a:ext cx="1944720" cy="3168720"/>
          </a:xfrm>
          <a:custGeom>
            <a:avLst/>
            <a:gdLst>
              <a:gd name="textAreaLeft" fmla="*/ 260280 w 1944720"/>
              <a:gd name="textAreaRight" fmla="*/ 1684440 w 1944720"/>
              <a:gd name="textAreaTop" fmla="*/ 609840 h 3168720"/>
              <a:gd name="textAreaBottom" fmla="*/ 23158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5" stAng="-5400000" swAng="-5400000"/>
                <a:lnTo>
                  <a:pt x="0" y="11628"/>
                </a:lnTo>
                <a:arcTo wR="21600" hR="8315" stAng="10800000" swAng="-3368950"/>
                <a:lnTo>
                  <a:pt x="16200" y="21336"/>
                </a:lnTo>
                <a:lnTo>
                  <a:pt x="21600" y="18287"/>
                </a:lnTo>
                <a:lnTo>
                  <a:pt x="16200" y="14709"/>
                </a:lnTo>
                <a:lnTo>
                  <a:pt x="16200" y="16366"/>
                </a:lnTo>
                <a:arcTo wR="21600" hR="8315" stAng="7431050" swAng="3100465"/>
                <a:lnTo>
                  <a:pt x="433" y="9972"/>
                </a:lnTo>
                <a:arcTo wR="21600" hR="8315" stAng="-10531514" swAng="5131514"/>
                <a:close/>
              </a:path>
              <a:path fill="darkenLess" w="21600" h="21600">
                <a:moveTo>
                  <a:pt x="21600" y="0"/>
                </a:moveTo>
                <a:arcTo wR="21600" hR="8315" stAng="-5400000" swAng="-5400000"/>
                <a:lnTo>
                  <a:pt x="0" y="8315"/>
                </a:lnTo>
                <a:arcTo wR="21600" hR="8315" stAng="10800000" swAng="-268486"/>
                <a:lnTo>
                  <a:pt x="433" y="9972"/>
                </a:lnTo>
                <a:arcTo wR="21600" hR="8315" stAng="-10531514" swAng="5131514"/>
                <a:close/>
              </a:path>
            </a:pathLst>
          </a:custGeom>
          <a:solidFill>
            <a:srgbClr val="c58d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CasetăText 1"/>
          <p:cNvSpPr/>
          <p:nvPr/>
        </p:nvSpPr>
        <p:spPr>
          <a:xfrm>
            <a:off x="1258920" y="620640"/>
            <a:ext cx="7416720" cy="61268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Gill Sans MT"/>
              </a:rPr>
              <a:t>Tipuri de documente: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Rapor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tudiul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Scrisoa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Adres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erere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Gill Sans MT"/>
              </a:rPr>
              <a:t>Circulara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reptunghi 3"/>
          <p:cNvSpPr/>
          <p:nvPr/>
        </p:nvSpPr>
        <p:spPr>
          <a:xfrm>
            <a:off x="1547640" y="549360"/>
            <a:ext cx="6480360" cy="122400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Gill Sans MT"/>
              </a:rPr>
              <a:t>Prezentarea informației numeric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Dreptunghi 4"/>
          <p:cNvSpPr/>
          <p:nvPr/>
        </p:nvSpPr>
        <p:spPr>
          <a:xfrm>
            <a:off x="1547640" y="2997360"/>
            <a:ext cx="2808360" cy="122364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Gill Sans MT"/>
              </a:rPr>
              <a:t>Tabe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Dreptunghi 5"/>
          <p:cNvSpPr/>
          <p:nvPr/>
        </p:nvSpPr>
        <p:spPr>
          <a:xfrm>
            <a:off x="6084720" y="2852640"/>
            <a:ext cx="2735280" cy="1368360"/>
          </a:xfrm>
          <a:prstGeom prst="rect">
            <a:avLst/>
          </a:prstGeom>
          <a:solidFill>
            <a:srgbClr val="835e01"/>
          </a:solidFill>
          <a:ln w="25560">
            <a:solidFill>
              <a:srgbClr val="4255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Gill Sans MT"/>
              </a:rPr>
              <a:t>Grafic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Conector drept cu săgeată 7" descr=""/>
          <p:cNvPicPr/>
          <p:nvPr/>
        </p:nvPicPr>
        <p:blipFill>
          <a:blip r:embed="rId2"/>
          <a:stretch/>
        </p:blipFill>
        <p:spPr>
          <a:xfrm>
            <a:off x="2755800" y="1706400"/>
            <a:ext cx="2114640" cy="1506600"/>
          </a:xfrm>
          <a:prstGeom prst="rect">
            <a:avLst/>
          </a:prstGeom>
          <a:ln w="0">
            <a:noFill/>
          </a:ln>
        </p:spPr>
      </p:pic>
      <p:pic>
        <p:nvPicPr>
          <p:cNvPr id="277" name="Conector drept cu săgeată 9" descr=""/>
          <p:cNvPicPr/>
          <p:nvPr/>
        </p:nvPicPr>
        <p:blipFill>
          <a:blip r:embed="rId3"/>
          <a:stretch/>
        </p:blipFill>
        <p:spPr>
          <a:xfrm>
            <a:off x="4700520" y="1706400"/>
            <a:ext cx="293868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asetăText 1"/>
          <p:cNvSpPr/>
          <p:nvPr/>
        </p:nvSpPr>
        <p:spPr>
          <a:xfrm>
            <a:off x="1116000" y="1052640"/>
            <a:ext cx="7488360" cy="5579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Gill Sans MT"/>
              </a:rPr>
              <a:t>Prezentarea</a:t>
            </a: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 – este o colecție de segmente de informație reprezentate prin diapozitive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ill Sans MT"/>
              </a:rPr>
              <a:t>Rolul unei prezentări este de a înlocui un discurs cu informații prezentate sub formă de tabele, diagrame, organigrame sau organizate în liste și coloane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8:57:50Z</dcterms:created>
  <dc:creator>user</dc:creator>
  <dc:description/>
  <dc:language>en-US</dc:language>
  <cp:lastModifiedBy>Nik</cp:lastModifiedBy>
  <dcterms:modified xsi:type="dcterms:W3CDTF">2011-11-01T18:29:50Z</dcterms:modified>
  <cp:revision>6</cp:revision>
  <dc:subject/>
  <dc:title>Prezentarea şi utilizarea informaţiilor în documente, prezentări, </dc:title>
</cp:coreProperties>
</file>