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BAC-CDF2-439F-A16B-09E0921A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6AA-78A7-4CA8-A5F0-1D2BD91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DDE-7652-4C6B-B992-99B010B0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D51-F372-49EE-9EDC-8D247E9B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59A4-D6DF-4D35-81A4-C67F7825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5D36-D78F-4ECB-A1AD-37C21680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93B8-B07F-492D-97EA-78A42B8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50F6-1E38-4F3D-A425-2E385F39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48BE-2DE7-4F94-9C6C-DB809A3E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E800-BCEB-44DA-912B-6C6BD173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13D6-6735-498B-9455-D55B23F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357-C43C-4D49-AA59-A8D51945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B9FB-9839-4265-84CB-677C3E71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D400-F02B-48A5-B033-21F132A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CC3-3400-469E-AD4A-FAF0A088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1FD2-792F-41AD-BDEB-AC24248C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542-85A6-4DE6-B8FF-EE72CDE7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DF2D-F6F7-4855-98F4-29433C8C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F959-595A-497E-B5AD-1D1FD7A6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2413-BFBB-4FF9-B734-1529503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10BC-D30E-45AC-8F66-087F1F16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682C-B4B4-4401-8C6B-42D2180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91D-907F-4865-AE5A-D2D4F53F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35B2-CB83-4A7E-8D78-7FC7DCF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0F77-4F9B-4C8F-927D-951B40A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15E5-CD7C-4095-B571-B51899D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7764-EAB4-47F3-A03B-1007E50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94E9D-9D73-4AF0-91B5-480773D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E94D-B499-4FF6-AB9A-FC3F82EC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E080-9320-4D74-8770-222A0277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6C7C-1ADA-466B-A4EE-FB6A1BEC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DE32E-CD86-4727-941C-846226A2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DF87-DE1C-46E5-9422-CEAB699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3B2-2883-4FF7-B487-A8B67012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DAAD-742A-4DF7-9408-618AC2A2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8B11-ED4B-4B3F-AC35-D01E7E45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0F59-261F-4E3E-A82F-0FD8B79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3B2F-5164-4022-9A7E-C9EAB50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6EB3-FBEE-4A3E-896B-E32F738F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5412-335A-42EF-82BC-BBD724D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B2AD-7146-47E1-B0F8-43D6849C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CBE5-DD57-47C8-AA3F-ED9EEFFA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9723-CAE7-43B6-9404-2B2461D4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3986-2A40-4FE5-BBB9-BBF7239A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EA9-8618-432D-A759-E767B233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72AF-D894-48B0-8B4B-7899F328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3242-30F0-4B07-B421-3017172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6B06-CC66-417C-AEA9-91101AE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3FF5-AA75-4765-B5BF-01A5F017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F91D-7BFC-4C7E-A1D9-FD2BC151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B4EE-E175-47EC-B846-5615C3A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A7EC-267B-4C96-BC1B-298B218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D9DC3-212D-4EB7-B1F6-6EE49688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21D2-7A4E-4E1A-A147-00DFD980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F3CC5-FAC4-429D-BE5C-808DC6B7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F2CE-85B5-43F6-AC8A-DD1A2E6C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ECE4-D206-421D-AE6B-0843E52B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2CB-CB70-4FF3-9113-74A7E97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F23-68BD-4AAD-95BE-CD25A1BE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988-8D42-4AE9-AAB1-0B6614E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0BF3-FD1D-4D93-AFC4-9F051C5A99AA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831D-9AF7-4FE0-9218-7A19FA84D866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Dreptunghi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Dreptunghi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B592-41F2-495D-9410-3C2BD6AB60CA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Dreptunghi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Dreptunghi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A5E-9A2E-4BB1-BFAA-AA3480D72E0B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1" name="Dreptunghi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Dreptunghi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4" name="Schemă logică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chemă logică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6CB-036D-4AEA-AC97-AF19D85500AF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2276280"/>
            <a:ext cx="74073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Prezentarea şi utilizarea informaţiilor în documente, prezentări,</a:t>
            </a:r>
            <a:r>
              <a:rPr b="1" lang="ro-RO" sz="4400" spc="-1" strike="noStrike">
                <a:solidFill>
                  <a:srgbClr val="572314"/>
                </a:solidFill>
                <a:latin typeface="Gill Sans MT"/>
              </a:rPr>
              <a:t>etc</a:t>
            </a: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reptunghi 3"/>
          <p:cNvSpPr/>
          <p:nvPr/>
        </p:nvSpPr>
        <p:spPr>
          <a:xfrm>
            <a:off x="2987640" y="549360"/>
            <a:ext cx="388800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Documen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Prezentări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1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254320" cy="1506600"/>
          </a:xfrm>
          <a:prstGeom prst="rect">
            <a:avLst/>
          </a:prstGeom>
          <a:ln w="0">
            <a:noFill/>
          </a:ln>
        </p:spPr>
      </p:pic>
      <p:pic>
        <p:nvPicPr>
          <p:cNvPr id="262" name="Conector drept cu săgeată 9" descr=""/>
          <p:cNvPicPr/>
          <p:nvPr/>
        </p:nvPicPr>
        <p:blipFill>
          <a:blip r:embed="rId3"/>
          <a:stretch/>
        </p:blipFill>
        <p:spPr>
          <a:xfrm>
            <a:off x="4846680" y="1706400"/>
            <a:ext cx="2792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reptunghi 1"/>
          <p:cNvSpPr/>
          <p:nvPr/>
        </p:nvSpPr>
        <p:spPr>
          <a:xfrm>
            <a:off x="2268360" y="189000"/>
            <a:ext cx="5616720" cy="1800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ill Sans MT"/>
              </a:rPr>
              <a:t>Documentul – conține informații provenite din surse informaționale diferite sub formă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2411280" y="2349360"/>
            <a:ext cx="6337440" cy="3959280"/>
          </a:xfrm>
          <a:prstGeom prst="ellipse">
            <a:avLst/>
          </a:prstGeom>
          <a:solidFill>
            <a:srgbClr val="835e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Dreptunghi 4"/>
          <p:cNvSpPr/>
          <p:nvPr/>
        </p:nvSpPr>
        <p:spPr>
          <a:xfrm>
            <a:off x="3564000" y="2852640"/>
            <a:ext cx="1224000" cy="79236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Dreptunghi 5"/>
          <p:cNvSpPr/>
          <p:nvPr/>
        </p:nvSpPr>
        <p:spPr>
          <a:xfrm>
            <a:off x="3635280" y="4005360"/>
            <a:ext cx="1297080" cy="718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ab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Dreptunghi 6"/>
          <p:cNvSpPr/>
          <p:nvPr/>
        </p:nvSpPr>
        <p:spPr>
          <a:xfrm>
            <a:off x="3780000" y="5084640"/>
            <a:ext cx="1223640" cy="7207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des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Dreptunghi 7"/>
          <p:cNvSpPr/>
          <p:nvPr/>
        </p:nvSpPr>
        <p:spPr>
          <a:xfrm>
            <a:off x="6156360" y="2852640"/>
            <a:ext cx="1295280" cy="64764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graf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Dreptunghi 8"/>
          <p:cNvSpPr/>
          <p:nvPr/>
        </p:nvSpPr>
        <p:spPr>
          <a:xfrm>
            <a:off x="6300720" y="3933720"/>
            <a:ext cx="1295640" cy="71928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Dreptunghi 9"/>
          <p:cNvSpPr/>
          <p:nvPr/>
        </p:nvSpPr>
        <p:spPr>
          <a:xfrm>
            <a:off x="6372360" y="4941720"/>
            <a:ext cx="1439640" cy="790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simbo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ăgeată curbată la dreapta 10"/>
          <p:cNvSpPr/>
          <p:nvPr/>
        </p:nvSpPr>
        <p:spPr>
          <a:xfrm>
            <a:off x="611280" y="1989000"/>
            <a:ext cx="1944720" cy="3168720"/>
          </a:xfrm>
          <a:custGeom>
            <a:avLst/>
            <a:gdLst>
              <a:gd name="textAreaLeft" fmla="*/ 260280 w 1944720"/>
              <a:gd name="textAreaRight" fmla="*/ 1684440 w 1944720"/>
              <a:gd name="textAreaTop" fmla="*/ 609840 h 3168720"/>
              <a:gd name="textAreaBottom" fmla="*/ 23158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5" stAng="-5400000" swAng="-5400000"/>
                <a:lnTo>
                  <a:pt x="0" y="11628"/>
                </a:lnTo>
                <a:arcTo wR="21600" hR="8315" stAng="10800000" swAng="-3368950"/>
                <a:lnTo>
                  <a:pt x="16200" y="21336"/>
                </a:lnTo>
                <a:lnTo>
                  <a:pt x="21600" y="18287"/>
                </a:lnTo>
                <a:lnTo>
                  <a:pt x="16200" y="14709"/>
                </a:lnTo>
                <a:lnTo>
                  <a:pt x="16200" y="16366"/>
                </a:lnTo>
                <a:arcTo wR="21600" hR="8315" stAng="7431050" swAng="3100465"/>
                <a:lnTo>
                  <a:pt x="433" y="9972"/>
                </a:lnTo>
                <a:arcTo wR="21600" hR="8315" stAng="-10531514" swAng="5131514"/>
                <a:close/>
              </a:path>
              <a:path fill="darkenLess" w="21600" h="21600">
                <a:moveTo>
                  <a:pt x="21600" y="0"/>
                </a:moveTo>
                <a:arcTo wR="21600" hR="8315" stAng="-5400000" swAng="-5400000"/>
                <a:lnTo>
                  <a:pt x="0" y="8315"/>
                </a:lnTo>
                <a:arcTo wR="21600" hR="8315" stAng="10800000" swAng="-268486"/>
                <a:lnTo>
                  <a:pt x="433" y="9972"/>
                </a:lnTo>
                <a:arcTo wR="21600" hR="8315" stAng="-10531514" swAng="5131514"/>
                <a:close/>
              </a:path>
            </a:pathLst>
          </a:cu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CasetăText 1"/>
          <p:cNvSpPr/>
          <p:nvPr/>
        </p:nvSpPr>
        <p:spPr>
          <a:xfrm>
            <a:off x="1258920" y="620640"/>
            <a:ext cx="7416720" cy="61268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Gill Sans MT"/>
              </a:rPr>
              <a:t>Tipuri de documente: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Rapor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tudiul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crisoa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Adres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ere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ircular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reptunghi 3"/>
          <p:cNvSpPr/>
          <p:nvPr/>
        </p:nvSpPr>
        <p:spPr>
          <a:xfrm>
            <a:off x="1547640" y="549360"/>
            <a:ext cx="648036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 numer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Tabe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Grafic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114640" cy="1506600"/>
          </a:xfrm>
          <a:prstGeom prst="rect">
            <a:avLst/>
          </a:prstGeom>
          <a:ln w="0">
            <a:noFill/>
          </a:ln>
        </p:spPr>
      </p:pic>
      <p:pic>
        <p:nvPicPr>
          <p:cNvPr id="277" name="Conector drept cu săgeată 9" descr=""/>
          <p:cNvPicPr/>
          <p:nvPr/>
        </p:nvPicPr>
        <p:blipFill>
          <a:blip r:embed="rId3"/>
          <a:stretch/>
        </p:blipFill>
        <p:spPr>
          <a:xfrm>
            <a:off x="4700520" y="1706400"/>
            <a:ext cx="293868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asetăText 1"/>
          <p:cNvSpPr/>
          <p:nvPr/>
        </p:nvSpPr>
        <p:spPr>
          <a:xfrm>
            <a:off x="1116000" y="1052640"/>
            <a:ext cx="7488360" cy="5579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Gill Sans MT"/>
              </a:rPr>
              <a:t>Prezentarea</a:t>
            </a: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 – este o colecție de segmente de informație reprezentate prin diapozitiv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Rolul unei prezentări este de a înlocui un discurs cu informații prezentate sub formă de tabele, diagrame, organigrame sau organizate în liste și coloan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7:50Z</dcterms:created>
  <dc:creator>user</dc:creator>
  <dc:description/>
  <dc:language>en-US</dc:language>
  <cp:lastModifiedBy>Nik</cp:lastModifiedBy>
  <dcterms:modified xsi:type="dcterms:W3CDTF">2011-11-01T18:29:50Z</dcterms:modified>
  <cp:revision>6</cp:revision>
  <dc:subject/>
  <dc:title>Prezentarea şi utilizarea informaţiilor în documente, prezentări, </dc:title>
</cp:coreProperties>
</file>