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9A0-C7CF-4A6E-8B36-A45BB209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210-25FF-44CF-B87F-3EA32E00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930-1E5B-4DEC-AEC4-74C6E3B4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DFD-54EC-4BAC-9745-A2C43FA4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2ECC-953C-4A88-9CF0-6416C8E5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DB8C-8FF4-4262-9D76-6FE668BA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436E-B79D-4928-B0EC-9FA94144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E205-E1F1-4534-9DCC-5716609E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A651-7DF7-4D2C-B291-CE75B9B1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8C59-5D43-4B5B-BA56-BB5458C8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BF88-6093-4E75-8C8A-7340AE9D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55E-581D-4FCF-8701-1AA7D37A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2F6B-F994-4E74-894D-160B02F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7B4D-6A3E-43C0-BFF2-B057AA95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CB45-5193-4E14-8F21-AAE4DD0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01B-930D-4FA9-B1A9-7EAD3551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C8F3-7707-4702-9CF7-AFF35A0F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2735-59D2-4472-AC15-D5AC482D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F4BF-DF8C-47E1-A60B-8ADFACCE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F3B8-D761-4E65-A7D6-168BF118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1171-033E-4446-8555-62CA3569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2E20-22AA-4C2D-B166-A868AF1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AA0-AE85-4541-99CC-7030D6EC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CCF3-ED6C-4A06-B228-7DC6485D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BCCA-6724-4344-8406-2273DE6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F292B-07A2-48B4-BF7B-7FD6286F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3EF2-5799-4684-AAD4-897971D1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798E-C9FD-4BCD-9B90-28A653A0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23F4C-E70B-420A-BC1F-31DD3EAD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7DB1-931F-4A7C-96B6-CC483F1F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4BFE-FF8B-48E2-AE1D-81DD3A17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0E50-7080-442C-B84A-34E54B73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1547-1066-472F-BFF8-A826BC4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19C-6449-42C3-8D5D-5B691743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38905-C2C2-4DC2-9700-1BF28926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ACFB2-52D9-4701-B30E-00B5E2CE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8604C-16E2-407F-8AA9-E4C67E27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16CD-6C83-4341-A11F-C351699D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9172-72E2-4578-A857-89B898D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9399-349F-4A3F-8636-9A5394DF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37B63-15A8-4C6F-A994-79BE65EF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DE50-BA28-4DE3-8B6B-F945206E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7139-1E49-42F7-A51A-3B21FCC7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FD3A-8C37-4020-A583-14C09C7F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24F-67C2-4FA0-9C19-506D499B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6C67-CC49-4F1B-91E7-1958CBDD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D8EE7-AD33-48BF-A51B-954DCBE6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72B5-CA0E-4940-9F71-F855F619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C2CB-CECA-4677-B949-27499258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E62A8-D6BA-4410-A16C-4F983ED8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087F0-06A7-4958-80EE-C873019A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ABBB-5BBF-4FF4-A76F-57EC82A5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DC103-0A0C-47CE-AFFC-354F334B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77FBA-BC57-4393-83C0-54DD2A13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A7371-23E7-4CA7-A2FE-90F4CB02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5AC-330C-4217-8C22-340FC551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3C7FE-EAF4-4037-88AE-7A0804A1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9FE-962C-4766-B630-B291A72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BC6-D369-44CC-829F-DFBBBF9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9E3-625C-42E4-9150-DA8259C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0CA5-0494-4D2B-939F-22BFA24C94F3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4F52-AD0D-4794-B241-CB0D96670254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Dreptunghi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Dreptunghi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55E8-5B81-4736-B3C4-3458A8633C3F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6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9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Dreptunghi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Dreptunghi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380-A80F-4562-80EB-67F4331934F8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6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9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1" name="Dreptunghi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Dreptunghi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4" name="Schemă logică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Schemă logică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ECF3-D522-4AD0-843E-8605D13C6FFD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2276280"/>
            <a:ext cx="74073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572314"/>
                </a:solidFill>
                <a:latin typeface="Gill Sans MT"/>
              </a:rPr>
              <a:t>Prezentarea şi utilizarea informaţiilor în documente, prezentări,</a:t>
            </a:r>
            <a:r>
              <a:rPr b="1" lang="ro-RO" sz="4400" spc="-1" strike="noStrike">
                <a:solidFill>
                  <a:srgbClr val="572314"/>
                </a:solidFill>
                <a:latin typeface="Gill Sans MT"/>
              </a:rPr>
              <a:t>etc</a:t>
            </a:r>
            <a:r>
              <a:rPr b="1" lang="it-IT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reptunghi 3"/>
          <p:cNvSpPr/>
          <p:nvPr/>
        </p:nvSpPr>
        <p:spPr>
          <a:xfrm>
            <a:off x="2987640" y="549360"/>
            <a:ext cx="3888000" cy="1224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ill Sans MT"/>
              </a:rPr>
              <a:t>Prezentarea informației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Dreptunghi 4"/>
          <p:cNvSpPr/>
          <p:nvPr/>
        </p:nvSpPr>
        <p:spPr>
          <a:xfrm>
            <a:off x="1547640" y="2997360"/>
            <a:ext cx="2808360" cy="122364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Gill Sans MT"/>
              </a:rPr>
              <a:t>Documen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Dreptunghi 5"/>
          <p:cNvSpPr/>
          <p:nvPr/>
        </p:nvSpPr>
        <p:spPr>
          <a:xfrm>
            <a:off x="6084720" y="2852640"/>
            <a:ext cx="2735280" cy="136836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Gill Sans MT"/>
              </a:rPr>
              <a:t>Prezentări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1" name="Conector drept cu săgeată 7" descr=""/>
          <p:cNvPicPr/>
          <p:nvPr/>
        </p:nvPicPr>
        <p:blipFill>
          <a:blip r:embed="rId2"/>
          <a:stretch/>
        </p:blipFill>
        <p:spPr>
          <a:xfrm>
            <a:off x="2755800" y="1706400"/>
            <a:ext cx="2254320" cy="1506600"/>
          </a:xfrm>
          <a:prstGeom prst="rect">
            <a:avLst/>
          </a:prstGeom>
          <a:ln w="0">
            <a:noFill/>
          </a:ln>
        </p:spPr>
      </p:pic>
      <p:pic>
        <p:nvPicPr>
          <p:cNvPr id="262" name="Conector drept cu săgeată 9" descr=""/>
          <p:cNvPicPr/>
          <p:nvPr/>
        </p:nvPicPr>
        <p:blipFill>
          <a:blip r:embed="rId3"/>
          <a:stretch/>
        </p:blipFill>
        <p:spPr>
          <a:xfrm>
            <a:off x="4846680" y="1706400"/>
            <a:ext cx="2792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reptunghi 1"/>
          <p:cNvSpPr/>
          <p:nvPr/>
        </p:nvSpPr>
        <p:spPr>
          <a:xfrm>
            <a:off x="2268360" y="189000"/>
            <a:ext cx="5616720" cy="1800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ill Sans MT"/>
              </a:rPr>
              <a:t>Documentul – conține informații provenite din surse informaționale diferite sub formă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2411280" y="2349360"/>
            <a:ext cx="6337440" cy="3959280"/>
          </a:xfrm>
          <a:prstGeom prst="ellipse">
            <a:avLst/>
          </a:prstGeom>
          <a:solidFill>
            <a:srgbClr val="835e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Dreptunghi 4"/>
          <p:cNvSpPr/>
          <p:nvPr/>
        </p:nvSpPr>
        <p:spPr>
          <a:xfrm>
            <a:off x="3564000" y="2852640"/>
            <a:ext cx="1224000" cy="79236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Dreptunghi 5"/>
          <p:cNvSpPr/>
          <p:nvPr/>
        </p:nvSpPr>
        <p:spPr>
          <a:xfrm>
            <a:off x="3635280" y="4005360"/>
            <a:ext cx="1297080" cy="7189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tab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Dreptunghi 6"/>
          <p:cNvSpPr/>
          <p:nvPr/>
        </p:nvSpPr>
        <p:spPr>
          <a:xfrm>
            <a:off x="3780000" y="5084640"/>
            <a:ext cx="1223640" cy="7207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des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Dreptunghi 7"/>
          <p:cNvSpPr/>
          <p:nvPr/>
        </p:nvSpPr>
        <p:spPr>
          <a:xfrm>
            <a:off x="6156360" y="2852640"/>
            <a:ext cx="1295280" cy="64764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graf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Dreptunghi 8"/>
          <p:cNvSpPr/>
          <p:nvPr/>
        </p:nvSpPr>
        <p:spPr>
          <a:xfrm>
            <a:off x="6300720" y="3933720"/>
            <a:ext cx="1295640" cy="71928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Dreptunghi 9"/>
          <p:cNvSpPr/>
          <p:nvPr/>
        </p:nvSpPr>
        <p:spPr>
          <a:xfrm>
            <a:off x="6372360" y="4941720"/>
            <a:ext cx="1439640" cy="7909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simbo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Săgeată curbată la dreapta 10"/>
          <p:cNvSpPr/>
          <p:nvPr/>
        </p:nvSpPr>
        <p:spPr>
          <a:xfrm>
            <a:off x="611280" y="1989000"/>
            <a:ext cx="1944720" cy="3168720"/>
          </a:xfrm>
          <a:custGeom>
            <a:avLst/>
            <a:gdLst>
              <a:gd name="textAreaLeft" fmla="*/ 260280 w 1944720"/>
              <a:gd name="textAreaRight" fmla="*/ 1684440 w 1944720"/>
              <a:gd name="textAreaTop" fmla="*/ 609840 h 3168720"/>
              <a:gd name="textAreaBottom" fmla="*/ 23158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5" stAng="-5400000" swAng="-5400000"/>
                <a:lnTo>
                  <a:pt x="0" y="11628"/>
                </a:lnTo>
                <a:arcTo wR="21600" hR="8315" stAng="10800000" swAng="-3368950"/>
                <a:lnTo>
                  <a:pt x="16200" y="21336"/>
                </a:lnTo>
                <a:lnTo>
                  <a:pt x="21600" y="18287"/>
                </a:lnTo>
                <a:lnTo>
                  <a:pt x="16200" y="14709"/>
                </a:lnTo>
                <a:lnTo>
                  <a:pt x="16200" y="16366"/>
                </a:lnTo>
                <a:arcTo wR="21600" hR="8315" stAng="7431050" swAng="3100465"/>
                <a:lnTo>
                  <a:pt x="433" y="9972"/>
                </a:lnTo>
                <a:arcTo wR="21600" hR="8315" stAng="-10531514" swAng="5131514"/>
                <a:close/>
              </a:path>
              <a:path fill="darkenLess" w="21600" h="21600">
                <a:moveTo>
                  <a:pt x="21600" y="0"/>
                </a:moveTo>
                <a:arcTo wR="21600" hR="8315" stAng="-5400000" swAng="-5400000"/>
                <a:lnTo>
                  <a:pt x="0" y="8315"/>
                </a:lnTo>
                <a:arcTo wR="21600" hR="8315" stAng="10800000" swAng="-268486"/>
                <a:lnTo>
                  <a:pt x="433" y="9972"/>
                </a:lnTo>
                <a:arcTo wR="21600" hR="8315" stAng="-10531514" swAng="5131514"/>
                <a:close/>
              </a:path>
            </a:pathLst>
          </a:cu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CasetăText 1"/>
          <p:cNvSpPr/>
          <p:nvPr/>
        </p:nvSpPr>
        <p:spPr>
          <a:xfrm>
            <a:off x="1258920" y="620640"/>
            <a:ext cx="7416720" cy="61268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Gill Sans MT"/>
              </a:rPr>
              <a:t>Tipuri de documente: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Rapor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Studiul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Scrisoare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Adres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Cerere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Circular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reptunghi 3"/>
          <p:cNvSpPr/>
          <p:nvPr/>
        </p:nvSpPr>
        <p:spPr>
          <a:xfrm>
            <a:off x="1547640" y="549360"/>
            <a:ext cx="6480360" cy="1224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ill Sans MT"/>
              </a:rPr>
              <a:t>Prezentarea informației numer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Dreptunghi 4"/>
          <p:cNvSpPr/>
          <p:nvPr/>
        </p:nvSpPr>
        <p:spPr>
          <a:xfrm>
            <a:off x="1547640" y="2997360"/>
            <a:ext cx="2808360" cy="122364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Gill Sans MT"/>
              </a:rPr>
              <a:t>Tabe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Dreptunghi 5"/>
          <p:cNvSpPr/>
          <p:nvPr/>
        </p:nvSpPr>
        <p:spPr>
          <a:xfrm>
            <a:off x="6084720" y="2852640"/>
            <a:ext cx="2735280" cy="136836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Gill Sans MT"/>
              </a:rPr>
              <a:t>Grafic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6" name="Conector drept cu săgeată 7" descr=""/>
          <p:cNvPicPr/>
          <p:nvPr/>
        </p:nvPicPr>
        <p:blipFill>
          <a:blip r:embed="rId2"/>
          <a:stretch/>
        </p:blipFill>
        <p:spPr>
          <a:xfrm>
            <a:off x="2755800" y="1706400"/>
            <a:ext cx="2114640" cy="1506600"/>
          </a:xfrm>
          <a:prstGeom prst="rect">
            <a:avLst/>
          </a:prstGeom>
          <a:ln w="0">
            <a:noFill/>
          </a:ln>
        </p:spPr>
      </p:pic>
      <p:pic>
        <p:nvPicPr>
          <p:cNvPr id="277" name="Conector drept cu săgeată 9" descr=""/>
          <p:cNvPicPr/>
          <p:nvPr/>
        </p:nvPicPr>
        <p:blipFill>
          <a:blip r:embed="rId3"/>
          <a:stretch/>
        </p:blipFill>
        <p:spPr>
          <a:xfrm>
            <a:off x="4700520" y="1706400"/>
            <a:ext cx="293868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CasetăText 1"/>
          <p:cNvSpPr/>
          <p:nvPr/>
        </p:nvSpPr>
        <p:spPr>
          <a:xfrm>
            <a:off x="1116000" y="1052640"/>
            <a:ext cx="7488360" cy="5579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Gill Sans MT"/>
              </a:rPr>
              <a:t>Prezentarea</a:t>
            </a:r>
            <a:r>
              <a:rPr b="0" lang="ro-RO" sz="4000" spc="-1" strike="noStrike">
                <a:solidFill>
                  <a:srgbClr val="000000"/>
                </a:solidFill>
                <a:latin typeface="Gill Sans MT"/>
              </a:rPr>
              <a:t> – este o colecție de segmente de informație reprezentate prin diapozitive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Gill Sans MT"/>
              </a:rPr>
              <a:t>Rolul unei prezentări este de a înlocui un discurs cu informații prezentate sub formă de tabele, diagrame, organigrame sau organizate în liste și coloan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7:50Z</dcterms:created>
  <dc:creator>user</dc:creator>
  <dc:description/>
  <dc:language>en-US</dc:language>
  <cp:lastModifiedBy>Nik</cp:lastModifiedBy>
  <dcterms:modified xsi:type="dcterms:W3CDTF">2011-11-01T18:29:50Z</dcterms:modified>
  <cp:revision>6</cp:revision>
  <dc:subject/>
  <dc:title>Prezentarea şi utilizarea informaţiilor în documente, prezentări, </dc:title>
</cp:coreProperties>
</file>