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4B4E-9369-44BE-B621-E4FE35F1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2B43-3D5D-4D31-9E3B-FCE5B1F9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F94-4070-4B01-B945-5B50AD0D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8479-7D07-423D-BD01-5F12E5B3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F85F-2A71-42E9-BA69-579FB958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4E5B-006E-4D10-899E-A3977FB6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6D4A-BB70-42E7-839C-3534631B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0E02-5251-4B3F-9332-EDCEF632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C423-366A-4951-B80B-4E3A59E7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9D47-0427-43EB-A0B8-4DCD23C4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11C3-A04B-4A67-8049-81DA1E40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593E-5772-4868-8033-548D5784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0E78-7A92-4FF0-9473-537421B7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AB0A-42FD-4FC2-985D-FA13BD93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4B71-D39B-42F7-8307-DE0E0F5B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E551-9865-4FBE-BFF8-E9203D47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0B21-7B53-4496-A080-D1F55F0A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1D681-32FC-47D4-8F0F-C660A6AF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51B8D-D62E-4A95-9EBB-25F58A58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6524B-8B43-4989-A40D-BB10459A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FF986-D26C-45AC-8460-5AFD7ECA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A1AEB-17EA-4BF9-8F8A-1B849FE9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595C-0B87-4322-9B49-0ED0153D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995D9-1604-418E-9947-486B6754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54A77-B2A8-4C2E-B6F7-8676029D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546C4-EB3C-4F3D-ABB2-273EE6A6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5563C-05E5-479F-8E2B-DEC5FEFD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A5E2F-88A8-4715-AE46-4887ECD3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E2458-6443-452F-8D32-9C46AC6B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FD40C-C9B6-49D6-99C3-B1FF1F46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F778D-1D8C-455E-8197-F2EA5567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5B398-A523-42BE-93E4-18E40F79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17FF6-A4CE-41DF-9EB7-35ABB7E7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B90D-94D4-46C2-8091-463DA620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13EC3-2AF7-40F2-AFDB-D7302D0F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81842-0950-449B-ACDC-2C6119D5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FC91E-5A00-484B-9722-E82F429C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151E8-63B6-4E0F-88A1-ADABD2F8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BF687-DEC8-4C15-AFFA-832BD065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18E76-582A-46F1-A57C-CCE106C6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05D23-3640-43E8-975F-6A57D497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7C809-4FB6-4CF6-AA17-5EAB58C4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45B45-89F1-4E74-8EDC-079AB706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33CD7-705E-4697-BC07-64C363CC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99FF-3EFF-4C41-8535-EF1D6BE5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BF93A-FA73-420E-BB67-335FE03C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038CA-7DC6-46A4-B06B-0D519C12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45C47-5B82-41C1-99D5-58A836AE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A85C0-14F0-4416-90CB-69A5F3B6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C350B-D13E-4235-A9F1-99470295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DA8AA-975E-44B7-82D8-8D3D6D2B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97F1C-C904-43C9-9D53-55996DF3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B53E4-92CE-4BC6-A733-642C4047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EBC96-89BB-47F1-8AED-4C7D51A1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E529E-8D39-4445-B396-423C8B61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C469-330C-4862-B8DF-B927CBE7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7FBD9-C13A-48AC-999A-C5E06863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50FA-20D3-4637-8A31-6BE1E579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77ED-CDA5-4BA3-B414-C548E38F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AF96-C672-44BC-8FF6-18D0F39F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adială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Tor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Tor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Dreptunghi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362E-4D54-4F81-AD2E-A5E9377BCE28}" type="slidenum"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Dreptunghi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adială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Tor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Tor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Dreptunghi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Dreptunghi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B92B-92D7-4BD2-88DA-A0AF34BB4BE0}" type="slidenum"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adială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Tor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Tor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Dreptunghi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Dreptunghi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Dreptunghi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Dreptunghi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9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Oval 15" descr=""/>
            <p:cNvPicPr/>
            <p:nvPr/>
          </p:nvPicPr>
          <p:blipFill>
            <a:blip r:embed="rId4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12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B8C1-B986-4DD9-88AE-6B739AC3CF87}" type="slidenum"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adială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6" name="Tor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Tor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9" name="Dreptunghi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Dreptunghi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Dreptunghi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Dreptunghi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632B-605E-4AEC-8B3F-CAD98052987F}" type="slidenum"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adială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06" name="Tor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Tor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09" name="Dreptunghi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Dreptunghi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11" name="Dreptunghi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Dreptunghi 12" descr=""/>
            <p:cNvPicPr/>
            <p:nvPr/>
          </p:nvPicPr>
          <p:blipFill>
            <a:blip r:embed="rId4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14" name="Schemă logică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Schemă logică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9EA2-6A9F-4C4E-BB04-1303FDC8E7D9}" type="slidenum"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03280" y="2276280"/>
            <a:ext cx="740736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572314"/>
                </a:solidFill>
                <a:latin typeface="Gill Sans MT"/>
              </a:rPr>
              <a:t>Prezentarea şi utilizarea informaţiilor în documente, prezentări,</a:t>
            </a:r>
            <a:r>
              <a:rPr b="1" lang="ro-RO" sz="4400" spc="-1" strike="noStrike">
                <a:solidFill>
                  <a:srgbClr val="572314"/>
                </a:solidFill>
                <a:latin typeface="Gill Sans MT"/>
              </a:rPr>
              <a:t>etc</a:t>
            </a:r>
            <a:r>
              <a:rPr b="1" lang="it-IT" sz="44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reptunghi 3"/>
          <p:cNvSpPr/>
          <p:nvPr/>
        </p:nvSpPr>
        <p:spPr>
          <a:xfrm>
            <a:off x="2987640" y="549360"/>
            <a:ext cx="3888000" cy="122400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Gill Sans MT"/>
              </a:rPr>
              <a:t>Prezentarea informației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Dreptunghi 4"/>
          <p:cNvSpPr/>
          <p:nvPr/>
        </p:nvSpPr>
        <p:spPr>
          <a:xfrm>
            <a:off x="1547640" y="2997360"/>
            <a:ext cx="2808360" cy="122364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Gill Sans MT"/>
              </a:rPr>
              <a:t>Document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Dreptunghi 5"/>
          <p:cNvSpPr/>
          <p:nvPr/>
        </p:nvSpPr>
        <p:spPr>
          <a:xfrm>
            <a:off x="6084720" y="2852640"/>
            <a:ext cx="2735280" cy="136836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Gill Sans MT"/>
              </a:rPr>
              <a:t>Prezentări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1" name="Conector drept cu săgeată 7" descr=""/>
          <p:cNvPicPr/>
          <p:nvPr/>
        </p:nvPicPr>
        <p:blipFill>
          <a:blip r:embed="rId2"/>
          <a:stretch/>
        </p:blipFill>
        <p:spPr>
          <a:xfrm>
            <a:off x="2755800" y="1706400"/>
            <a:ext cx="2254320" cy="1506600"/>
          </a:xfrm>
          <a:prstGeom prst="rect">
            <a:avLst/>
          </a:prstGeom>
          <a:ln w="0">
            <a:noFill/>
          </a:ln>
        </p:spPr>
      </p:pic>
      <p:pic>
        <p:nvPicPr>
          <p:cNvPr id="262" name="Conector drept cu săgeată 9" descr=""/>
          <p:cNvPicPr/>
          <p:nvPr/>
        </p:nvPicPr>
        <p:blipFill>
          <a:blip r:embed="rId3"/>
          <a:stretch/>
        </p:blipFill>
        <p:spPr>
          <a:xfrm>
            <a:off x="4846680" y="1706400"/>
            <a:ext cx="279252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reptunghi 1"/>
          <p:cNvSpPr/>
          <p:nvPr/>
        </p:nvSpPr>
        <p:spPr>
          <a:xfrm>
            <a:off x="2268360" y="189000"/>
            <a:ext cx="5616720" cy="180000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ill Sans MT"/>
              </a:rPr>
              <a:t>Documentul – conține informații provenite din surse informaționale diferite sub formă d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Oval 3"/>
          <p:cNvSpPr/>
          <p:nvPr/>
        </p:nvSpPr>
        <p:spPr>
          <a:xfrm>
            <a:off x="2411280" y="2349360"/>
            <a:ext cx="6337440" cy="3959280"/>
          </a:xfrm>
          <a:prstGeom prst="ellipse">
            <a:avLst/>
          </a:prstGeom>
          <a:solidFill>
            <a:srgbClr val="835e01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Dreptunghi 4"/>
          <p:cNvSpPr/>
          <p:nvPr/>
        </p:nvSpPr>
        <p:spPr>
          <a:xfrm>
            <a:off x="3564000" y="2852640"/>
            <a:ext cx="1224000" cy="792360"/>
          </a:xfrm>
          <a:prstGeom prst="rect">
            <a:avLst/>
          </a:pr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ill Sans MT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Dreptunghi 5"/>
          <p:cNvSpPr/>
          <p:nvPr/>
        </p:nvSpPr>
        <p:spPr>
          <a:xfrm>
            <a:off x="3635280" y="4005360"/>
            <a:ext cx="1297080" cy="718920"/>
          </a:xfrm>
          <a:prstGeom prst="rect">
            <a:avLst/>
          </a:pr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ill Sans MT"/>
              </a:rPr>
              <a:t>tab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Dreptunghi 6"/>
          <p:cNvSpPr/>
          <p:nvPr/>
        </p:nvSpPr>
        <p:spPr>
          <a:xfrm>
            <a:off x="3780000" y="5084640"/>
            <a:ext cx="1223640" cy="720720"/>
          </a:xfrm>
          <a:prstGeom prst="rect">
            <a:avLst/>
          </a:pr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ill Sans MT"/>
              </a:rPr>
              <a:t>des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Dreptunghi 7"/>
          <p:cNvSpPr/>
          <p:nvPr/>
        </p:nvSpPr>
        <p:spPr>
          <a:xfrm>
            <a:off x="6156360" y="2852640"/>
            <a:ext cx="1295280" cy="647640"/>
          </a:xfrm>
          <a:prstGeom prst="rect">
            <a:avLst/>
          </a:pr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ill Sans MT"/>
              </a:rPr>
              <a:t>grafi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Dreptunghi 8"/>
          <p:cNvSpPr/>
          <p:nvPr/>
        </p:nvSpPr>
        <p:spPr>
          <a:xfrm>
            <a:off x="6300720" y="3933720"/>
            <a:ext cx="1295640" cy="719280"/>
          </a:xfrm>
          <a:prstGeom prst="rect">
            <a:avLst/>
          </a:pr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ill Sans MT"/>
              </a:rPr>
              <a:t>imag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Dreptunghi 9"/>
          <p:cNvSpPr/>
          <p:nvPr/>
        </p:nvSpPr>
        <p:spPr>
          <a:xfrm>
            <a:off x="6372360" y="4941720"/>
            <a:ext cx="1439640" cy="790920"/>
          </a:xfrm>
          <a:prstGeom prst="rect">
            <a:avLst/>
          </a:pr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ill Sans MT"/>
              </a:rPr>
              <a:t>simbo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Săgeată curbată la dreapta 10"/>
          <p:cNvSpPr/>
          <p:nvPr/>
        </p:nvSpPr>
        <p:spPr>
          <a:xfrm>
            <a:off x="611280" y="1989000"/>
            <a:ext cx="1944720" cy="3168720"/>
          </a:xfrm>
          <a:custGeom>
            <a:avLst/>
            <a:gdLst>
              <a:gd name="textAreaLeft" fmla="*/ 260280 w 1944720"/>
              <a:gd name="textAreaRight" fmla="*/ 1684440 w 1944720"/>
              <a:gd name="textAreaTop" fmla="*/ 609840 h 3168720"/>
              <a:gd name="textAreaBottom" fmla="*/ 23158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15" stAng="-5400000" swAng="-5400000"/>
                <a:lnTo>
                  <a:pt x="0" y="11628"/>
                </a:lnTo>
                <a:arcTo wR="21600" hR="8315" stAng="10800000" swAng="-3368950"/>
                <a:lnTo>
                  <a:pt x="16200" y="21336"/>
                </a:lnTo>
                <a:lnTo>
                  <a:pt x="21600" y="18287"/>
                </a:lnTo>
                <a:lnTo>
                  <a:pt x="16200" y="14709"/>
                </a:lnTo>
                <a:lnTo>
                  <a:pt x="16200" y="16366"/>
                </a:lnTo>
                <a:arcTo wR="21600" hR="8315" stAng="7431050" swAng="3100465"/>
                <a:lnTo>
                  <a:pt x="433" y="9972"/>
                </a:lnTo>
                <a:arcTo wR="21600" hR="8315" stAng="-10531514" swAng="5131514"/>
                <a:close/>
              </a:path>
              <a:path fill="darkenLess" w="21600" h="21600">
                <a:moveTo>
                  <a:pt x="21600" y="0"/>
                </a:moveTo>
                <a:arcTo wR="21600" hR="8315" stAng="-5400000" swAng="-5400000"/>
                <a:lnTo>
                  <a:pt x="0" y="8315"/>
                </a:lnTo>
                <a:arcTo wR="21600" hR="8315" stAng="10800000" swAng="-268486"/>
                <a:lnTo>
                  <a:pt x="433" y="9972"/>
                </a:lnTo>
                <a:arcTo wR="21600" hR="8315" stAng="-10531514" swAng="5131514"/>
                <a:close/>
              </a:path>
            </a:pathLst>
          </a:cu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CasetăText 1"/>
          <p:cNvSpPr/>
          <p:nvPr/>
        </p:nvSpPr>
        <p:spPr>
          <a:xfrm>
            <a:off x="1258920" y="620640"/>
            <a:ext cx="7416720" cy="61268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Gill Sans MT"/>
              </a:rPr>
              <a:t>Tipuri de documente: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Rapor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Studiul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Scrisoarea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Adresa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Cererea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Oferta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Circulara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reptunghi 3"/>
          <p:cNvSpPr/>
          <p:nvPr/>
        </p:nvSpPr>
        <p:spPr>
          <a:xfrm>
            <a:off x="1547640" y="549360"/>
            <a:ext cx="6480360" cy="122400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Gill Sans MT"/>
              </a:rPr>
              <a:t>Prezentarea informației numeric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Dreptunghi 4"/>
          <p:cNvSpPr/>
          <p:nvPr/>
        </p:nvSpPr>
        <p:spPr>
          <a:xfrm>
            <a:off x="1547640" y="2997360"/>
            <a:ext cx="2808360" cy="122364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Gill Sans MT"/>
              </a:rPr>
              <a:t>Tabe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Dreptunghi 5"/>
          <p:cNvSpPr/>
          <p:nvPr/>
        </p:nvSpPr>
        <p:spPr>
          <a:xfrm>
            <a:off x="6084720" y="2852640"/>
            <a:ext cx="2735280" cy="136836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Gill Sans MT"/>
              </a:rPr>
              <a:t>Grafice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6" name="Conector drept cu săgeată 7" descr=""/>
          <p:cNvPicPr/>
          <p:nvPr/>
        </p:nvPicPr>
        <p:blipFill>
          <a:blip r:embed="rId2"/>
          <a:stretch/>
        </p:blipFill>
        <p:spPr>
          <a:xfrm>
            <a:off x="2755800" y="1706400"/>
            <a:ext cx="2114640" cy="1506600"/>
          </a:xfrm>
          <a:prstGeom prst="rect">
            <a:avLst/>
          </a:prstGeom>
          <a:ln w="0">
            <a:noFill/>
          </a:ln>
        </p:spPr>
      </p:pic>
      <p:pic>
        <p:nvPicPr>
          <p:cNvPr id="277" name="Conector drept cu săgeată 9" descr=""/>
          <p:cNvPicPr/>
          <p:nvPr/>
        </p:nvPicPr>
        <p:blipFill>
          <a:blip r:embed="rId3"/>
          <a:stretch/>
        </p:blipFill>
        <p:spPr>
          <a:xfrm>
            <a:off x="4700520" y="1706400"/>
            <a:ext cx="293868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CasetăText 1"/>
          <p:cNvSpPr/>
          <p:nvPr/>
        </p:nvSpPr>
        <p:spPr>
          <a:xfrm>
            <a:off x="1116000" y="1052640"/>
            <a:ext cx="7488360" cy="55792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Gill Sans MT"/>
              </a:rPr>
              <a:t>Prezentarea</a:t>
            </a:r>
            <a:r>
              <a:rPr b="0" lang="ro-RO" sz="4000" spc="-1" strike="noStrike">
                <a:solidFill>
                  <a:srgbClr val="000000"/>
                </a:solidFill>
                <a:latin typeface="Gill Sans MT"/>
              </a:rPr>
              <a:t> – este o colecție de segmente de informație reprezentate prin diapozitive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Gill Sans MT"/>
              </a:rPr>
              <a:t>Rolul unei prezentări este de a înlocui un discurs cu informații prezentate sub formă de tabele, diagrame, organigrame sau organizate în liste și coloane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8:57:50Z</dcterms:created>
  <dc:creator>user</dc:creator>
  <dc:description/>
  <dc:language>en-US</dc:language>
  <cp:lastModifiedBy>Nik</cp:lastModifiedBy>
  <dcterms:modified xsi:type="dcterms:W3CDTF">2011-11-01T18:29:50Z</dcterms:modified>
  <cp:revision>6</cp:revision>
  <dc:subject/>
  <dc:title>Prezentarea şi utilizarea informaţiilor în documente, prezentări, </dc:title>
</cp:coreProperties>
</file>