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94CA-0E68-4121-AF7A-8C11EB6F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F103-B231-4535-BEF9-00B50114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B508-8730-4C72-8D7A-74BFE0F9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BC55-23CA-458A-8D42-F5DCFB61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F00B-5644-458A-9B90-98F7F30B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953B-016B-42DE-B4BB-960FF937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D9CB-9872-4026-A4AA-4A60E737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2A6A-5DB5-48A8-851C-8CE88B9C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4727-9168-429E-9FD2-B9ACF61D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2D8B-32E5-4EE5-A18A-29FF163B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6CCC-D84B-4C7E-AF55-A24ED57B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4FCA-B128-468F-A1D4-3502EB7B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761D-D5C1-4151-9083-4769DC83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07D9-CA1A-40F1-84E0-125E7D03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A7B0-50EE-4A62-957F-DDB788CF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B76B-1325-434D-BDAC-10328C8C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18A6-58DB-486F-A16A-3EFE0846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682DC-D50E-48A7-98C5-1D3FE824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97AC8-3D3B-4C1E-AC96-6128B7A4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FF621-4929-42F2-9A7E-138E1D09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7D8FA-C15E-44BB-9A96-85BF4ED9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6BFEB-2906-4B44-99DF-EA41B72D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4214-F8EB-47C8-A939-5315E2E1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08B72-CD9B-4149-91EA-C3B74A0D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C4C19-88C3-4EAA-873F-1AEE42EE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FD1D4-2A0B-4F8B-95F2-A6A6058D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5001C-9577-4910-B4BB-DCD2D6D5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8D87A-1656-4528-AD6E-CB4A6B8F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35700-690C-43B7-9AED-CC4FE5BB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B6770-74C8-47CB-98A6-D26AD5FB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E8EBF-A0A0-481E-A425-5C791CC9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2EF95-3BE5-42A3-9390-C684E382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882C8-575D-4AAF-91BA-D1C4B45F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00F6-C251-4E27-ADA0-C15CDCD3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04C4A-BA41-4B61-A6B8-BB94713A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3AD67-F1D7-42C5-B2DC-0968641F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9D6B4-FDFA-4286-A200-B81726F0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66E7C-8E00-404D-AFF2-CE0FBDA5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90E41-7C2E-49F4-8C09-C6A3E20C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F64DA-EB0F-4FCD-A8B5-B6BAAD30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C56D2-2A1C-43AF-97C5-00FE4BB7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0612A-CAD9-4CCB-8636-02E88053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6AC33-55DA-40BA-947E-3EF4A64E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5D192-C847-47CB-B15E-3CE97C92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1A81-01BB-431D-A9FF-96B76178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4EEC5-3392-4FE4-AE98-4776ECA9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C678C-F7EE-49CC-903C-ABA1B3EC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A3F38-D1E9-4E5E-AD4F-8FB30594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B980F-299F-47C7-8D6B-A1C1930A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3D979-95E3-4E48-8BF0-8DD7CD14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32853-4580-4CFC-8AD7-42E6D9A7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7F0D9-2729-4CEC-9833-51430C16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885D5-B185-4B3B-BE1A-E6D5835E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FC030-EE41-47E8-B569-6DBE3F50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68B0A-5D1A-433B-A0F9-9C26F62E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97BD-05A7-4A87-846F-2D25276D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46808-C820-40F2-B9A2-F14B8FCA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C7068-55A4-4DEA-AFAA-B1C6EA0D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BA9A2-ECC8-4CB8-B0CD-E6F47EE1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7923A-B219-4A99-92F9-53E5E4E0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48E76-793B-49D0-830E-AEB5F504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2490C-D056-4116-9D10-04AFE318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1A98F-12B0-4EF0-9982-D57E97B2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33CE0-1B39-4B6C-BE2A-DB55CCC3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F1E5F-96D8-4B2E-87B5-DFF9DEDB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3E455-6586-4D0F-B3EC-89B1E407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6828-A3DC-4B1B-8C8C-43DCF24B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3AEC9-2C7F-4B5D-8E47-B2BCDA5B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24434-5A11-423B-BCD3-2FF26950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40538-3AD8-4F5C-BBAC-5A65E891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245E3-9657-4019-8934-A0650CCB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6EE4F-5C1B-46E3-B0AE-1C272CA8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8C683-2F45-4D7E-9521-F947CB15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DF837-BC4C-4ACA-95EA-B3FE3C14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741D2-3349-4B43-B6C2-F0CBB3CD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1F027-6D80-415D-B011-41631888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DDF52-FA4F-4944-A663-32E5A6C4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64BA-8FF3-4054-8901-DFE36D0A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5AF74-5F4F-41C9-A032-5E8344DB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0F49A-3738-4BDA-8DCD-F1C27552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59C3C-A9A4-4F33-8A0B-2B5BA528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7DC4F-0416-4C66-B863-80CF97F7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5730B-12C0-447A-A685-23DFB0A64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C5002-4E3D-48A8-89AC-3ABA238A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D4683-C0D5-450C-89E7-B65AC4C4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8FD51-768F-4878-803A-09E33884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59ED9-E099-45DE-9230-5D26F4C4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BC6BB-F3E1-48B4-80B6-2EA8109E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677C-2961-4763-B291-1E701814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0E958-93F2-4A66-9270-CC0732F0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F1631-3D1C-4621-AAD7-C33F9872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843A9-23A5-4E20-887C-F177EF1A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CC729-23F3-45F5-B6E5-B5F09966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0B655-FA93-4F25-97A4-AE82B666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F26A3-E13A-4603-AC57-9AEFA692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24706-2503-4F69-805E-22DDA82F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unghi drep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drep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ED43-A7EE-42BF-9427-1FD7B858735F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unghi drept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a8a8a"/>
              </a:gs>
              <a:gs pos="50000">
                <a:srgbClr val="e1e1e1"/>
              </a:gs>
              <a:gs pos="100000">
                <a:srgbClr val="8a8a8a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re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ă liberă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aea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ă liberă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ă liberă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ă liberă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drept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B6EC-CC9C-4F2D-9481-8E080C9A731A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În zigzag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În zigzag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4A4B-30B4-40CC-840C-49B3DD7B99E1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3CC9-7A3B-42D0-9E44-AFFE102D2661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122D-C982-41B2-9639-8782AE4FE17E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0E10-0667-4324-AF86-348569A08C86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2432-4C24-454F-A9C1-E7B49C90BD1E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ă liberă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ă liberă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unghi drept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unghi drept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drept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În zigzag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În zigzag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CD98-1EDD-421A-99B9-5926BC25995B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u 1" descr=""/>
          <p:cNvPicPr/>
          <p:nvPr/>
        </p:nvPicPr>
        <p:blipFill>
          <a:blip r:embed="rId1"/>
          <a:stretch/>
        </p:blipFill>
        <p:spPr>
          <a:xfrm>
            <a:off x="603360" y="542880"/>
            <a:ext cx="7785000" cy="1839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23640" y="2852640"/>
            <a:ext cx="8134200" cy="195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ipuri de informaţii / date: numerice, şiruri de caractere (texte), imagini, logi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Lucida Sans Unicode"/>
              </a:rPr>
              <a:t>Tipul datei determină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domeniul de valori pe care le poate lua dat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prelucrările care se pot face cu acea dată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259920"/>
            <a:ext cx="914400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Lucida Sans Unicode"/>
              </a:rPr>
              <a:t>TIPURI DE DA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1.Tipul numeric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este folosit pentru reprezentarea informației numerice(valorile numerice reale). Se pot folosi cifre de la 0-9,virgula, punctul, %, E, 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120.000=12X10</a:t>
            </a:r>
            <a:r>
              <a:rPr b="0" lang="ro-RO" sz="20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=12E4(scriere științifică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elucrările care se pot face cu acest tip de dată sunt prelucrările aritmetice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2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Tipul șir de caractere 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ste folosit pentru reprezentarea informației alfanumerice. Prelucrările care se pot face pe acest tip sunt concatenarea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Tipul logic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– este folosit pentru reprezentarea datelor care nu pot lua decât două valori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true sau fals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Se pot realiza prelucrări logic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Tipul dată calendaristică și tim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Tipul imag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Fiși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2. Foi de calcul 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ogram de calcul tabelar (de ex. Exce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 </a:t>
            </a:r>
            <a:r>
              <a:rPr b="1" lang="ro-RO" sz="2800" spc="-1" strike="noStrike">
                <a:solidFill>
                  <a:srgbClr val="000000"/>
                </a:solidFill>
                <a:latin typeface="Lucida Sans Unicode"/>
              </a:rPr>
              <a:t>Tabe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- permit gruparea unor date înrudite și este format din lini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Baze de date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sunt formate din unul sau mai multe tabele între care se pot stabili legături numite relații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Lis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u 2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Aplicație: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onstruiți în registrul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xemp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, un tabel cu cheltuielile lunare pentru utilități: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ă, gaze și electricitat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Tabelul va avea 15 coloane: una pentru tipul utilității, 12 pentru fiecare lună, una pentru totalul pe an al cheltuielilor pentru o utilitate și una cu media anuală a cheltuielilor pentru o utilitate. Când executați operații de copiere sau de selectare a celulelor de pe un rând, pentru a putea lucra cu toate coloanele micșorați scara de vizualizare la 50 %. După ce executați operația, reveniți la scara de afișare 100%. Dați foii de calcul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Cheltuieli anua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A. Introduceți în celula A1 titlul tabelului: Cheltuieli anua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B. Introduceți în rândul 2 anteturile pentru coloan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. Introduceți în coloana A anteturile pentru rândur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. Formatați cu stilul bold titlul și anteturile de rândur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. Introduceți date în celulele B3:M5. Corectați datele introduse greși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F. Selectați blocul de celule B3:M3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a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G. Selectați blocul de celule B4:M4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Gaz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H. Selectați blocul de celule B5:M5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lectricita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-32400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Proiectarea unei baze de date – Materia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Materiale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od_mat,I). Va fi folosit pentru cheia primar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Numele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en_mat, C, 30). Acest câmp va fi cheie de indexar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Unitatea de măsur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um,C,4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Prețul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preț,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Stocul de siguranț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stoc_s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Mișcăr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 cod_mat,I)- identifică unic articolul și este folosit pentru cheia secundară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Tipul mișcării 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tip_m,C,1). Pot fi 2 tipuri de mișcări: intrarea unui material (I) și ieșirea unui material (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ntra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(cant_i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eși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ant_e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Data mișcări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ata_m,D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Intre tabelul Materiale și tabelul Mișcări se stabilește o relație în care tabelul conducător este tabelul Materiale , tabelul condus este tabelul Mișcări, iar câmpul de legătură este codul materialulu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0:31:48Z</dcterms:created>
  <dc:creator>user</dc:creator>
  <dc:description/>
  <dc:language>en-US</dc:language>
  <cp:lastModifiedBy>Nik</cp:lastModifiedBy>
  <dcterms:modified xsi:type="dcterms:W3CDTF">2011-11-01T18:20:47Z</dcterms:modified>
  <cp:revision>15</cp:revision>
  <dc:subject/>
  <dc:title>I. Organizarea datelor </dc:title>
</cp:coreProperties>
</file>