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A998-4E6C-4D08-8A32-2B4B3C05F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04C4-D88A-4834-ADA5-56C50E4D6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6117-3E69-4866-A4D0-3D85B517B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9D58-53F6-484F-826D-066EF0515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49AB0-1985-469E-B211-E736DB110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682D6-0DE3-4C95-BED4-B981BAF46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76CBF-F30F-45B8-B557-D7DBB3459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22E88-4474-4592-9A30-35966305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32D21-E5EC-44BF-827C-F18F204F8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80510-9D46-40F3-9A7C-60258B604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D4122-0D48-4079-8675-C1F6C514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AD7B-38A6-4010-A940-CA878503B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5C757-84D6-48A0-B345-8C15A722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ACCCC-1BA2-4F7C-8DF2-AB74B617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28869-600E-417B-9B55-D2A61E37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00AAB-B57F-42D1-9DF3-3E31F6C45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B2723-CD18-4997-B613-87989896C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51595-4A8F-4F38-B2DC-24885A3F1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6C3A4-8CFC-451F-8E21-21107A514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BC09A-9F31-4B3C-A65B-B238A2982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1827A-5AC7-491C-A5EF-44D069E45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C00CC-29B1-446A-AC06-6A2F28FE6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DF68-9D0D-47E6-A054-009DC151D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1C9A7-1656-40AA-AA7D-A99758536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AA133-9FE6-44B7-9105-570CA07E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96C26-D8BD-4201-82EC-EAC60AF7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F2B22-E824-40E6-9746-044D7207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6534B-A5A5-44D4-A42C-8C468765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180A4-E78D-4ABF-998F-BD61C05A0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ACF5F-CF75-4D2B-9CC9-898ED8CF2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49A9C-D822-4365-B4A6-A3F372F48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99A14-72E3-4319-94BD-45B1F3290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5B010-4E4C-4FCD-A9B9-6BF165BC3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F7C3-536F-406B-97FB-DE010C436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EE07F-C692-4DD7-B4E7-601273BDA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BD01E-79C2-447A-A554-84B23C4F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7114E-869A-4DA8-B442-EEC69E3AB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58368-157A-4473-AA06-E7873505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6BB27-D9B0-47DB-A5FE-B472228C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19AE1-7D3D-48A5-8CEA-F7C487DA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ECE40-C424-4445-99CE-A79C47FFA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FE60E-83E3-4D75-BF1A-2FAFD9AC7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D2098-E430-4790-9266-F1F5A66AB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D2915-1559-4B5A-BFF3-A5AF9AEB7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3A08-A0FC-41BA-82C6-12653DB6F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97617-3C1A-4649-BBEE-F932A3D9F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D981D-A0BD-4224-8FA7-B6BB8792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49A12-4923-427F-AACC-513CC80CF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08970-A51B-495E-8DE1-99722CF4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A13FD-6CA2-461A-AC4E-D9551BCF3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E2F5F-AE71-45AA-B151-AA8316DA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20907-5547-4110-8E54-981B3077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63C6C-11B9-4652-B162-66650AE4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4AC1B-7FDE-49DA-ACCE-BD7710290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352C7-D5BD-40D5-AE34-FD60BA9B2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78EA-BB1D-4FE8-9037-A77EA3EF4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85D2B-ABB0-4936-B479-B64C1E2A0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63A59-53D1-4FCA-BFB3-27D532463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82A71-6B6B-4385-9FE9-81CABDB8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F8D3A-1F13-45B5-A04A-4B3E5B93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51C33-5473-4545-8F5F-FAEEBB113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AE2DC-F30B-4AEB-8407-A2498B7B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8AFA1-11C5-4B65-A7AC-8A9937BDD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02D6B-2A80-4511-9960-41474ADC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BFE72-CAD3-49B8-84EB-8ED453C2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CD167-298B-413E-9C97-D2E4BD97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DDEC-12A9-45F9-9FA4-D70963F6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187EF-C5A9-4D01-AF13-54B7537E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364E9-FF3D-4807-931D-99F0A453D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7A4EE-1F87-4CBB-A69E-5CE76A216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DCA21-0E0D-469A-B94C-64574556B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1651B-5C00-4D2D-B23C-98F06159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B3123B-3838-4A4F-BEB7-EE8A2D8C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FB962-4C1C-42F7-AC5B-F41B5387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D0F6C-46AD-4B1A-8992-E0BBD2737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DF70E-3632-49F8-9203-D63A7DEEE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F4890-1140-4676-8481-123AAD38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CCD8-09A0-4B92-9333-0B91A5FF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BF3BC-488D-4A36-8E84-8B431AD0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6F193-6C85-4F82-BD3F-D0914811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35031-574D-4782-BA86-BCFDD5EE2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FB3EE-4FD3-478F-B21D-F70118A54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6A52F-5831-4792-B75B-4E8A5CBA0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968C67-172B-44BA-AFC8-07CC11AFC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EEAC7-8627-4EE7-A3CC-9E0E2FFD0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21AE5-D636-4BDD-94D6-E3D6DEADA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4AB9D5-3DF1-4577-8C43-F9B37EBA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4D4B09-B14D-46AD-A844-8AEE9B182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8D13-C0CB-48DC-92FC-08EF1F64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B4CBF7-F279-4C9F-8577-076E6D63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8D1BB5-A027-4ED7-98A0-BBB6E9D9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D0D30E-129A-4AC1-A0CA-86357F3A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F0974B-5B86-4917-B78D-D9E6BF87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A385F-9BEA-4B36-8356-3BDF11DC5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86F303-83D5-4484-A497-8BC1333C0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D28564-23D7-4EA1-9CAA-544126D84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Triunghi drept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Conector drep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EFCFE-85EC-40EA-8A98-4DB0FF67E012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riunghi drept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8a8a8a"/>
              </a:gs>
              <a:gs pos="50000">
                <a:srgbClr val="e1e1e1"/>
              </a:gs>
              <a:gs pos="100000">
                <a:srgbClr val="8a8a8a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upare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ormă liberă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eaeae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ormă liberă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ormă liberă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ormă liberă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Conector drept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F62C-8E64-4CD2-B796-80325E7C0B31}" type="slidenum"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Triunghi drept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Conector drep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În zigzag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În zigzag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E0C40-4EAB-441F-8B7F-35527C12D519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Triunghi drept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Conector drep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0EF6-B0AF-4E80-A56F-BCBD78BF6052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FE5E-49E3-44B9-8382-5112CC610E45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Triunghi drept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Conector drep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9E67-F3AF-40E5-BE6F-D57BE694BDE5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4116E-F563-4268-9E85-5802B4035A77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rmă liberă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rmă liberă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Triunghi drept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Triunghi drept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Conector drept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În zigzag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În zigzag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DA60-6AE3-4DDE-8764-4EC546081633}" type="slidenum"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u 1" descr=""/>
          <p:cNvPicPr/>
          <p:nvPr/>
        </p:nvPicPr>
        <p:blipFill>
          <a:blip r:embed="rId1"/>
          <a:stretch/>
        </p:blipFill>
        <p:spPr>
          <a:xfrm>
            <a:off x="603360" y="542880"/>
            <a:ext cx="7785000" cy="183996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23640" y="2852640"/>
            <a:ext cx="8134200" cy="1959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Tipuri de informaţii / date: numerice, şiruri de caractere (texte), imagini, logic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Lucida Sans Unicode"/>
              </a:rPr>
              <a:t>Tipul datei determină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Lucida Sans Unicode"/>
              </a:rPr>
              <a:t>- domeniul de valori pe care le poate lua data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Lucida Sans Unicode"/>
              </a:rPr>
              <a:t>- prelucrările care se pot face cu acea dată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0" y="259920"/>
            <a:ext cx="9144000" cy="600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Lucida Sans Unicode"/>
              </a:rPr>
              <a:t>TIPURI DE DAT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1.Tipul numeric</a:t>
            </a: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este folosit pentru reprezentarea informației numerice(valorile numerice reale). Se pot folosi cifre de la 0-9,virgula, punctul, %, E, 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120.000=12X10</a:t>
            </a:r>
            <a:r>
              <a:rPr b="0" lang="ro-RO" sz="20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=12E4(scriere științifică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Prelucrările care se pot face cu acest tip de dată sunt prelucrările aritmetice și comparațiil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2. </a:t>
            </a: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Tipul șir de caractere </a:t>
            </a: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–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este folosit pentru reprezentarea informației alfanumerice. Prelucrările care se pot face pe acest tip sunt concatenarea și comparațiil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3.Tipul logic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– este folosit pentru reprezentarea datelor care nu pot lua decât două valori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true sau fals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. Se pot realiza prelucrări logic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4. Tipul dată calendaristică și tim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5. Tipul imagi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1. </a:t>
            </a: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Fișie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2. Foi de calcul -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program de calcul tabelar (de ex. Excel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3. </a:t>
            </a:r>
            <a:r>
              <a:rPr b="1" lang="ro-RO" sz="2800" spc="-1" strike="noStrike">
                <a:solidFill>
                  <a:srgbClr val="000000"/>
                </a:solidFill>
                <a:latin typeface="Lucida Sans Unicode"/>
              </a:rPr>
              <a:t>Tabel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- permit gruparea unor date înrudite și este format din linii și coloan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4. Baze de date-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sunt formate din unul sau mai multe tabele între care se pot stabili legături numite relații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5. Lis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lu 2" descr=""/>
          <p:cNvPicPr/>
          <p:nvPr/>
        </p:nvPicPr>
        <p:blipFill>
          <a:blip r:embed="rId1"/>
          <a:stretch/>
        </p:blipFill>
        <p:spPr>
          <a:xfrm>
            <a:off x="390600" y="-6480"/>
            <a:ext cx="824076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Aplicație: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Construiți în registrul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Exempl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, un tabel cu cheltuielile lunare pentru utilități: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apă, gaze și electricitat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. Tabelul va avea 15 coloane: una pentru tipul utilității, 12 pentru fiecare lună, una pentru totalul pe an al cheltuielilor pentru o utilitate și una cu media anuală a cheltuielilor pentru o utilitate. Când executați operații de copiere sau de selectare a celulelor de pe un rând, pentru a putea lucra cu toate coloanele micșorați scara de vizualizare la 50 %. După ce executați operația, reveniți la scara de afișare 100%. Dați foii de calcul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Cheltuieli anual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A. Introduceți în celula A1 titlul tabelului: Cheltuieli anual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B. Introduceți în rândul 2 anteturile pentru coloan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C. Introduceți în coloana A anteturile pentru rânduri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D. Formatați cu stilul bold titlul și anteturile de rânduri și coloan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E. Introduceți date în celulele B3:M5. Corectați datele introduse greșit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F. Selectați blocul de celule B3:M3 și îi atribuiți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Apa 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G. Selectați blocul de celule B4:M4 și îi atribuiți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Gaz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H. Selectați blocul de celule B5:M5 și îi atribuiți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Electricitat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-324000" y="0"/>
            <a:ext cx="9468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Proiectarea unei baze de date – Material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1.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Tabelul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 Materiale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conține următoarele câmpuri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Identificatorul materialului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cod_mat,I). Va fi folosit pentru cheia primară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Numele materialului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den_mat, C, 30). Acest câmp va fi cheie de indexar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Unitatea de măsur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um,C,4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Prețul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preț,S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Stocul de siguranț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stoc_s,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Tabelul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Mișcări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conține următoarele câmpuri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Identificatorul materialului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 cod_mat,I)- identifică unic articolul și este folosit pentru cheia secundară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Tipul mișcării 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tip_m,C,1). Pot fi 2 tipuri de mișcări: intrarea unui material (I) și ieșirea unui material (E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Cantitatea intrat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(cant_i,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Cantitatea ieșit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cant_e,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Data mișcării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data_m,D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Intre tabelul Materiale și tabelul Mișcări se stabilește o relație în care tabelul conducător este tabelul Materiale , tabelul condus este tabelul Mișcări, iar câmpul de legătură este codul materialulu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5T10:31:48Z</dcterms:created>
  <dc:creator>user</dc:creator>
  <dc:description/>
  <dc:language>en-US</dc:language>
  <cp:lastModifiedBy>Nik</cp:lastModifiedBy>
  <dcterms:modified xsi:type="dcterms:W3CDTF">2011-11-01T18:20:47Z</dcterms:modified>
  <cp:revision>15</cp:revision>
  <dc:subject/>
  <dc:title>I. Organizarea datelor </dc:title>
</cp:coreProperties>
</file>