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E88-8197-4305-A9C2-A7DB3704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038-7BD8-4502-AFAE-0EEFB791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73B-2FDC-4A6D-B6EB-9C96C89B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AD3-B9E6-4E5B-8DBE-F8E4679F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0A69-C33D-48A7-B20D-90D50567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27AF-6022-474D-8098-3884D7CE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0BE0-6622-4938-9D1F-CD1EF509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B442-0B3F-483B-A1DC-19F2CC79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5BB9-5CC4-4418-AA84-036B05D7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E617-E51A-40A1-BAD4-F19D35FB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882E-8549-43B9-81F9-15F9E9A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3F6-2CA1-4C5A-9576-09F759D6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68E3-2795-47F0-BC01-94A2BF56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CD1-934C-432F-BEAE-C076F2B9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16B6-5D5C-4157-A5C7-70E05BBD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129A-7163-4614-8D58-ACBD33DD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4080-E2AD-46FE-BEFB-6A96369C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476-FE4C-4561-A04B-F6D9C1F6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01F-337E-440E-A54E-8ED0059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9C5-7C01-4A5B-840B-B3CA6EF1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EB5-CDF7-4A86-AF6B-3EC2DE76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B0F-B5B0-4600-A46D-E0900525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CA8-905A-41B0-928E-8B63A0C8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FFB-243B-4304-8FDB-B10AF81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DB4E-A4C0-4F8C-8169-6FFC715F8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1067-D9E9-4C7A-A6EB-62535454C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icrosoft Office Wor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ucrul cu documente ma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d</a:t>
            </a: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ăugarea secţiunilor în docu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Crearea unui cupr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, pentru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e posibil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eseze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ub-subtitlurile, marc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cu [Ctrl]+[Alt]+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a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eg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teria prim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 timpul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cup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inserarea cuprinsului propriu-zis, acce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d calea Insert/Reference/Indexes and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ect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in noua fereastr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gistrul Table of Contens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lic pe O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 uit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entru a ajunge direct la se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unea dori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rebui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p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asta [Ctrl]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poi d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lic pe respectivul link din cupri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8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9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10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Microsoft Officce 2003 6 în 1, editura Teo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trucurisisfaturi.blogspot.com/2007/07/cuprins-in-word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5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6">
            <a:hlinkClick r:id="" action="ppaction://hlinkshowjump?jump=endshow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ând lucraţi cu documente mari, acestea pot conţine mai multe părţi, cum ar fi o pagină de prezentare, un cuprins, urmate de corpul documentului.  De obicei, aceste părţi diferite ale documentului necesită formatări difer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împărţirea documentului în părţi diferite, care au formatări diferite, utilizaţi secţiun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O secţiune poate conţine propriul set de opţiuni de format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uteţi împărţi documentul în atât de multe secţiuni cât sunt neces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 u="sng">
                <a:solidFill>
                  <a:srgbClr val="000000"/>
                </a:solidFill>
                <a:uFillTx/>
                <a:latin typeface="Comic Sans MS"/>
              </a:rPr>
              <a:t>Def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: O </a:t>
            </a:r>
            <a:r>
              <a:rPr b="1" i="1" lang="ro-RO" sz="2400" spc="-1" strike="noStrike">
                <a:solidFill>
                  <a:srgbClr val="000000"/>
                </a:solidFill>
                <a:latin typeface="Comic Sans MS"/>
              </a:rPr>
              <a:t>secţiun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este o porţiune dintr-un document care poate fi formatată diferit faţă de restul documentului sau faţă de alte secţiuni distincte ale document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ând începeţi un document nou, acesta constă dintr-o secţiune cu o formatare de pagină unitară pe parcursul întregului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 bara de stare dintr-un document nou, scri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ec 1”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ceea ce înseamnă că punctul de inserare se află curent în secţiunea 1 a document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cţiunile sunt definite în document de nişte întreruperi de secţi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a plasa întreruperi de secţiune suplimentare într-un document, urmaţi aceşti paş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lasaţi punctul de inserare acolo unde doriţi să inseraţi noua întrerupere de secţiu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lectaţi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Insert, Break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. Va fi afişată pe ecran caseta de dialog Break. În jumătatea inferioară a casetei de dialog Break, sunt disponibile mai multe tipuri de înrerupere de secţi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Next Pag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– În document es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plasat salt la pagină nouă, iar nou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secţiune începe pe această pagin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nou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Continuou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– Noua secţiu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ncepe de la punctul de inserare ş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continuă tot restul documentul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(sau până se ajunge la următoarea secţiune definit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Even Page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– Următoarea secţiune începe pe următoarea pagină cu număr p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Odd Pag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- Următoarea secţiune începe pe următoarea pagină cu număr imp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2171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lectaţi butonul de opţiune pentru tipul de întrerupere de secţiune pe care doriţi să o plasaţi în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Executaţi clic pe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pentru a insera noua secţiune în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n vederea Normal, întreruperea de secţiune apare sub forma unei linii orizontale duble, marcată cu textu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ection Break”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urmată de tipul de secţiune pe care l-aţi selecta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acă lucraţi în vederea Print Layout, secţiunea curentă este afişată pe bara de st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upă ce aveţi noua secţiune în document, puteţi aplica formatarea paginii în funcţie de necesităţ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a şterge o întrerupere de secţiune, selectaţi întreruperea de secţiune, la fel cum aţi face cu orice alt rând de text şi apăsaţi tasta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pentru a o şter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ntru documentele ceva mai stufoase, nu ar fi r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aliz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un cuprins. Nu este vorba doar de un simplu cuprins; acesta va avea link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i care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or purta, gr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 unui simplu clic,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 segmentul care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eseaz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a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 av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f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o copie de back-up pentru documentul vostru,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azul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are ceva nu merge 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um ar trebui. Acces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alea File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e as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chimb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umele f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rului. Da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u sunt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mul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cele realizate aici, nu av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oarc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la varianta original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documentulu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vig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document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arc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e r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d titlurile. Dup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 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arcat pe primul, ap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combin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a de taste [Ctrl] + [Alt]+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observa c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ilul se va modifica. Proced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a fel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cazul tuturor titluri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titlurile se vor marca la fel,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data aceasta v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folosi combin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a [Ctrl]+[Alt]+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5:03:13Z</dcterms:created>
  <dc:creator>Liliana</dc:creator>
  <dc:description/>
  <dc:language>en-US</dc:language>
  <cp:lastModifiedBy>416</cp:lastModifiedBy>
  <dcterms:modified xsi:type="dcterms:W3CDTF">2009-10-06T09:09:27Z</dcterms:modified>
  <cp:revision>34</cp:revision>
  <dc:subject/>
  <dc:title>Lucrul cu documente mari</dc:title>
</cp:coreProperties>
</file>