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87FD-CD69-4651-8736-CA18E58C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3EE-7994-4D43-BDB8-CBDE8EC8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540-D110-46A1-8BC9-31C28C8B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ED9-70A9-4AB9-9696-5068E4F2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4BBD-D605-439C-A92D-1BB020D4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DCFC-5716-4234-B76E-41D07F2F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9FE1-97D8-4E74-B9F5-EB225359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5C53-A23A-417E-98AF-16E48124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9323-E06A-46F7-A016-2E017070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3AC6-8C6A-4149-B296-DFA4A900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3D0E-2F7B-47AE-98D6-5E2FEC01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62E-69CD-4D42-B315-14DC175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6E0A-8FA3-4D23-9E48-3BA7BBC6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C8C1-58DF-4E86-8A09-956CBD26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85FE-799C-43CC-AD5D-CB84623E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BDB0-47B4-46D4-9ED8-ACE3577F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AF72-603F-4D26-8BF1-CF923DAD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CEB-66FD-43C9-A32B-73270CE5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4BF-6B0C-4C17-B1C0-FEE88700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5F4-5718-4CFA-A981-631BA735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F4B-D4EE-4A61-A131-A77F41DB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3B4-7115-4972-BCC9-B50CE7B3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07C-8503-4F4A-AB5E-54A9B5C0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38E-FF38-4174-9F8C-F727E9C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C57C-335A-4A1D-A00C-FAD857D00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792E-71DD-4863-8C43-B63D5619A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icrosoft Office Wor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ucrul cu documente ma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d</a:t>
            </a: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ăugarea secţiunilor în docu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Crearea unui cupr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, pentru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e posibil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eseze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ub-subtitlurile, marc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cu [Ctrl]+[Alt]+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da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eg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teria prim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e timpul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cup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inserarea cuprinsului propriu-zis, acce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d calea Insert/Reference/Indexes and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ect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in noua fereastr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gistrul Table of Contens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lic pe O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 uit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entru a ajunge direct la se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unea dori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rebui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p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asta [Ctrl]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apoi d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lic pe respectivul link din cupri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8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9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10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Microsoft Officce 2003 6 în 1, editura Teo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trucurisisfaturi.blogspot.com/2007/07/cuprins-in-word.htm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5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6">
            <a:hlinkClick r:id="" action="ppaction://hlinkshowjump?jump=endshow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ând lucraţi cu documente mari, acestea pot conţine mai multe părţi, cum ar fi o pagină de prezentare, un cuprins, urmate de corpul documentului.  De obicei, aceste părţi diferite ale documentului necesită formatări difer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împărţirea documentului în părţi diferite, care au formatări diferite, utilizaţi secţiun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O secţiune poate conţine propriul set de opţiuni de format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uteţi împărţi documentul în atât de multe secţiuni cât sunt neces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 u="sng">
                <a:solidFill>
                  <a:srgbClr val="000000"/>
                </a:solidFill>
                <a:uFillTx/>
                <a:latin typeface="Comic Sans MS"/>
              </a:rPr>
              <a:t>Def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: O </a:t>
            </a:r>
            <a:r>
              <a:rPr b="1" i="1" lang="ro-RO" sz="2400" spc="-1" strike="noStrike">
                <a:solidFill>
                  <a:srgbClr val="000000"/>
                </a:solidFill>
                <a:latin typeface="Comic Sans MS"/>
              </a:rPr>
              <a:t>secţiun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este o porţiune dintr-un document care poate fi formatată diferit faţă de restul documentului sau faţă de alte secţiuni distincte ale document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ând începeţi un document nou, acesta constă dintr-o secţiune cu o formatare de pagină unitară pe parcursul întregului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 bara de stare dintr-un document nou, scri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ec 1”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ceea ce înseamnă că punctul de inserare se află curent în secţiunea 1 a documentulu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cţiunile sunt definite în document de nişte întreruperi de secţi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a plasa întreruperi de secţiune suplimentare într-un document, urmaţi aceşti paş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lasaţi punctul de inserare acolo unde doriţi să inseraţi noua întrerupere de secţiu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lectaţi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Insert, Break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. Va fi afişată pe ecran caseta de dialog Break. În jumătatea inferioară a casetei de dialog Break, sunt disponibile mai multe tipuri de înrerupere de secţi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Next Pag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– În document es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plasat salt la pagină nouă, iar nou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secţiune începe pe această pagină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nou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Continuou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– Noua secţiun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ncepe de la punctul de inserare ş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continuă tot restul documentulu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(sau până se ajunge la următoarea secţiune definit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Even Page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– Următoarea secţiune începe pe următoarea pagină cu număr p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Odd Pag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 - Următoarea secţiune începe pe următoarea pagină cu număr imp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2171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Selectaţi butonul de opţiune pentru tipul de întrerupere de secţiune pe care doriţi să o plasaţi în docu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Executaţi clic pe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pentru a insera noua secţiune în docu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n vederea Normal, întreruperea de secţiune apare sub forma unei linii orizontale duble, marcată cu textu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ection Break”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, urmată de tipul de secţiune pe care l-aţi selecta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acă lucraţi în vederea Print Layout, secţiunea curentă este afişată pe bara de st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ăugarea secţiunilor în docum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După ce aveţi noua secţiune în document, puteţi aplica formatarea paginii în funcţie de necesităţ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Pentru a şterge o întrerupere de secţiune, selectaţi întreruperea de secţiune, la fel cum aţi face cu orice alt rând de text şi apăsaţi tasta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Delet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pentru a o şter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ntru documentele ceva mai stufoase, nu ar fi r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aliz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un cuprins. Nu este vorba doar de un simplu cuprins; acesta va avea link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i care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or purta, gr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 unui simplu clic, 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 segmentul care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eseaz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at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e av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f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o copie de back-up pentru documentul vostru,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azul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are ceva nu merge 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um ar trebui. Acces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calea File</a:t>
            </a:r>
            <a:r>
              <a:rPr b="0" lang="ro-RO" sz="2000" spc="-1" strike="noStrike">
                <a:solidFill>
                  <a:srgbClr val="000000"/>
                </a:solidFill>
                <a:latin typeface="Symbol"/>
                <a:ea typeface="Symbol"/>
              </a:rPr>
              <a:t>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ve as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chimba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numele f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ş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rului. Da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u sunt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mul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mi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 cele realizate aici, nu av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ec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 s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oarce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la varianta original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documentulu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Crearea unui cupri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vig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document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arc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e r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d titlurile. Dup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 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arcat pe primul, ap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combin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a de taste [Ctrl] + [Alt]+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observa c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ilul se va modifica. Proced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a fel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cazul tuturor titluril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titlurile se vor marca la fel,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data aceasta ve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folosi combina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a [Ctrl]+[Alt]+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7620120" y="61722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5">
            <a:hlinkClick r:id="" action="ppaction://hlinkshowjump?jump=firstslide"/>
          </p:cNvPr>
          <p:cNvSpPr/>
          <p:nvPr/>
        </p:nvSpPr>
        <p:spPr>
          <a:xfrm>
            <a:off x="68580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6">
            <a:hlinkClick r:id="" action="ppaction://hlinkshowjump?jump=previousslide"/>
          </p:cNvPr>
          <p:cNvSpPr/>
          <p:nvPr/>
        </p:nvSpPr>
        <p:spPr>
          <a:xfrm>
            <a:off x="5638680" y="617220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52" h="21600">
                <a:moveTo>
                  <a:pt x="21069" y="10800"/>
                </a:moveTo>
                <a:lnTo>
                  <a:pt x="35082" y="3794"/>
                </a:lnTo>
                <a:lnTo>
                  <a:pt x="350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5:03:13Z</dcterms:created>
  <dc:creator>Liliana</dc:creator>
  <dc:description/>
  <dc:language>en-US</dc:language>
  <cp:lastModifiedBy>416</cp:lastModifiedBy>
  <dcterms:modified xsi:type="dcterms:W3CDTF">2009-10-06T09:09:27Z</dcterms:modified>
  <cp:revision>34</cp:revision>
  <dc:subject/>
  <dc:title>Lucrul cu documente mari</dc:title>
</cp:coreProperties>
</file>