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541-057C-499C-B594-AC828FDE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520-DCDB-4B96-8648-4B3AB30F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A9CD-5B5D-4804-9DAB-4172D921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672-1470-438C-892E-FDF4FAA4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2E06-05CE-4D76-B351-2DAFA26F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162B-6163-4D77-ACAA-504B8ED2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0224-B8CA-4EC9-9EF9-36428740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E2B2-768E-40CC-8877-6C138246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2577-C212-4CA7-8F3F-3AADCC5E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2E90-CE7F-4BB8-ADB4-232281BD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648D-CF08-473E-88E4-74589466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8AA-57D4-404C-AA70-E1F355F9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07BD-2CA2-4733-8075-E61B0FE8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693E-234F-4F97-89E9-36482F3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4396-93DF-4C5D-B917-AE9C48EC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ECC-DD9D-4499-8B3B-75639CB7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8233-07B9-4536-8A23-A136E8A8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FFA-1463-4B4A-A706-E472EC85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452A-70FE-4CA8-8391-BCA517A9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3F5-8BAD-4F9E-85E9-0A069C54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15E-CC3D-478A-9E98-58D17DD4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D29-AFC6-48EB-938D-C6C91A98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FE1-673D-44CA-A6EE-0285A2C2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529-4932-47DD-A5E7-291F9456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7ABB-675D-46BB-A48C-A1EC3E8B0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1D2A-F006-4C14-9D8C-FC58FF677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icrosoft Office Wor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ucrul cu documente ma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d</a:t>
            </a: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ăugarea secţiunilor în docu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Crearea unui cupr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, pentru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e posibil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eseze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ub-subtitlurile, marc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cu [Ctrl]+[Alt]+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a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eg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teria prim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e timpul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cup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inserarea cuprinsului propriu-zis, acce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d calea Insert/Reference/Indexes and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ect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in noua fereastr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gistrul Table of Contens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lic pe O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 uit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entru a ajunge direct la se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unea dori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rebui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p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asta [Ctrl]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poi d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lic pe respectivul link din cupri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8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9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10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Microsoft Officce 2003 6 în 1, editura Teo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trucurisisfaturi.blogspot.com/2007/07/cuprins-in-word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5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6">
            <a:hlinkClick r:id="" action="ppaction://hlinkshowjump?jump=endshow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ând lucraţi cu documente mari, acestea pot conţine mai multe părţi, cum ar fi o pagină de prezentare, un cuprins, urmate de corpul documentului.  De obicei, aceste părţi diferite ale documentului necesită formatări difer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împărţirea documentului în părţi diferite, care au formatări diferite, utilizaţi secţiun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O secţiune poate conţine propriul set de opţiuni de format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uteţi împărţi documentul în atât de multe secţiuni cât sunt neces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 u="sng">
                <a:solidFill>
                  <a:srgbClr val="000000"/>
                </a:solidFill>
                <a:uFillTx/>
                <a:latin typeface="Comic Sans MS"/>
              </a:rPr>
              <a:t>Def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: O </a:t>
            </a:r>
            <a:r>
              <a:rPr b="1" i="1" lang="ro-RO" sz="2400" spc="-1" strike="noStrike">
                <a:solidFill>
                  <a:srgbClr val="000000"/>
                </a:solidFill>
                <a:latin typeface="Comic Sans MS"/>
              </a:rPr>
              <a:t>secţiun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este o porţiune dintr-un document care poate fi formatată diferit faţă de restul documentului sau faţă de alte secţiuni distincte ale document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ând începeţi un document nou, acesta constă dintr-o secţiune cu o formatare de pagină unitară pe parcursul întregului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 bara de stare dintr-un document nou, scri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ec 1”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ceea ce înseamnă că punctul de inserare se află curent în secţiunea 1 a document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cţiunile sunt definite în document de nişte întreruperi de secţi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a plasa întreruperi de secţiune suplimentare într-un document, urmaţi aceşti paş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lasaţi punctul de inserare acolo unde doriţi să inseraţi noua întrerupere de secţiu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lectaţi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Insert, Break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. Va fi afişată pe ecran caseta de dialog Break. În jumătatea inferioară a casetei de dialog Break, sunt disponibile mai multe tipuri de înrerupere de secţi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Next Pag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– În document es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plasat salt la pagină nouă, iar nou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secţiune începe pe această pagin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nou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Continuou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– Noua secţiun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ncepe de la punctul de inserare ş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continuă tot restul documentul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(sau până se ajunge la următoarea secţiune definit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Even Page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– Următoarea secţiune începe pe următoarea pagină cu număr p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Odd Pag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- Următoarea secţiune începe pe următoarea pagină cu număr imp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2171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lectaţi butonul de opţiune pentru tipul de întrerupere de secţiune pe care doriţi să o plasaţi în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Executaţi clic pe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pentru a insera noua secţiune în doc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n vederea Normal, întreruperea de secţiune apare sub forma unei linii orizontale duble, marcată cu textu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ection Break”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urmată de tipul de secţiune pe care l-aţi selecta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acă lucraţi în vederea Print Layout, secţiunea curentă este afişată pe bara de st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upă ce aveţi noua secţiune în document, puteţi aplica formatarea paginii în funcţie de necesităţ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a şterge o întrerupere de secţiune, selectaţi întreruperea de secţiune, la fel cum aţi face cu orice alt rând de text şi apăsaţi tasta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Delet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pentru a o şter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ntru documentele ceva mai stufoase, nu ar fi r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aliz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un cuprins. Nu este vorba doar de un simplu cuprins; acesta va avea link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i care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or purta, gr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 unui simplu clic,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 segmentul care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eseaz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a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e av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f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o copie de back-up pentru documentul vostru,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azul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are ceva nu merge 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um ar trebui. Acces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alea File</a:t>
            </a:r>
            <a:r>
              <a:rPr b="0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e as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chimb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numele f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rului. Da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u sunt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mul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m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cele realizate aici, nu av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oarc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la varianta original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documentulu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vig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document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arc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e r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d titlurile. Dup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 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arcat pe primul, ap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combin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a de taste [Ctrl] + [Alt]+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observa c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ilul se va modifica. Proced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a fel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cazul tuturor titluri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titlurile se vor marca la fel,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data aceasta v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folosi combin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a [Ctrl]+[Alt]+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5:03:13Z</dcterms:created>
  <dc:creator>Liliana</dc:creator>
  <dc:description/>
  <dc:language>en-US</dc:language>
  <cp:lastModifiedBy>416</cp:lastModifiedBy>
  <dcterms:modified xsi:type="dcterms:W3CDTF">2009-10-06T09:09:27Z</dcterms:modified>
  <cp:revision>34</cp:revision>
  <dc:subject/>
  <dc:title>Lucrul cu documente mari</dc:title>
</cp:coreProperties>
</file>