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658-512C-47D0-BE4D-6CC0EED6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6625-F2DD-4631-AD7E-46A0F8BD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416-9745-4967-86CA-C454CAD5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AEB-4F20-4B27-8F9C-BAB15D83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2071-5E52-46CC-88DE-12DD2791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50B6-CD87-4957-BCF0-6FD9C2F9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CBAB-2BB3-4542-9D16-AB19752A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69C-8D56-4A6C-80EA-4E76FAE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2FF2-892F-4CD8-AF8B-C90AFF5F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F38E-CC4B-4FAC-B14A-41A6632B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2EA3-3A29-4FC8-8F14-24BCF4F1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7DF-E198-4726-8E77-BBB7AD9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9E7C-E6A7-41A1-9D1A-79CDE065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E12-3F4E-4553-A9DE-16AE3908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229B-DA49-49BF-B371-866969D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6DF-E7D9-4306-87C1-C41A9E75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E040-9951-4302-A5B3-2E4930C6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6A85-D09A-4158-BFC5-BAB84763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DAFB-BBF9-4AC8-859C-DBEFC36E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82DE-5B13-414E-88DA-322BA39E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3448-8199-4315-8BD7-E29203A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F63B-ADA0-426D-B977-2201FDD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DA7-B64C-4D02-841A-407DBA04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478B-83D8-4144-A299-2B205D0A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C8CB-1C3B-4D38-B7D8-5BABF56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5ADE-FDC3-47CE-93C4-5DBF3261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C4ED-E08E-45ED-B202-4F38B2D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DD5C-08EA-4D40-81DD-FE956F02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08A80-76F0-4CB2-B4B5-118D26FE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8335-B499-42EA-B21E-155AC658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944-AC98-41FD-B752-0B399587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EE6-C9D7-435C-B711-AAA2498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242-888E-40FC-AE48-3FBC8B7C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E16-3EB2-46D3-8252-B0D352D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713-6097-490C-B9DF-C50CCB43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2FA-1C19-4467-8A93-304BA6A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87E0-3578-4203-BB35-DB446751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3B55-F17E-46B5-982B-938107BAD3A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7EF0-4C45-4B37-845D-5F7EC94C1C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523520" y="4800600"/>
            <a:ext cx="312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Clasa a XIII  SERAL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95280" y="175248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Titlul lectiei: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Operatii de calcul numeric si logic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 </a:t>
            </a:r>
            <a:r>
              <a:rPr b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- Formule de calcul -</a:t>
            </a:r>
            <a:endParaRPr b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417204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28600"/>
            <a:ext cx="5638680" cy="3886200"/>
          </a:xfrm>
          <a:prstGeom prst="wedgeRoundRectCallout">
            <a:avLst>
              <a:gd name="adj1" fmla="val 56023"/>
              <a:gd name="adj2" fmla="val 61439"/>
              <a:gd name="adj3" fmla="val 16667"/>
            </a:avLst>
          </a:prstGeom>
          <a:solidFill>
            <a:srgbClr val="ffff00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Material realizat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prof. Nicolae Comanici  Colegiul Tehnic ,,Dorin pavel’’ Alba i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Anul sc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Monotype Corsiva"/>
              </a:rPr>
              <a:t>2010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9336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581280"/>
            <a:ext cx="8610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0000"/>
                </a:solidFill>
                <a:uFillTx/>
                <a:latin typeface="Arial"/>
              </a:rPr>
              <a:t>Definitie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: o formula, expresie de calcul, este o combinatie de termeni si operatori de calcul, construita asemanator expresiilor din matematica, dar in conventiile de notatie impuse de catre programele Excel  si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4880" y="255096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04920"/>
            <a:ext cx="6095880" cy="10666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Reactualizarea cunoştinţ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133720"/>
            <a:ext cx="6705360" cy="106668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e este o expresie (formulă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276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Se comunică începând cu semnul “ = 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Exemplu: formula de calcul a med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=averag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066680"/>
            <a:ext cx="8381880" cy="10670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pt-BR" sz="3000" spc="-1" strike="noStrike">
                <a:solidFill>
                  <a:srgbClr val="ff0000"/>
                </a:solidFill>
                <a:latin typeface="Arial"/>
              </a:rPr>
              <a:t>Cum se comunică orice formulă în Excel 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396216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constant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adrese de celule (referinţe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cc0000"/>
                </a:solidFill>
                <a:latin typeface="Arial"/>
              </a:rPr>
              <a:t>funcţii 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480"/>
            <a:ext cx="6553080" cy="19051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3. Ce </a:t>
            </a: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termeni pot să apar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într-o expresie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61760" y="428400"/>
            <a:ext cx="7620480" cy="119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pt-BR" sz="32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cc0000"/>
                </a:solidFill>
                <a:latin typeface="Times New Roman"/>
              </a:rPr>
              <a:t>Ce tipuri de operatori întâlnim în Excel? Exemplificaţi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i de calcul recunoscuti de program s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aritmetici(+, -, *,/,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^,%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operatori de </a:t>
            </a: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comparaţie (&lt;,&gt;,&lt;=,&gt;=,=,&lt;&gt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 de tip text (&amp;)</a:t>
            </a:r>
            <a:r>
              <a:rPr b="1" lang="pt-BR" sz="2800" spc="-1" strike="noStrike">
                <a:solidFill>
                  <a:srgbClr val="cc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Arial"/>
              </a:rPr>
              <a:t>operatorii de referinţă (: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0000"/>
                </a:solidFill>
                <a:latin typeface="Arial"/>
              </a:rPr>
              <a:t>Ce tipuri de expresii se pot defini în funcţie de rezultatul formule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functie de rezultatul formulei, se pot defini tipurile de expres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numerice- care produc un rezultat numeric, ex. calculul med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logice- produc ca rezultat o valoare de adevar: “adevarat” sau “fa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tip şir de caractere – au ca rezultat un sir de caract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resii de tip adresă- au ca rezultat informatia de referinta a unei celule sau a unei zone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8534520" cy="46483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rdinea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de efectuare a operatiilor  se supune 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            prioritatii operatorilor,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1: operatori de adresare,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2: - (numar negativ – ca semn al constantelor) si % (procentul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3: ^ (ridicarea la put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4: * (inmultire) si / (imparti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5: + (adunare),  - (scade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6: &amp; (operatorul de concatenare)</a:t>
            </a: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ivel 7: operatori relationali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rioritatea operatorilor scade pe masura ce nivelul creste . Astfel, intai se executa operatiile de nivel 1, apoi cele de nivel 2 s.a.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1760" y="505080"/>
            <a:ext cx="7620480" cy="11995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0000"/>
                </a:solidFill>
                <a:latin typeface="Arial"/>
              </a:rPr>
              <a:t>Care este ordinea de efectuare a operaţiil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514600" cy="2401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3600" spc="-1" strike="noStrike">
                <a:solidFill>
                  <a:srgbClr val="660066"/>
                </a:solidFill>
                <a:latin typeface="Arial"/>
              </a:rPr>
              <a:t>Realizati aplicatia din fisa de luc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20574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9999"/>
                  </a:solidFill>
                  <a:prstDash val="lgDash"/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plicatie practica</a:t>
            </a:r>
            <a:endParaRPr b="1" lang="en-US" sz="2400" spc="1" strike="noStrike">
              <a:ln w="28440">
                <a:solidFill>
                  <a:srgbClr val="ff9999"/>
                </a:solidFill>
                <a:prstDash val="lgDash"/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7400" y="2514600"/>
            <a:ext cx="5029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agneto"/>
              </a:rPr>
              <a:t>Va multumesc!</a:t>
            </a:r>
            <a:endParaRPr b="1" lang="en-US" sz="2800" spc="1" strike="noStrike">
              <a:ln w="9360">
                <a:solidFill>
                  <a:srgbClr val="ffff99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agneto"/>
              <a:ea typeface="Magneto"/>
            </a:endParaRPr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k</cp:lastModifiedBy>
  <dcterms:modified xsi:type="dcterms:W3CDTF">2010-12-18T19:47:2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