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9D36-33AD-4619-9B54-1225AF94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C90-19A1-41A4-928D-376D3AF1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7FE3-9ABA-420B-B9D8-10BCEA9B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C92-4894-4F9B-8BA4-285F0197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0C79-40ED-4BA6-B46F-372E942D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E785-F2C9-43D5-9746-09A41C29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1AAC-232F-4153-9C4B-78AF98ED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FE3C-149A-4432-B466-2BA5F5FC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D57D-5314-44E6-AB01-08229533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C09A-9C62-46E9-8F54-B1CB681C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86CE-F94E-4E90-8F26-6AA06603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172-C9CB-41FC-9F60-8707C363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4D5A-6787-4AC9-9320-AF211BD8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1A8A-7128-4676-A295-FF774D75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BBA4-6591-4060-927C-684A39E5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9304-9C82-4D5A-A789-2F7F1F3E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6E5F-51F6-4340-88BD-D8BCA69D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7332C-0832-4A26-BC2A-B098A04C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8FF51-00CC-4A4D-8027-DD9CDDFD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6BD7D-E241-46F1-AF1B-F8672849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DC16C-947F-450C-A6CE-9D89F018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2A338-EE1A-425C-BD4D-DBB8F9E5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8EB-0057-41BA-858F-B8E0B14B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725F9-975B-4EA7-9CEA-6E71BC3B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2CBDC-4660-4B8D-A4B5-08041F15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63F02-EA10-44C7-8717-A2329368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ACD19-095A-441D-88A4-1F9E6C36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A1681-5433-4CB4-B950-694BB636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DD7FC-4062-446D-8005-6D06989B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41E1A-A724-4374-A5AB-E3339371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0698-9252-41CB-AA05-7170A768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FA5-6281-41D6-A302-C477B66A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08A7-827C-424E-BFE9-8DC7E412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5B5-03D3-4642-A557-640786E7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512-74ED-4BB4-9B30-60E9EC77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0227-31DC-4448-9C78-7DD4A5AF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7189-41F3-493B-A76C-C0B219EAB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32D7-EEB8-4886-9A2E-6755B939112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7A3F-ACFD-4CF7-9D27-6C16B4FB40E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523520" y="4800600"/>
            <a:ext cx="3124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lasa a XIII  SERAL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95280" y="1752480"/>
            <a:ext cx="69343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Titlul lectiei:</a:t>
            </a:r>
            <a:endParaRPr b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Operatii de calcul numeric si logic</a:t>
            </a:r>
            <a:endParaRPr b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 </a:t>
            </a:r>
            <a:r>
              <a:rPr b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- Formule de calcul -</a:t>
            </a:r>
            <a:endParaRPr b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943600" y="4172040"/>
            <a:ext cx="2685960" cy="26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228600"/>
            <a:ext cx="5638680" cy="3886200"/>
          </a:xfrm>
          <a:prstGeom prst="wedgeRoundRectCallout">
            <a:avLst>
              <a:gd name="adj1" fmla="val 56023"/>
              <a:gd name="adj2" fmla="val 61439"/>
              <a:gd name="adj3" fmla="val 16667"/>
            </a:avLst>
          </a:prstGeom>
          <a:solidFill>
            <a:srgbClr val="ffff00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Material realizat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prof. Nicolae Comanici  Colegiul Tehnic ,,Dorin pavel’’ Alba iu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Anul scol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2010 -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29336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o-R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581280"/>
            <a:ext cx="8610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0000"/>
                </a:solidFill>
                <a:uFillTx/>
                <a:latin typeface="Arial"/>
              </a:rPr>
              <a:t>Definitie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: o formula, expresie de calcul, este o combinatie de termeni si operatori de calcul, construita asemanator expresiilor din matematica, dar in conventiile de notatie impuse de catre programele Excel  si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4880" y="2550960"/>
            <a:ext cx="79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04920"/>
            <a:ext cx="6095880" cy="106668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7c8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Reactualizarea cunoştinţe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133720"/>
            <a:ext cx="6705360" cy="10666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Ce este o expresie (formulă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5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3276360"/>
            <a:ext cx="8305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Se comunică începând cu semnul “ = 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Exemplu: formula de calcul a medi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=averag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066680"/>
            <a:ext cx="8381880" cy="1067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pt-BR" sz="3000" spc="-1" strike="noStrike">
                <a:solidFill>
                  <a:srgbClr val="ff0000"/>
                </a:solidFill>
                <a:latin typeface="Arial"/>
              </a:rPr>
              <a:t>Cum se comunică orice formulă în Excel 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440" y="396216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cc0000"/>
                </a:solidFill>
                <a:latin typeface="Arial"/>
              </a:rPr>
              <a:t>constant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cc0000"/>
                </a:solidFill>
                <a:latin typeface="Arial"/>
              </a:rPr>
              <a:t>adrese de celule (referinţe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cc0000"/>
                </a:solidFill>
                <a:latin typeface="Arial"/>
              </a:rPr>
              <a:t>funcţii Exc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609480"/>
            <a:ext cx="6553080" cy="1905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3. Ce </a:t>
            </a: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termeni pot să apar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într-o expresie 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761760" y="428400"/>
            <a:ext cx="7620480" cy="1199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pt-BR" sz="3200" spc="-1" strike="noStrike">
                <a:solidFill>
                  <a:srgbClr val="cc0000"/>
                </a:solidFill>
                <a:latin typeface="Times New Roman"/>
              </a:rPr>
              <a:t>.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Ce tipuri de operatori întâlnim în Excel? Exemplificaţi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Operatorii de calcul recunoscuti de program s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operatori aritmetici(+, -, *,/,</a:t>
            </a:r>
            <a:r>
              <a:rPr b="1" lang="ro-RO" sz="2800" spc="-1" strike="noStrike">
                <a:solidFill>
                  <a:srgbClr val="cc0000"/>
                </a:solidFill>
                <a:latin typeface="Arial"/>
              </a:rPr>
              <a:t>^,%)</a:t>
            </a: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operatori de </a:t>
            </a:r>
            <a:r>
              <a:rPr b="1" lang="ro-RO" sz="2800" spc="-1" strike="noStrike">
                <a:solidFill>
                  <a:srgbClr val="cc0000"/>
                </a:solidFill>
                <a:latin typeface="Arial"/>
              </a:rPr>
              <a:t>comparaţie (&lt;,&gt;,&lt;=,&gt;=,=,&lt;&gt;)</a:t>
            </a: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Arial"/>
              </a:rPr>
              <a:t>operator de tip text (&amp;)</a:t>
            </a: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Arial"/>
              </a:rPr>
              <a:t>operatorii de referinţă (: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Arial"/>
              </a:rPr>
              <a:t>Ce tipuri de expresii se pot defini în funcţie de rezultatul formule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n functie de rezultatul formulei, se pot defini tipurile de expresi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Expresii numerice- care produc un rezultat numeric, ex. calculul medi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Expresii logice- produc ca rezultat o valoare de adevar: “adevarat” sau “fa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Expresii tip şir de caractere – au ca rezultat un sir de caract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Expresii de tip adresă- au ca rezultat informatia de referinta a unei celule sau a unei zone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981080"/>
            <a:ext cx="8534520" cy="46483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rdinea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de efectuare a operatiilor  se supune 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                  prioritatii operatorilor,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1: operatori de adresare,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2: - (numar negativ – ca semn al constantelor) si % (procentul)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3: ^ (ridicarea la putere)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4: * (inmultire) si / (impartire)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5: + (adunare),  - (scadere)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6: &amp; (operatorul de concatenare)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7: operatori relationali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rioritatea operatorilor scade pe masura ce nivelul creste . Astfel, intai se executa operatiile de nivel 1, apoi cele de nivel 2 s.a.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61760" y="505080"/>
            <a:ext cx="7620480" cy="11995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cc0000"/>
                </a:solidFill>
                <a:latin typeface="Arial"/>
              </a:rPr>
              <a:t>Care este ordinea de efectuare a operaţiil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248520" y="533520"/>
            <a:ext cx="2514600" cy="2401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4800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660066"/>
                </a:solidFill>
                <a:latin typeface="Arial"/>
              </a:rPr>
              <a:t>Realizati aplicatia din fisa de luc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2057400"/>
            <a:ext cx="6096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9999"/>
                  </a:solidFill>
                  <a:prstDash val="lgDash"/>
                  <a:miter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Aplicatie practica</a:t>
            </a:r>
            <a:endParaRPr b="1" lang="en-US" sz="2400" spc="1" strike="noStrike">
              <a:ln w="28440">
                <a:solidFill>
                  <a:srgbClr val="ff9999"/>
                </a:solidFill>
                <a:prstDash val="lgDash"/>
                <a:miter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057400" y="2514600"/>
            <a:ext cx="5029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agneto"/>
              </a:rPr>
              <a:t>Va multumesc!</a:t>
            </a:r>
            <a:endParaRPr b="1" lang="en-US" sz="2800" spc="1" strike="noStrike">
              <a:ln w="9360">
                <a:solidFill>
                  <a:srgbClr val="ffff99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agneto"/>
              <a:ea typeface="Magneto"/>
            </a:endParaRPr>
          </a:p>
        </p:txBody>
      </p:sp>
    </p:spTree>
  </p:cSld>
  <p:transition spd="slow">
    <p:blinds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k</cp:lastModifiedBy>
  <dcterms:modified xsi:type="dcterms:W3CDTF">2010-12-18T19:47:2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