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E25-0F36-4303-8BD0-8871F0BA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86C-312E-482C-AEBD-7C9C1919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58B-E3DC-47A3-BE08-F2A707BD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CB4-D507-4999-B89C-2B5874A3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F2C9-7486-44D0-9194-27F53AC4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CCA5-161B-4D49-857C-B04502B6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FBDB-480E-4FBD-8513-3B94B631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9E21-376E-4EE5-81D0-6C6859CA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95F2-24BB-4A72-AA07-89F41A96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5D09-E831-45E3-BE58-50AB100B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ECFE-27E9-4BD7-9B03-A5A70E63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F35-917A-48F6-8CB2-2690BB1F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B08D-75BA-42C0-8666-2147E14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6746-8DB2-4A84-9DB5-36CD3B50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94A6-1B86-46DC-9E67-BE32BB0F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9FF1-1B7F-4DA2-9411-3646E78A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38CC-3B61-4530-B1FA-10BAC346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66B1-88BF-4E5E-A155-FBDC737A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B9F5-A6BF-418C-ABA2-41265D84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81AB-8719-4008-8037-0D17CAC1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459B-5650-46C0-AD04-41811CF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1060-FD5F-4326-91E1-D0A8612A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A76-002D-464F-98E9-2ED7A55D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853B-117F-4925-BCC1-7783E274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7B82-98CD-4405-B4CF-9A9C646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1BD2-7AA0-487F-AAA3-9A67D96A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E315-70C0-4637-B74A-29CAC228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F991-1E88-4588-AA19-C1CAA388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E1B9-D2CE-4CED-B570-B8D776F9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D80C-3C3B-4A5E-8973-8BCF7924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5E2-A397-476C-8192-D840512B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F64-95C6-4133-9394-9857788A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1EA-7757-4D48-84B7-0895372E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4DE-290C-4037-8001-4903F091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0F1-929A-42F6-B173-59FD3A5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F90-5540-4C29-A03F-9632958E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3E05-7B5A-4D2D-8905-376521854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1500-09EB-43B4-86F7-43068A8111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E95F-F205-4976-AC85-B2161CBF15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523520" y="4800600"/>
            <a:ext cx="3124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a a XIII  SERAL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7524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Titlul lectiei: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Operatii de calcul numeric si logic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 </a:t>
            </a: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- Formule de calcul -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4172040"/>
            <a:ext cx="268596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28600"/>
            <a:ext cx="5638680" cy="3886200"/>
          </a:xfrm>
          <a:prstGeom prst="wedgeRoundRectCallout">
            <a:avLst>
              <a:gd name="adj1" fmla="val 56023"/>
              <a:gd name="adj2" fmla="val 61439"/>
              <a:gd name="adj3" fmla="val 16667"/>
            </a:avLst>
          </a:prstGeom>
          <a:solidFill>
            <a:srgbClr val="ffff00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Material realizat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prof. Nicolae Comanici  Colegiul Tehnic ,,Dorin pavel’’ Alba iu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Anul sc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2010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933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5812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0000"/>
                </a:solidFill>
                <a:uFillTx/>
                <a:latin typeface="Arial"/>
              </a:rPr>
              <a:t>Definitie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: o formula, expresie de calcul, este o combinatie de termeni si operatori de calcul, construita asemanator expresiilor din matematica, dar in conventiile de notatie impuse de catre programele Excel  si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4880" y="255096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04920"/>
            <a:ext cx="6095880" cy="10666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ctualizarea cunoştinţ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133720"/>
            <a:ext cx="670536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Ce este o expresie (formulă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276360"/>
            <a:ext cx="8305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Se comunică începând cu semnul “ =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Exemplu: formula de calcul a med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=averag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066680"/>
            <a:ext cx="83818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</a:rPr>
              <a:t>Cum se comunică orice formulă în Excel 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39621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constan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adrese de celule (referinţe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funcţii 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09480"/>
            <a:ext cx="6553080" cy="1905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 Ce </a:t>
            </a: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termeni pot să apar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într-o expresie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61760" y="428400"/>
            <a:ext cx="7620480" cy="1199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Ce tipuri de operatori întâlnim în Excel? Exemplificaţi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i de calcul recunoscuti de program s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 aritmetici(+, -, *,/,</a:t>
            </a: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^,%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 de </a:t>
            </a: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comparaţie (&lt;,&gt;,&lt;=,&gt;=,=,&lt;&gt;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operator de tip text (&amp;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operatorii de referinţă (: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Arial"/>
              </a:rPr>
              <a:t>Ce tipuri de expresii se pot defini în funcţie de rezultatul formule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 functie de rezultatul formulei, se pot defini tipurile de expres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numerice- care produc un rezultat numeric, ex. calculul med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logice- produc ca rezultat o valoare de adevar: “adevarat” sau “fa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tip şir de caractere – au ca rezultat un sir de caract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de tip adresă- au ca rezultat informatia de referinta a unei celule sau a unei zone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46483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dine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de efectuare a operatiilor  se supune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              prioritatii operatorilor,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1: operatori de adresare,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2: - (numar negativ – ca semn al constantelor) si % (procentul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3: ^ (ridicarea la pute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4: * (inmultire) si / (imparti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5: + (adunare),  - (scade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6: &amp; (operatorul de concatena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7: operatori relationali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ioritatea operatorilor scade pe masura ce nivelul creste . Astfel, intai se executa operatiile de nivel 1, apoi cele de nivel 2 s.a.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1760" y="505080"/>
            <a:ext cx="7620480" cy="11995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0000"/>
                </a:solidFill>
                <a:latin typeface="Arial"/>
              </a:rPr>
              <a:t>Care este ordinea de efectuare a operaţiil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51460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Realizati aplicatia din fisa de luc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2057400"/>
            <a:ext cx="6096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9999"/>
                  </a:solidFill>
                  <a:prstDash val="lgDash"/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plicatie practica</a:t>
            </a:r>
            <a:endParaRPr b="1" lang="en-US" sz="2400" spc="1" strike="noStrike">
              <a:ln w="28440">
                <a:solidFill>
                  <a:srgbClr val="ff9999"/>
                </a:solidFill>
                <a:prstDash val="lgDash"/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7400" y="2514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agneto"/>
              </a:rPr>
              <a:t>Va multumesc!</a:t>
            </a:r>
            <a:endParaRPr b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p:transition spd="slow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</cp:lastModifiedBy>
  <dcterms:modified xsi:type="dcterms:W3CDTF">2010-12-18T19:47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