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F1D-36C3-4F17-9C9C-FE8029AB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34B-C25A-4213-9592-035E0E1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3E0-25E3-4BC0-9F35-7DF4B811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E6B-24BE-4EF3-AC11-61A87241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A5EA-220F-48C7-963C-6D2F1F2F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D90F-438F-4DEF-B950-2FCD43A2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30A1-7857-422C-AC89-9ABE225B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B6F6-8EB5-4162-82B8-EB9600B8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FE38-0595-4BE7-AC6D-82A92762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5C49-2FC5-4C1F-BC7F-8A99ACD0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4A26-8D99-47E4-A70A-FB545C29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FFBA-E82E-4A3D-90AB-E316DDA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AB18-4314-4A9F-A464-11C35D97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5E1D-30D1-47C4-BF17-871CCD4E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584C-72F1-4B96-A9D3-8C00DF87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DF4E-074D-4152-B6AC-E915B607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65BB-2075-4B5C-958E-2398F2C1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5D754-73AE-4A7B-97B2-4485CB83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AC3C-C1A8-4945-967F-5876B36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0484A-ACBA-40C1-AEF6-C8647875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6FBD-A97A-4349-8545-519E83D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9949-BBE9-4D6A-ABD2-6C709A54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CBCC-CCA1-485A-B8DA-6F3855ED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118D-5171-4DF3-AEFC-2E86CE6D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2EB8-6FA2-46BD-AEF2-600F6A0F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3A6D6-281B-435A-B439-822C1D40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1C0D-A8CE-43EE-ADDA-A62EB257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333C4-D805-440F-9814-2E4223DD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C96F-E96C-4A83-B1F0-0CD998B2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D02D-7D82-426D-A03B-229ABEAF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545-5C00-471E-A0A7-36D8D45C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55A-5E35-4E3B-B667-57C3F486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399-4DFC-4675-AA69-F464AA96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414-29CA-4A2E-81A5-837224F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A83-8520-4635-93D6-A96F9AAB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BD1-D71B-4E46-9868-BF873B8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5B5D-D7A9-475D-BFE5-E9131451D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CD59-9AD7-4D10-87FD-C1124AA140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4533-7CE1-46DE-AF36-EF74A2EF13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23520" y="4800600"/>
            <a:ext cx="312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a a XIII  SERAL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7524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Titlul lectiei: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Operatii de calcul numeric si logic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 </a:t>
            </a: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- Formule de calcul -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417204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28600"/>
            <a:ext cx="5638680" cy="3886200"/>
          </a:xfrm>
          <a:prstGeom prst="wedgeRoundRectCallout">
            <a:avLst>
              <a:gd name="adj1" fmla="val 56023"/>
              <a:gd name="adj2" fmla="val 61439"/>
              <a:gd name="adj3" fmla="val 16667"/>
            </a:avLst>
          </a:prstGeom>
          <a:solidFill>
            <a:srgbClr val="ffff00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Material realizat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prof. Nicolae Comanici  Colegiul Tehnic ,,Dorin pavel’’ Alba i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Anul 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2010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933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5812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0000"/>
                </a:solidFill>
                <a:uFillTx/>
                <a:latin typeface="Arial"/>
              </a:rPr>
              <a:t>Definitie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: o formula, expresie de calcul, este o combinatie de termeni si operatori de calcul, construita asemanator expresiilor din matematica, dar in conventiile de notatie impuse de catre programele Excel  si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4880" y="255096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04920"/>
            <a:ext cx="6095880" cy="10666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ctualizarea cunoştinţ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133720"/>
            <a:ext cx="670536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Ce este o expresie (formulă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27636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Se comunică începând cu semnul “ =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Exemplu: formula de calcul a med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=averag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066680"/>
            <a:ext cx="83818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</a:rPr>
              <a:t>Cum se comunică orice formulă în Excel 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39621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constan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adrese de celule (referinţe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funcţii 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480"/>
            <a:ext cx="6553080" cy="1905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 Ce </a:t>
            </a: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termeni pot să apar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într-o expresie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61760" y="428400"/>
            <a:ext cx="7620480" cy="1199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Ce tipuri de operatori întâlnim în Excel? Exemplificaţi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i de calcul recunoscuti de program s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 aritmetici(+, -, *,/,</a:t>
            </a: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^,%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 de </a:t>
            </a: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comparaţie (&lt;,&gt;,&lt;=,&gt;=,=,&lt;&gt;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operator de tip text (&amp;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operatorii de referinţă (: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Arial"/>
              </a:rPr>
              <a:t>Ce tipuri de expresii se pot defini în funcţie de rezultatul formule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 functie de rezultatul formulei, se pot defini tipurile de expres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numerice- care produc un rezultat numeric, ex. calculul med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logice- produc ca rezultat o valoare de adevar: “adevarat” sau “fa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tip şir de caractere – au ca rezultat un sir de caract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de tip adresă- au ca rezultat informatia de referinta a unei celule sau a unei zone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46483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dine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de efectuare a operatiilor  se supune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            prioritatii operatorilor,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1: operatori de adresare,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2: - (numar negativ – ca semn al constantelor) si % (procentul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3: ^ (ridicarea la pute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4: * (inmultire) si / (imparti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5: + (adunare),  - (scade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6: &amp; (operatorul de concatena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7: operatori relationali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ioritatea operatorilor scade pe masura ce nivelul creste . Astfel, intai se executa operatiile de nivel 1, apoi cele de nivel 2 s.a.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1760" y="505080"/>
            <a:ext cx="7620480" cy="11995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0000"/>
                </a:solidFill>
                <a:latin typeface="Arial"/>
              </a:rPr>
              <a:t>Care este ordinea de efectuare a operaţiil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51460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Realizati aplicatia din fisa de luc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2057400"/>
            <a:ext cx="6096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9999"/>
                  </a:solidFill>
                  <a:prstDash val="lgDash"/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plicatie practica</a:t>
            </a:r>
            <a:endParaRPr b="1" lang="en-US" sz="2400" spc="1" strike="noStrike">
              <a:ln w="28440">
                <a:solidFill>
                  <a:srgbClr val="ff9999"/>
                </a:solidFill>
                <a:prstDash val="lgDash"/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7400" y="2514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agneto"/>
              </a:rPr>
              <a:t>Va multumesc!</a:t>
            </a:r>
            <a:endParaRPr b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</cp:lastModifiedBy>
  <dcterms:modified xsi:type="dcterms:W3CDTF">2010-12-18T19:47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