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6AD-4AB9-4077-907A-66237BFD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69C-54E0-4EA8-9723-9BA914CE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9A5-BA4A-46E1-978A-9B382B0E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E12-CFA0-4A68-B1D8-E05473BC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5B02-724D-4C11-8CF4-FFDA3D0D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8EA2-6E6D-4145-9C16-C1894996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8A27-24A5-44E8-92E8-54D6FAD6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869A-FC26-4C6B-A751-5369CE33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A06D-7AB9-4134-B392-081C76C9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2901-7818-4360-9DE9-B3E4D8EC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29DF-451E-49DB-8938-7754FA87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995-34B0-403B-9273-DCC1B49A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C48B-0CF2-40D4-A328-45F3ECD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42CC-C9F1-4C30-9ED1-5A1DA1ED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FE05-DD45-4D05-B260-B1CC4C60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99F-8E49-476E-AE03-9C5932A5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CD3B-0D3D-4FFB-B67A-F5047DCD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5265-4AEB-4AED-B295-7AD79083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F0B8-A2DB-41D1-A8B9-EF79D033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5D32-DDE4-459A-A246-B925E8B8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AD71A-7775-4F0C-B908-5DBF7815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4EC6-D425-491E-8D84-368457E6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5B5-AC4A-4EAC-844C-B14686A6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25AD-4EDB-49D6-895D-5A59F094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20EA-A0B8-4969-B238-356F4AD1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82B1-8828-479A-BD13-69596E0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2D20-DDA8-4528-9B95-02AE9526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A6E3-7FF4-47BC-B519-669C1EC7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EA7E-CDF8-43EF-8EAA-84502162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1235B-663C-4DA9-9CE3-8F5A7E3D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554-53DF-4164-8EC8-995C6148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D85-C6ED-43E1-ABB1-F32A0B07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A9F-A2BC-445D-A78C-686B6D60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748-C2A9-4E5C-B1C5-23FEDE66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AB2-8EF4-422E-9DE6-0F0EA9FC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A5F-9F3F-4922-A888-BF222C1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C704-E1BD-495F-8C3A-B88412F72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B87D-8087-4A39-A2E0-E47B3A09A8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C167-F366-473D-BF0F-49F17EF7EE9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62520" y="487692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a a 10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7524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Titlul lectiei: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Efecte de animatie -  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animatie particularizata </a:t>
            </a:r>
            <a:endParaRPr b="1" lang="en-US" sz="20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12720" cy="189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Atat obiectelor de tip text cat si celor grafice de pe slide, le pot fi asociate  anumite efecte vizuale, de animatie sau/si sonore, care maresc atractivitatea prezentar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 asociaza efecte selecta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Expunere diapozitive – Animatie particulariz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5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" dur="5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Efectele adaugate se pot clasifica in urmatoarele categor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828800"/>
            <a:ext cx="5943600" cy="1447920"/>
          </a:xfrm>
          <a:prstGeom prst="rightArrow">
            <a:avLst>
              <a:gd name="adj1" fmla="val 50000"/>
              <a:gd name="adj2" fmla="val 102623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care se deruleaza   la intrarea ob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 pagina de prez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971800"/>
            <a:ext cx="6019920" cy="1371600"/>
          </a:xfrm>
          <a:prstGeom prst="rightArrow">
            <a:avLst>
              <a:gd name="adj1" fmla="val 50000"/>
              <a:gd name="adj2" fmla="val 109724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care se deruleaza   la iesirea  ob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038480"/>
            <a:ext cx="6019560" cy="1447920"/>
          </a:xfrm>
          <a:prstGeom prst="rightArrow">
            <a:avLst>
              <a:gd name="adj1" fmla="val 50000"/>
              <a:gd name="adj2" fmla="val 103935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fecte de accentuare sau subliniere a unui obi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181480"/>
            <a:ext cx="6019920" cy="1371600"/>
          </a:xfrm>
          <a:prstGeom prst="rightArrow">
            <a:avLst>
              <a:gd name="adj1" fmla="val 50000"/>
              <a:gd name="adj2" fmla="val 109724"/>
            </a:avLst>
          </a:prstGeom>
          <a:solidFill>
            <a:srgbClr val="a50021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i de deplasare: deplasari verticale, orizon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u traiectorie desenata de proi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27168E-006 C 0.18976 0.00023 0.37951 0.00069 0.45868 -0.02335 C 0.53785 -0.0474 0.48542 -0.1237 0.47465 -0.14382 C 0.46389 -0.16393 0.41076 -0.15977 0.39375 -0.14382 C 0.37674 -0.12786 0.37448 -0.08231 0.37309 -0.04879 C 0.3717 -0.01526 0.38021 0.02936 0.38576 0.05688 C 0.39132 0.08439 0.41302 0.18659 0.40642 0.11607 C 0.39983 0.04555 0.37292 -0.16023 0.34601 -0.36578 E">
                                      <p:cBhvr>
                                        <p:cTn id="4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3886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80880"/>
            <a:ext cx="4038480" cy="6172200"/>
          </a:xfrm>
          <a:prstGeom prst="verticalScroll">
            <a:avLst>
              <a:gd name="adj" fmla="val 12500"/>
            </a:avLst>
          </a:prstGeom>
          <a:solidFill>
            <a:srgbClr val="a50021"/>
          </a:solidFill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obiect po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vea asoci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i mu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fec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a lor e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fisata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eeas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ereas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249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entru fiecare efect se poate deschide o lista de optiuni care sa permi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fixarea momentului de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 directiei de miscare, a vitez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socierea unei secvente son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socierea unui alt efect la terminarea celui cu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repetarea efectului de un numar de 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Daca se animeaza un text, putem selecta modul de animatie la nivel de cuvant sau chiar de lit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629400" y="838080"/>
            <a:ext cx="2209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Sa se aplice efecte de animatie particularizata in prezentarea inceputa in ora trecu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43000" y="1523880"/>
            <a:ext cx="609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9999"/>
                  </a:solidFill>
                  <a:prstDash val="lgDash"/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plicatie practica</a:t>
            </a:r>
            <a:endParaRPr b="1" lang="en-US" sz="2400" spc="1" strike="noStrike">
              <a:ln w="28440">
                <a:solidFill>
                  <a:srgbClr val="ff9999"/>
                </a:solidFill>
                <a:prstDash val="lgDash"/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57400" y="2514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agneto"/>
              </a:rPr>
              <a:t>Va multumesc!</a:t>
            </a:r>
            <a:endParaRPr b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p:transition spd="slow">
    <p:blinds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28600"/>
            <a:ext cx="5638680" cy="3886200"/>
          </a:xfrm>
          <a:prstGeom prst="wedgeRoundRectCallout">
            <a:avLst>
              <a:gd name="adj1" fmla="val 56023"/>
              <a:gd name="adj2" fmla="val 61439"/>
              <a:gd name="adj3" fmla="val 16667"/>
            </a:avLst>
          </a:prstGeom>
          <a:solidFill>
            <a:srgbClr val="6666ff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Material realizat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prof. Evelina Tur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Liceul Teoretic “Nicolae Iorga” Bra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Anul sc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2010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933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pebraila</cp:lastModifiedBy>
  <dcterms:modified xsi:type="dcterms:W3CDTF">2010-10-31T16:48:4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