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151-84AA-4230-A5B9-7092C68A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E7A-153E-4BB8-8119-DE618E0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8D4-3559-46E6-92B8-DF5C1215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915-CE3D-4FDF-A0D4-108AAE2F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DE45-F529-4BB1-87AF-3C07CE9D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8D5-3DB1-4460-AA21-AB4BDD1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043-C96D-4A4F-8317-69485A1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D70B-3CE2-4DFE-A999-37F0381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1723-E59E-4E3E-995E-4F2CC46F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65E6-9DD3-494A-8FBA-060B465A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5F1-8DA6-46A4-83AB-3058A12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88D-E57B-4AA2-B83F-66026A8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1D9D-E4BC-4C3D-8533-DDAE054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23BA-92D8-4EA3-B986-1D0F21C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8E0-CCBF-4200-9136-33CF61A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E26-AAF2-4A16-A917-19E7041B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E82-6115-4ECD-8ECC-621673B3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2481-4486-4357-8E43-328BDF9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A231-8DB3-4164-9804-DA542EB0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73E6-031B-4E9F-8DCE-4CC60877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B68A-E923-4A8A-976F-CFD1FCB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8435-14B8-403F-BDF6-F4C0214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A40-60FF-4407-95D2-408D7B0B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2350-31E1-4C1B-A70B-E3157EB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B163-97FE-4CB6-8CD1-45DFC65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4900-600E-45D4-8A9F-D5849E6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3A2B-286F-4C54-8E8B-37E1E01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D852-403C-4E21-A95E-F7BB6951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9E4E-8F3F-4D48-813A-6C160707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A2E0-673F-4A3E-B911-159C2BBB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8D9-8350-4221-9B8C-1441C2C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E4D-166E-4EEE-8D13-17D4E0C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6B7-39EE-4F1E-8548-3DEB2407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A277-517F-4CB9-9A01-7D4BD66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E19-28E2-4DA2-8371-30033E3C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1CB-81B9-4670-8CCA-17BD03AE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D68-7E40-4FAB-9E9C-986814302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0F8-7139-4208-9F8C-EDAD560C7B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CB8-A695-4DCC-BB48-7C823F0B56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62520" y="4876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10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Efecte de animatie - 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animatie particularizata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1272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at obiectelor de tip text cat si celor grafice de pe slide, le pot fi asociate  anumite efecte vizuale, de animatie sau/si sonore, care maresc atractivitatea prezentar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 asociaza efecte selecta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unere diapozitive – Animatie particulariz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5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ectele adaugate se pot clasifica in urmatoarele categor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28800"/>
            <a:ext cx="5943600" cy="1447920"/>
          </a:xfrm>
          <a:prstGeom prst="rightArrow">
            <a:avLst>
              <a:gd name="adj1" fmla="val 50000"/>
              <a:gd name="adj2" fmla="val 102623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ntrarea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 de prez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esirea 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038480"/>
            <a:ext cx="6019560" cy="1447920"/>
          </a:xfrm>
          <a:prstGeom prst="rightArrow">
            <a:avLst>
              <a:gd name="adj1" fmla="val 50000"/>
              <a:gd name="adj2" fmla="val 103935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de accentuare sau subliniere a unui o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18148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i de deplasare: deplasari verticale, orizon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u traiectorie desenata de proi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C 0.18976 0.00023 0.37951 0.00069 0.45868 -0.02335 C 0.53785 -0.0474 0.48542 -0.1237 0.47465 -0.14382 C 0.46389 -0.16393 0.41076 -0.15977 0.39375 -0.14382 C 0.37674 -0.12786 0.37448 -0.08231 0.37309 -0.04879 C 0.3717 -0.01526 0.38021 0.02936 0.38576 0.05688 C 0.39132 0.08439 0.41302 0.18659 0.40642 0.11607 C 0.39983 0.04555 0.37292 -0.16023 0.34601 -0.36578 E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6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4038480" cy="6172200"/>
          </a:xfrm>
          <a:prstGeom prst="verticalScroll">
            <a:avLst>
              <a:gd name="adj" fmla="val 12500"/>
            </a:avLst>
          </a:prstGeom>
          <a:solidFill>
            <a:srgbClr val="a50021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obiect po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a asoc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 mu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ec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a lor e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is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ee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rea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49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ntru fiecare efect se poate deschide o lista de optiuni care sa perm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xarea momentului d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 directiei de miscare, a vite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ei secvente so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ui alt efect la terminarea celui cu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petarea efectului de un numar de 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aca se animeaza un text, putem selecta modul de animatie la nivel de cuvant sau chiar de lit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838080"/>
            <a:ext cx="2209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Sa se aplice efecte de animatie particularizata in prezentarea inceputa in ora trecu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1523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66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prof. Evelina Tur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Liceul Teoretic “Nicolae Iorga” Bra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ebraila</cp:lastModifiedBy>
  <dcterms:modified xsi:type="dcterms:W3CDTF">2010-10-31T16:48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