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4FA-9C99-41F2-9671-25439B89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904-87DD-4C9F-A8C5-6F941FE9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CB6-C7F0-40F4-B1B0-48441BAB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E03-05FC-49CE-A8F1-D701AE33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8090-631B-4D37-A31B-41C9C01A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ED9-D2CA-469D-9748-39A7793A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9C46-5E4B-4745-BB62-B70A9EC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AAEE-DEAF-4FE6-A5E8-BE55CF28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A61A-5B15-4081-8F6F-37D667EC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82E-CA9F-4FCF-B6F9-ACA372B8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6951-F6B0-410F-B07D-739EC78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462-DFD9-4C6F-8362-D0E2561F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9095-2376-417C-A6C3-7918D4C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13AA-843C-419C-96D3-9F2822E9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F1C3-5BFC-4D93-9507-A474FC18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2794-315B-4BAC-9F4A-00816901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C2FB-2F45-454B-B3C8-916AC6C9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EA38-B514-4FC8-A8F8-3A8AE4BA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F775-7189-4BA3-A176-67E11A20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AF81-EF5D-4764-8FD1-23065C2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0DA2-7595-418B-BFF2-5577D856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3921-6474-4834-9964-D7F9A046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909-B931-4BE9-BF5B-4DFF5E6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904E-EE82-4159-BCBB-D77504BE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E488A-B213-4B8A-97F7-17AE1BBB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6B2E-E9A6-4F0F-AEAC-14FA8AFB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5A8B-F2B3-463C-82C6-C39E379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41EC-C301-4B22-87D1-E145AC36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6A5C-FEEB-4854-AB17-9984B2E8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EA15-882A-43F0-81F3-7123166C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D5A-0066-4732-832C-41FC511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F0E-449F-4700-9AB8-F9BBC3D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449-C998-466F-9F7F-D52AC84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0D9-A42C-41CB-BC5D-9C275D9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32D8-877F-4CB7-B1E2-FC2654C9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0AB-EA34-4D17-BF09-23BF50F6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F84-CC5D-479F-AC1B-25E87B7BE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139-3CB3-48BF-ACD6-3F6E4DBD33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926-C12F-415B-9A11-95971B6CD1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62520" y="4876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10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Efecte de animatie - 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animatie particularizata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1272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at obiectelor de tip text cat si celor grafice de pe slide, le pot fi asociate  anumite efecte vizuale, de animatie sau/si sonore, care maresc atractivitatea prezentar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 asociaza efecte selecta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unere diapozitive – Animatie particulariz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5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ectele adaugate se pot clasifica in urmatoarele categor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28800"/>
            <a:ext cx="5943600" cy="1447920"/>
          </a:xfrm>
          <a:prstGeom prst="rightArrow">
            <a:avLst>
              <a:gd name="adj1" fmla="val 50000"/>
              <a:gd name="adj2" fmla="val 102623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ntrarea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 de prez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esirea 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038480"/>
            <a:ext cx="6019560" cy="1447920"/>
          </a:xfrm>
          <a:prstGeom prst="rightArrow">
            <a:avLst>
              <a:gd name="adj1" fmla="val 50000"/>
              <a:gd name="adj2" fmla="val 103935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de accentuare sau subliniere a unui o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18148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i de deplasare: deplasari verticale, orizon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u traiectorie desenata de proi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C 0.18976 0.00023 0.37951 0.00069 0.45868 -0.02335 C 0.53785 -0.0474 0.48542 -0.1237 0.47465 -0.14382 C 0.46389 -0.16393 0.41076 -0.15977 0.39375 -0.14382 C 0.37674 -0.12786 0.37448 -0.08231 0.37309 -0.04879 C 0.3717 -0.01526 0.38021 0.02936 0.38576 0.05688 C 0.39132 0.08439 0.41302 0.18659 0.40642 0.11607 C 0.39983 0.04555 0.37292 -0.16023 0.34601 -0.36578 E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6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4038480" cy="6172200"/>
          </a:xfrm>
          <a:prstGeom prst="verticalScroll">
            <a:avLst>
              <a:gd name="adj" fmla="val 12500"/>
            </a:avLst>
          </a:prstGeom>
          <a:solidFill>
            <a:srgbClr val="a50021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obiect po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a asoc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 mu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ec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a lor e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is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ee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rea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49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ntru fiecare efect se poate deschide o lista de optiuni care sa perm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xarea momentului d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 directiei de miscare, a vite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ei secvente so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ui alt efect la terminarea celui cu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petarea efectului de un numar de 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aca se animeaza un text, putem selecta modul de animatie la nivel de cuvant sau chiar de lit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838080"/>
            <a:ext cx="2209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Sa se aplice efecte de animatie particularizata in prezentarea inceputa in ora trecu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1523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66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prof. Evelina Tur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Liceul Teoretic “Nicolae Iorga” Bra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ebraila</cp:lastModifiedBy>
  <dcterms:modified xsi:type="dcterms:W3CDTF">2010-10-31T16:48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