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40A-3617-44C4-AF37-A8163B3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0D4-D4A0-4E35-B07D-A74B27F7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3C0-32EB-41AA-8445-33DEF5F9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948-6AA8-42B5-A11C-8F9BADD2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2003-5764-44B4-B3F2-A2CAE40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21F-5374-4A97-A707-4DACAF5D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140D-D2E9-4709-8BB4-2C4C330D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3ED5-625E-49F2-8C4C-9CD91A1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1A0-865C-4C7E-848E-911CA17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82FE-27A2-49DE-9A56-D641159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325-4E84-438C-9708-3875813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9A0-A0C1-41FC-A752-27DBAE57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583E-38D9-46D7-8742-4830809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D575-16E9-4970-9DE2-6E3BBD9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10EE-ACF2-4F90-9BEB-5F382CC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D5F-5F29-4DFC-AD46-12F16EAC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405-352F-4758-BEAD-7844C920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F091-EABC-4F7E-B1F7-AA7E8ABF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AFB4-1ED2-42BD-A668-F588C534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572D-B4F2-456D-925D-8FCD52E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0C0F-7F47-4659-9106-25E59BA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D36F-49AB-484C-8867-4208FC0C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CED-D99D-4EC0-805E-C1CB6D4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30EC-5C06-4BD1-AC6A-C2ECF23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616B-079A-446A-A511-D41AB1C6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8E2A-3CC7-4A24-B2BE-6F5A3F6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C31A-2D1D-4B03-8DB9-D5E0142C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0582-726D-4E88-ABEB-616D5118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567B-5EF1-4EEA-8BD8-889CDED1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1828-76FE-41A0-B4F4-D8A24EA4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8BB-C1E9-47A2-B23C-990D447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FDB-6792-4738-90EA-9AFE8642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422-A574-4D05-BFE2-D0FB280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C32-F630-45D5-BF84-C6080DD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3BF-E4ED-4D87-9822-FEEDD18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C27-CCF7-4B17-BE66-5FC2599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14FC-4792-4DF3-AC3E-F1E3A7844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35E2-1A29-4397-9600-8D7D6F25A5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65E-2DB6-40E5-B68F-E684D9DE528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62520" y="4876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10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Efecte de animatie - 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animatie particularizata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1272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at obiectelor de tip text cat si celor grafice de pe slide, le pot fi asociate  anumite efecte vizuale, de animatie sau/si sonore, care maresc atractivitatea prezentar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 asociaza efecte selecta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unere diapozitive – Animatie particulariz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5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ectele adaugate se pot clasifica in urmatoarele categor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28800"/>
            <a:ext cx="5943600" cy="1447920"/>
          </a:xfrm>
          <a:prstGeom prst="rightArrow">
            <a:avLst>
              <a:gd name="adj1" fmla="val 50000"/>
              <a:gd name="adj2" fmla="val 102623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ntrarea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 de prez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esirea 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038480"/>
            <a:ext cx="6019560" cy="1447920"/>
          </a:xfrm>
          <a:prstGeom prst="rightArrow">
            <a:avLst>
              <a:gd name="adj1" fmla="val 50000"/>
              <a:gd name="adj2" fmla="val 103935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de accentuare sau subliniere a unui o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18148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i de deplasare: deplasari verticale, orizon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u traiectorie desenata de proi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C 0.18976 0.00023 0.37951 0.00069 0.45868 -0.02335 C 0.53785 -0.0474 0.48542 -0.1237 0.47465 -0.14382 C 0.46389 -0.16393 0.41076 -0.15977 0.39375 -0.14382 C 0.37674 -0.12786 0.37448 -0.08231 0.37309 -0.04879 C 0.3717 -0.01526 0.38021 0.02936 0.38576 0.05688 C 0.39132 0.08439 0.41302 0.18659 0.40642 0.11607 C 0.39983 0.04555 0.37292 -0.16023 0.34601 -0.36578 E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6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4038480" cy="6172200"/>
          </a:xfrm>
          <a:prstGeom prst="verticalScroll">
            <a:avLst>
              <a:gd name="adj" fmla="val 12500"/>
            </a:avLst>
          </a:prstGeom>
          <a:solidFill>
            <a:srgbClr val="a50021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obiect po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a asoc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 mu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ec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a lor e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is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ee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rea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49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ntru fiecare efect se poate deschide o lista de optiuni care sa perm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xarea momentului d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 directiei de miscare, a vite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ei secvente so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ui alt efect la terminarea celui cu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petarea efectului de un numar de 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aca se animeaza un text, putem selecta modul de animatie la nivel de cuvant sau chiar de lit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838080"/>
            <a:ext cx="2209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Sa se aplice efecte de animatie particularizata in prezentarea inceputa in ora trecu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1523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66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prof. Evelina Tur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Liceul Teoretic “Nicolae Iorga” Bra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ebraila</cp:lastModifiedBy>
  <dcterms:modified xsi:type="dcterms:W3CDTF">2010-10-31T16:48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