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3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lick.wav" ContentType="audio/x-wav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47AF-178B-421A-974D-28161DAB3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C33B-0F16-42BF-BA6D-41BF68C8B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F84B-F450-448C-923C-55CF0FC35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6B4B-0C06-49E4-97C3-E9FB29A82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8D4E-195C-46DD-BA20-CB1D82565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1C36-FB40-4244-A5DE-7165B0CD1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2CA8-E54D-410B-AF3F-25140F2B2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D467-3E2A-4F80-BDA4-AAB8BC420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DE3B-FBD7-4643-8473-9BB99CD7A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628-E995-4946-9DE8-C692F9AB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B28-CDD9-4A4D-9783-B433E664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D1D-A7E1-4BE4-BBD3-9ADFAA02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011D-EE93-4B9C-A378-9A436481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1152-1CE2-4A6B-9A6E-8D24CDEC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041C-9528-4FE2-AAF7-EEB838A2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197D-B36E-4741-8A19-E14F9CDA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4FD9-4217-43E4-A661-EF30A188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227F-9A9F-43B2-9071-9B9C5B10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4F83-B031-4181-B49D-71F3443C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4D1F-7B05-490F-B290-AC2D33EF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454-5053-4958-9D22-9301AF3A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D6B1-1A05-4F71-8C06-2D0D5A96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D5FE-153F-4FDB-88E0-2673B825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C439-9976-435E-91BC-5EC81C1F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FB7D-419F-47E1-938C-CFB8C210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3BD5-50CF-47D4-88A8-59CE0AF0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AAF1-A3AB-4D85-96FF-F30D0A9D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5ADB-4429-4EE6-8E84-2A0C89EF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FA44-6B93-44FC-84BE-FC8E9481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EC43B-2E2D-4DB2-A7C1-C25CDED4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EB12-E533-4E74-96F6-4CD8BF02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C1A-6407-46D1-A090-7A0EDD2E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DAD1-220B-441A-8A11-4E208F20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4680-0FEC-43EF-B93C-073AC095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6A2C-9E07-4FCC-9AD7-544B960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55A4B-58BE-4C8C-B8A2-920D51FE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B5697-0073-439D-8B0C-F1228080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6A670-092F-4627-BD9E-98E60016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B31B-07F5-44B4-BB94-CB6B2C9C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16FAE-A1FC-411F-85A1-B53E147D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680FE-D4C2-4060-975B-AF9AACF5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05F9D-F758-4FFF-9BA9-8E76FE01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ABD-7FD3-4924-A6F8-F376D264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009D-6E54-4438-9BD3-B55DDD73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B996-A9F5-4684-A6EB-5D279EF4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38B46-36D9-4C18-B723-AC1B182B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89351-EF22-4F82-863C-E8057A7B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3FF8-E3B4-4FEC-8A89-BB3250B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6FB3-6424-4F68-A59F-49D5DF14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6775-3E62-47A4-986B-DFF532A0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30F0-CA32-403C-A625-3E73C0E3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BC14-7223-487F-8897-9CDD8CFF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DA2BD-73A4-4DBA-86E7-775D48EC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24A-E575-4238-83A6-46F9A3C0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2D653-4674-4F31-A856-F9AC3CFE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0A801-2CE9-4EE9-BD1C-D28F1FAE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F016D-9E0F-4752-B2F0-220A3C35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1F4A-CA8C-4351-BC82-7F62C9A7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6648D-5FA3-4670-B5A3-D0FA9B0E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657EE-A130-40B6-9E0A-588123FF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94CA5-EF2F-49A9-B547-EFE90283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414A1-DAA5-4E1B-82E3-AD76D406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0D6F0-6E51-4A99-993A-F6BF76FC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FDE9-5501-471D-B4C2-87B350E0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E1C-EF5A-4EB0-BF37-FE997B15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13E06-6F49-4C62-ADDB-C520CBC4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4C077-1761-45DD-B8D5-E4213DCB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92BF-FE88-4E5C-96D1-41A79002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2639E-2DCF-4E41-AE68-20B8221E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28573-E669-4A4A-9937-D55DE347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12BB2-D58E-4F37-BF55-E26F5A4B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F897C-27E2-428E-9186-395645F5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A476B-DE7E-4E6F-949F-C574A5B0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61D75-D203-4DEE-A48E-27ABB9EA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57B04-75F8-486C-903C-00BB630D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7A5-7D23-413C-8721-A49FCC74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2570-27A6-49CD-BBC6-59B10837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BB8D0-DC0D-4006-AC41-D43B1ED8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BAB80-0CD4-4583-A812-9A84E505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9F916-C895-4C97-8842-D3DAF57E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69EF-7CB8-4FCC-8334-E582440A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99513-4B6A-4AAB-9E89-CCCD6B92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DD47-3808-486F-B170-9275D321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71246-1ECD-460A-9080-FE45DDD0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0863D-B730-4A5F-87B2-C37C8729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BAC5B-887D-4C14-84CD-07502576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704-DBB4-403E-A09C-3F71210F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CBB61-0A2C-4CD5-B570-912759CB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CE2B3-C207-4D56-9E5C-D9A9A913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04B98-4D83-4FAE-9DF9-27722439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4AF12-97F8-4709-95D3-B3746F67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C64F5-5A0A-4ED5-B9A4-7BD4D381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8DF5E-E8F2-418C-B892-1960537B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C90D3-DA1F-4EE7-A47D-5FA3C5FC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45042-FE11-41F7-869B-4C7ADDA5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D4262-5D74-4BF6-A979-B7026FEB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0878D-FFD9-4CCA-AE66-60B84EC4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0DF-C358-4033-A56D-63D144B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2358F-EE7F-4D0E-A137-F4079067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6D721-5F83-485E-8179-01B5864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EC515-CD69-4C6E-AC7D-3D054F9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369C9-0A80-4720-9318-55631FD3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55B74-B9FB-4C50-A633-85D09182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DEABF-089E-416C-8F24-D0D64A05F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5DA07-E51F-4445-8202-0814B6D5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4F51-507E-4005-890B-7B7F3FE229DA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816E-9F83-4BAA-920B-28D0D84DCD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BB66-62C3-43BC-8B5D-DD33EA2FA33D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A592-918F-4C23-9E59-28AC318663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8D30-51E8-495C-8CCA-19333BDCD1AD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EF4E-EFD9-440C-A247-562AB1F5CE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C896-5A85-4585-86F4-30FBBA9A413A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186B-D59A-490C-9E89-1DCE0C3AB0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AE14-5C50-4CE1-B7C9-E94091C35AED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2ECE-4EF6-419C-B44E-BC482B0E7C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2BE0-C457-48C9-91DF-78046F65B4BF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59BD-A8A5-4E15-8C73-990F44F1DD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5FF5-E3A9-4709-957B-DBC6BF29602D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20AF-420A-40C4-9A8F-4BD725227F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01E5-859D-44B8-B0AC-DC0E74FE1B7D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CB53-10EF-4BB7-8B43-FD4127C8D6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ff"/>
                </a:solidFill>
                <a:latin typeface="Lucida Sans Unicode"/>
              </a:rPr>
              <a:t>Profesor Luncaș Gal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2276-0A9B-408D-B876-F332375323A9}" type="datetime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Caracteristic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Proprietăț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F2DD-A053-45B9-80C5-002099C711BA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4ABE-07CA-4D6C-BC74-ECB7E63302F7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74760" y="1550880"/>
            <a:ext cx="8412120" cy="43340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571680" y="2858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fiecare cîmp al tabelului se specifică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ular Callout 4"/>
          <p:cNvSpPr/>
          <p:nvPr/>
        </p:nvSpPr>
        <p:spPr>
          <a:xfrm>
            <a:off x="214200" y="642960"/>
            <a:ext cx="1428840" cy="785880"/>
          </a:xfrm>
          <a:prstGeom prst="wedgeRectCallout">
            <a:avLst>
              <a:gd name="adj1" fmla="val -4833"/>
              <a:gd name="adj2" fmla="val 113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85840" y="64296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numirea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Rectangular Callout 6"/>
          <p:cNvSpPr/>
          <p:nvPr/>
        </p:nvSpPr>
        <p:spPr>
          <a:xfrm>
            <a:off x="2071800" y="642960"/>
            <a:ext cx="1571400" cy="785880"/>
          </a:xfrm>
          <a:prstGeom prst="wedgeRectCallout">
            <a:avLst>
              <a:gd name="adj1" fmla="val -28592"/>
              <a:gd name="adj2" fmla="val 113699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2143080" y="78588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Tipul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Rectangular Callout 8"/>
          <p:cNvSpPr/>
          <p:nvPr/>
        </p:nvSpPr>
        <p:spPr>
          <a:xfrm>
            <a:off x="4714920" y="714240"/>
            <a:ext cx="2000160" cy="714600"/>
          </a:xfrm>
          <a:prstGeom prst="wedgeRectCallout">
            <a:avLst>
              <a:gd name="adj1" fmla="val -13518"/>
              <a:gd name="adj2" fmla="val 118819"/>
            </a:avLst>
          </a:prstGeom>
          <a:solidFill>
            <a:srgbClr val="ffffff"/>
          </a:solidFill>
          <a:ln w="64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4857840" y="857160"/>
            <a:ext cx="17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scrierea cîmpului (opțional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oate conțin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iferite caracte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pați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u excepția unor semne specia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!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ș.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In caz de necesetate denumirea poate folosi semnul ”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_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Lungimea denuirii cîmpului (împreună cu spațiile )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poate fi mai mare ca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F1B2-45D9-48DD-9A09-D39CA4EA34D5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Text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sau numere care nu f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Nu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care v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Date/Time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date calendaristic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urrency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băneșt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AutoNa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întregi care își măresc în mod automat valorile ( de ex. numărul de ordin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Yes/No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logice care pot lua numai două valori: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adevărat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 sau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fals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Memo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lung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LE Object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imagin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08FB-A3D1-45EA-82B4-F784763795BF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35000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Fiecare tip de date are proprietățile prestabilite, care pot fi și modificate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Tex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lungimi cuprinse între 1 și 255 de caractere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Number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opțiuni diferite în dependență de opțiunea specificată în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ield Siz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Date/Tim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are lungimea variabilei în funcție de formatul datei/oreispecificat pentru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logic poate fi reprezentat în 4 moduri: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Yes/No, True/Folse, On/Off, -1(adevarat)/0(fal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8382-5776-43A1-A8D4-AEA89521B77A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785880" y="2214720"/>
          <a:ext cx="7786800" cy="240984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3357720"/>
                <a:gridCol w="14288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țiunea proprietății </a:t>
                      </a:r>
                      <a:r>
                        <a:rPr b="1" i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eld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olumul memori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alorile accep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umărul  cifrelor zecim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y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 oct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 .. 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2768 .. 327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ong 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147483648 .. 21474836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ing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0AB8-F376-48C5-AAD8-78B312881E82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500280" cy="37148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4143240" y="1428840"/>
            <a:ext cx="4643640" cy="44830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Suc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la specificarea corect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a caracteristicilor cîmpurilor  si la stabilirea proprietăților atributelor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Gr. Vasilache, Iu.Mocanu, I.Covalenc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V.Moraru, L. Carcea, V.Negură, M.Anischevici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Windows Word Excel Access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, Chișinău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entrul Noilor Tehnologii Informaționale,1999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pp.130-1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7098-201C-4BE6-91FE-1D25511A200A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4:02:54Z</dcterms:created>
  <dc:creator>Galina</dc:creator>
  <dc:description/>
  <dc:language>en-US</dc:language>
  <cp:lastModifiedBy>Galina</cp:lastModifiedBy>
  <dcterms:modified xsi:type="dcterms:W3CDTF">2010-01-31T16:22:39Z</dcterms:modified>
  <cp:revision>14</cp:revision>
  <dc:subject/>
  <dc:title>Aplicaţia Microsoft ACCESS</dc:title>
</cp:coreProperties>
</file>