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3.wmf" ContentType="image/x-wm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click.wav" ContentType="audio/x-wav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D5B2-CA6D-4491-AFF6-9098EAD4E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2EEF-900C-4EAA-AFBC-687A643C3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BD55-118A-4008-932C-56557E845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85EE-6215-4BC7-B045-2BA89D162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01FD-A6F1-4423-AD1D-BA0132DA4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BF65-147C-4990-B083-25E56FB5E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D15F-CC08-47C6-BFD5-9FD10A1C7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FFC9-9622-4E9A-997E-3BD4A24F4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13AC-91EF-4A12-8571-EF8BC01A4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C212-6F26-4F8D-8268-AE0BB3FD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E4C2-9726-4B77-BF2E-5A1C167C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B1BD-62ED-46FE-BA5D-B1DF1150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CAC-5647-43B8-A723-3CB46067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0BDE-BCD8-4088-AC8B-CA0F0388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F530-36B6-4EA2-9161-2A826830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D99B-92D5-46B2-8C80-9AB6D1BD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F6F3-DFE4-4797-9894-64D08D5E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9EC2-CCC3-4F81-B922-19D0CB9E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CEBC-93BA-4634-AD39-5DD1E7F1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438D-7D50-4068-A0CB-B2A71224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842-BF8B-4E4E-AB25-4FC48446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D0BA-1D6F-4E3E-B390-A8F3D12D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35E8-8306-4995-8295-33D0487A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B29B-6C43-4BED-829D-A28D14C2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F453-B0B1-4A21-ABFE-12E5A715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9C46-EC3A-4D6B-8E3C-A5A40F87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0BE4F-098E-44A9-8601-BEFAACA2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1D6BF-F1FD-4BDB-9801-599833DB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DA95E-38AD-4307-ABA8-AF3B47DE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66100-DBA7-49AE-AE7F-6FF949B6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A29FB-6232-4058-AC34-945D859D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698-16F0-4E80-907F-30C44DE8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A6291-1EC0-4191-9CF9-3090DE95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76512-311D-4D2C-A665-5B29D1A1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9FCF7-B254-4CF1-AE9D-545B83B4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A1FA6-4905-4427-ABAF-7ACB1180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20D12-0DB1-49F5-8241-C7CC8189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EF8AA-CD8F-4161-8BB5-B6E5A98E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C4BF8-35A6-460B-8E64-ECB870AB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2057D-50E7-4FB5-9A7C-392C2DA6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B1906-CC25-4A2B-9DFF-71B1C757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96F7C-53BF-4762-AC8E-D25156BC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E5FE-75ED-46BE-8BAA-A4FF0CED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EBE45-BFE7-4AD8-90EA-189DFE67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2EE5C-A2BC-4143-BCFE-950CB84F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A3683-9FE1-49B6-9D22-C51800A6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20856-C18E-4F00-867B-ED2DCAED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65180-1699-44F0-9D3B-DC417CDC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EA6C0-EEF7-4F81-820C-5B7370D1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87EBC-E474-4A2B-9538-6722C1C1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9F8A7-8A59-447D-85D0-3AA90236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E3BED-44C3-44C4-B49F-ED64B4B5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D8963-3754-4A07-841C-F3CC26E3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D5F-D879-494E-9373-E3F12583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053AA-2FCF-4EE3-84C9-494F520E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FCBE2-E1E4-4E9B-B149-9DA6CF93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FB809-7985-400E-8B59-D1433ED9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DBD0D-1E2D-47C0-BFE4-7E25DC76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7FE65-5706-4E61-905D-6811E426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CE96E-3DF8-4538-9FC2-7FB4F227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DC21B-2F41-41C1-B56A-99BD0B92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95088-CE2F-4579-BE17-F1BB2D1C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E2396-AE18-417A-86B6-7FEFFD87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2DD11-6E9B-43A5-9DDB-2D5A6514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478-A834-455E-93E9-8072E699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A2A7D-06E1-4FF2-82A9-E3765026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EBB4E-88F0-4D2B-A80A-A9DCF492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69525-683C-41B5-9F2B-1A8C7A1E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36C9A-0537-4084-8F08-CFDF7D8F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FFB72-F5A8-441C-9D22-FAB9E6F7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3E93A-96CC-400B-A44D-019614E9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6B421-EAB9-4D9A-AF66-F727123C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7B1E6-E90A-4556-9319-36F6CA6B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84561-7417-43C1-8951-C63B2E8D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73457-B78F-4163-ABA7-703519DD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B580-FB99-407A-BA67-ABD00E9D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515DD-A4C7-4D47-9821-8E55F922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50916-9833-4C1F-98F9-A03488A5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A04BC-40A3-4398-A3F5-B2618205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1B162-0EF5-4B76-B6D5-76C9B331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83B37-6478-4E2D-B1C7-EF5FD8D1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A2658-B2CE-4489-98F7-C4B0F7EB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C3844-82A9-4EB9-9EC6-E09A6876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A0DDC-94E9-480F-B7DC-63C16EAF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F0D94-57D6-44BA-BD01-0FFAF249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95F85-D999-465C-98B3-85074C6B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802-960F-4B29-BA1D-80EBFBA6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19656-BB69-436D-958A-A4C001D2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3029A-D924-4A71-966C-FA942765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01A3C-C0DB-4E4A-A7F1-4F4F1A2B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2DFF6-FB46-47D7-BA31-37F5DC62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F21D1-B3D2-4947-994C-CAA1E8FE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421FA-4AE8-41CE-A086-EC1F9C11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12B62-8088-4EAB-9DCD-30CABB2C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F2D1F-10B4-4B8D-942D-2283AE45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7DB11-1088-40A8-89B5-3E4C06BC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43CC7-A110-4B1E-A442-E632C95C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30AA-51E8-4DAA-812E-D586DCB2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8FE90-FBD7-4E26-9E72-C84E6422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E2E71-4BCE-4788-A9D0-189627AB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CBBC4-EFA2-4533-AA41-3415D7E5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14E30-B197-4334-9829-4456A8B1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68720-D19E-4D54-9A57-DC3527AA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E1028-6F66-40E1-9254-9B0EDE8B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71F9E-E3BF-4F3C-B7EF-844A8F32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4913-9BCB-499C-97C9-B8AA74CD6D84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6C36-4219-405A-943B-0B723A931F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32E0-2E43-489F-A19B-BC436084B76B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543D-F59D-4BF2-BAFE-4944748454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49FB-6BF5-4936-BFE1-24D5BB86F675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B5D2-BC6A-4C73-A41C-FC2EFFBC7A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8F83-1E20-4846-A2C7-07D799CA7012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7DA3-3BC7-426E-AAA0-5453102D31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2D83-9781-4727-909C-21B276F9485E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33A6-4557-42D3-BFC0-96ACBF3F24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3F0A-6836-4299-9045-369ECA60E3DB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2F10-719F-4BB0-96EF-F6D16052DA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1ECA-2FC4-4CA3-B337-EABBDC7AD587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6256-C7DC-4DA1-B246-EEDF480365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1528-CF95-4E2C-9E75-FE63771698C4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C6AC-50D9-4C57-B948-9822B964AB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700" spc="-1" strike="noStrike">
                <a:solidFill>
                  <a:srgbClr val="0000ff"/>
                </a:solidFill>
                <a:latin typeface="Lucida Sans Unicode"/>
              </a:rPr>
              <a:t>Profesor Luncaș Gali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Date Placeholder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4BF1-EC33-43DC-9416-BEAD06A63F9C}" type="datetime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Lucida Sans Unicode"/>
              </a:rPr>
              <a:t>Caracteristicile cîmpuril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Lucida Sans Unicode"/>
              </a:rPr>
              <a:t>Proprietățile cîmpuril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2866-E417-47ED-8940-0684370F1003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9349-EAB0-4A65-BA5D-C009AEF8A2E2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374760" y="1550880"/>
            <a:ext cx="8412120" cy="4334040"/>
          </a:xfrm>
          <a:prstGeom prst="rect">
            <a:avLst/>
          </a:prstGeom>
          <a:ln w="0">
            <a:noFill/>
          </a:ln>
        </p:spPr>
      </p:pic>
      <p:sp>
        <p:nvSpPr>
          <p:cNvPr id="385" name="TextBox 3"/>
          <p:cNvSpPr/>
          <p:nvPr/>
        </p:nvSpPr>
        <p:spPr>
          <a:xfrm>
            <a:off x="571680" y="28584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fiecare cîmp al tabelului se specifică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Rectangular Callout 4"/>
          <p:cNvSpPr/>
          <p:nvPr/>
        </p:nvSpPr>
        <p:spPr>
          <a:xfrm>
            <a:off x="214200" y="642960"/>
            <a:ext cx="1428840" cy="785880"/>
          </a:xfrm>
          <a:prstGeom prst="wedgeRectCallout">
            <a:avLst>
              <a:gd name="adj1" fmla="val -4833"/>
              <a:gd name="adj2" fmla="val 113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285840" y="642960"/>
            <a:ext cx="142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Denumirea cîmpului (obligatoriu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Rectangular Callout 6"/>
          <p:cNvSpPr/>
          <p:nvPr/>
        </p:nvSpPr>
        <p:spPr>
          <a:xfrm>
            <a:off x="2071800" y="642960"/>
            <a:ext cx="1571400" cy="785880"/>
          </a:xfrm>
          <a:prstGeom prst="wedgeRectCallout">
            <a:avLst>
              <a:gd name="adj1" fmla="val -28592"/>
              <a:gd name="adj2" fmla="val 113699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2143080" y="78588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Tipul cîmpului (obligatoriu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Rectangular Callout 8"/>
          <p:cNvSpPr/>
          <p:nvPr/>
        </p:nvSpPr>
        <p:spPr>
          <a:xfrm>
            <a:off x="4714920" y="714240"/>
            <a:ext cx="2000160" cy="714600"/>
          </a:xfrm>
          <a:prstGeom prst="wedgeRectCallout">
            <a:avLst>
              <a:gd name="adj1" fmla="val -13518"/>
              <a:gd name="adj2" fmla="val 118819"/>
            </a:avLst>
          </a:prstGeom>
          <a:solidFill>
            <a:srgbClr val="ffffff"/>
          </a:solidFill>
          <a:ln w="64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TextBox 9"/>
          <p:cNvSpPr/>
          <p:nvPr/>
        </p:nvSpPr>
        <p:spPr>
          <a:xfrm>
            <a:off x="4857840" y="857160"/>
            <a:ext cx="171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Descrierea cîmpului (opțional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3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oate conțin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iferite caracter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pați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u excepția unor semne special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!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ș.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In caz de necesetate denumirea poate folosi semnul ”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_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Lungimea denuirii cîmpului (împreună cu spațiile )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nu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poate fi mai mare ca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6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5F90-6CEF-4CE5-B01E-F25F3AF2F056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Text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texte sau numere care nu for fi folosite în calcul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Number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numere care vor fi folosite în calcul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Date/Time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date calendaristic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Currency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valori băneșt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AutoNamber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numere întregi care își măresc în mod automat valorile ( de ex. numărul de ordin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Yes/No-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valori logice care pot lua numai două valori: </a:t>
            </a: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adevărat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 sau </a:t>
            </a: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fals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Memo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texte lung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OLE Object-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imagin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B884-EE19-4A29-BE49-A1EE84659D43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advTm="35000"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Fiecare tip de date are proprietățile prestabilite, care pot fi și modificate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Text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poate avea lungimi cuprinse între 1 și 255 de caractere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Number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poate avea opțiuni diferite în dependență de opțiunea specificată în proprietatea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Field Size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Date/Time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are lungimea variabilei în funcție de formatul datei/oreispecificat pentru proprietatea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Format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logic poate fi reprezentat în 4 moduri: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Yes/No, True/Folse, On/Off, -1(adevarat)/0(fals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63AA-C2DE-41E2-83C5-754A3EC045F4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3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785880" y="2214720"/>
          <a:ext cx="7786800" cy="240984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3357720"/>
                <a:gridCol w="14288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Opțiunea proprietății </a:t>
                      </a:r>
                      <a:r>
                        <a:rPr b="1" i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eld S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olumul memorie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alorile accept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umărul  cifrelor zecim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y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 oct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 .. 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teg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2768 .. 327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ong Integ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147483648 .. 21474836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ing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.4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8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.. 3.4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≤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u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.797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08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.. 1.797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≤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C046-DCB4-4570-9679-E2D1A609A61A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3500280" cy="3714840"/>
          </a:xfrm>
          <a:prstGeom prst="rect">
            <a:avLst/>
          </a:prstGeom>
          <a:ln w="0">
            <a:noFill/>
          </a:ln>
        </p:spPr>
      </p:pic>
      <p:sp>
        <p:nvSpPr>
          <p:cNvPr id="404" name="TextBox 3"/>
          <p:cNvSpPr/>
          <p:nvPr/>
        </p:nvSpPr>
        <p:spPr>
          <a:xfrm>
            <a:off x="4143240" y="1428840"/>
            <a:ext cx="4643640" cy="448308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Succ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 </a:t>
            </a: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la specificarea corecta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a caracteristicilor cîmpurilor  si la stabilirea proprietăților atributelor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advTm="5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Gr. Vasilache, Iu.Mocanu, I.Covalenco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V.Moraru, L. Carcea, V.Negură, M.Anischevici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Windows Word Excel Access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, Chișinău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Centrul Noilor Tehnologii Informaționale,1999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pp.130-13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5598-C9CF-483F-842A-0A54900B424F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4:02:54Z</dcterms:created>
  <dc:creator>Galina</dc:creator>
  <dc:description/>
  <dc:language>en-US</dc:language>
  <cp:lastModifiedBy>Galina</cp:lastModifiedBy>
  <dcterms:modified xsi:type="dcterms:W3CDTF">2010-01-31T16:22:39Z</dcterms:modified>
  <cp:revision>14</cp:revision>
  <dc:subject/>
  <dc:title>Aplicaţia Microsoft ACCESS</dc:title>
</cp:coreProperties>
</file>