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glass.wav" ContentType="audio/x-wav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7E1-E142-4724-922B-F45B4052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742-F6B1-4955-957D-486504D7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1BF-CFBC-4265-9A35-23182CF2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74E9-3EC7-48B2-8FC9-5E3F4BBD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B4C7-7A0D-46EC-80CD-10409DB7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C341-ED50-45EB-B155-17CDCD6D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7233-357E-46EF-B413-930F5093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3790-CCF9-410F-A183-A2FFE8DC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BD98-0F55-4D30-8819-B1F92001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B99F-F4EF-4DB0-A444-548C35B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DE65-8F74-42B1-9416-2C1906F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13D3-56F4-4470-ACF0-F1C0D7B5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E3E9-9AD9-42A0-816F-DA990A96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7527-B609-4E61-ADFC-DE826526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A679-C669-4CA7-A1A1-BFD1D9C7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5B99-2D9F-4E3B-BBF6-73C016CE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2EDB-9728-4C6C-8599-835CA09D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8A3-50C3-492D-A239-96575648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D82-768D-4C1A-BDDF-9EFBE7E0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275-10C3-42B5-8002-D19C2434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BD6E-23A5-4BB0-A1E6-37C105B9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54F-5424-41C7-B451-3C5C63A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390-5BA1-4919-9993-9E4C6AF9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0F6-A5F8-4ED9-BC04-49657C12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BBB4-06FF-435C-913A-F1778779065B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CDAF-64E7-4BA4-8E51-1950008C6CA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A88F-A0C3-4604-B180-B0CCA3D2DBD4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BF5F-45D3-474D-8829-24EA84B2980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iective  operaţional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finească  noţiunile  de  baze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scrie etapele de  obţinere a  unei  baze  de  date, a unui  tabel, a unei  interogări, a unui formular şi raport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evidenţieze  obiectele aplicaţiei  Access  pentru  realizarea  bazelor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utilizeze  corect  toate  obiectele  din  fereastra aplicaţiei  Access  pentru  rezolvarea  aplicaţiei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C80-E201-44B6-80D8-38713FF3EE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0A3AD-C485-4F73-A2FB-B0DE31F03EEE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14200" y="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4)Introduceti urmatoarele inregistrari in tabela Echip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850716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F1A-3BD2-4800-9628-018F58EB5B23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9A4AD-57D9-4417-818C-7282CB6E596C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-12600" y="216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5)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Utilizand instrumentul de cautare, gasiti inregistrarea din localitate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luj-Napoca. Modificati localitatea in Cluj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6912000" cy="431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8C7-5509-43B5-B769-D8813FEA4F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11484-92A8-402C-ABC4-095D1A1CC677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112320"/>
            <a:ext cx="97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6)Adaugati urmatorul atribut  Numar_campioana (tip integer) si completati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inregistrarile cu urmatoarele numere:15, 6, 2 , 10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28684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450-4782-4596-B02C-C89A13A6664A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E463F-4696-4C52-AF49-AB93BF63D61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7560" y="72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7) Modificati lungimea coloan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um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la 100 de caractere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857160" y="192888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B5B-C92A-4AEF-B90F-D276CACA1824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56496-AE0F-4D01-9EE8-CFA027DD5679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-10440" y="360720"/>
            <a:ext cx="86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8)Introduceti inca o inregistrare in tabela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: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, Steaua, Bucuresti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tr Ghencea 19, 1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00F-FD1E-4B86-903C-26C7B9FC463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659A3-6DBB-4D9C-AD1F-8D57017ABA78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0" y="1220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9) Redenumiti coloana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_club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in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si apoi sortati crescator dupa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campul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nume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E7F-DD2D-4FAA-831D-EF78539BBF0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F743C-AC74-4C39-B3CB-2D1033B5D0F9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6840" y="2160"/>
            <a:ext cx="59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)Creeati tabela echipe (in modul design view)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FEE-9DC0-47ED-A41A-7BCBF7A9FDAE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9D17E-E23B-4D79-BC3C-9CDD362BB32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-101880"/>
            <a:ext cx="6586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1)  Introduceti urmatoarele inregistrari in tabela   Ju</a:t>
            </a:r>
            <a:r>
              <a:rPr b="1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tor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15032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DBD-4223-4A41-8AF1-A50C3F482983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C7B1D-1324-4623-9DBB-9CA46BAD16A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-11880" y="2160"/>
            <a:ext cx="91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1)Creati o interogare asupra tabel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in care sa afisati doar prim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 campuri din tabela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7812000" cy="45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161-D6CA-4856-8CFA-FD206630433A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05C80-6525-4F71-8EB0-C6ACE634AA9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240" y="7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alvati-o cu num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81B-A579-4B96-AA43-9726F5DDA334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21A5F-0A95-4CF1-BB1F-E125A14A67B4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660066"/>
                </a:solidFill>
                <a:latin typeface="Tahoma"/>
              </a:rPr>
              <a:t>Baze de date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895480"/>
            <a:ext cx="9295920" cy="2226960"/>
            <a:chOff x="685800" y="2895480"/>
            <a:chExt cx="9295920" cy="2226960"/>
          </a:xfrm>
        </p:grpSpPr>
        <p:sp>
          <p:nvSpPr>
            <p:cNvPr id="138" name=""/>
            <p:cNvSpPr/>
            <p:nvPr/>
          </p:nvSpPr>
          <p:spPr>
            <a:xfrm>
              <a:off x="685800" y="2895480"/>
              <a:ext cx="929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895480"/>
              <a:ext cx="9295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O baza de date (BD) reprezinta o colectie d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       integrata, anume structurata si dotata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cu o descriere a structurii si a relatiilor dintr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.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420-599D-4169-81A6-451AC2E2A2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5E9BD-28C1-4B00-9529-626A47EC8D1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-12960" y="-11520"/>
            <a:ext cx="983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3) Creati o interogare asupra tabelei echipe in care sa se afiseze doar echip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are au castigat campionatul de cel putin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 ori. Salvati-o cu numele  I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0D3-AC0F-4D38-9D42-A6F5F20B5BB2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F2254-634B-4DBC-83C7-0DCB5813B41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12960" y="2160"/>
            <a:ext cx="90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4)Creati o interogare si salvati-o cu numel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3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 echip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 care sa apara doar echipele din Bucurest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18A-AE98-456D-B059-EB6D3FCD2721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DBAC6-35F4-490E-9B7A-E7DDCACCC37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-13680" y="2160"/>
            <a:ext cx="94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5) Modificat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tfel incat sa afiseze doar echipele al caror num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cep cu “U”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BD3-DEC7-44E9-8639-6D66BF3952B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F568E-9EA9-4C77-B662-11250096F4B1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2)Creati un raport asupra tabelei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 Salvati-l cu numele d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_raport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, si apoi scrieti titlul raportului cu rosu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A80-2BDD-47B7-BF07-4996579AD2EE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F4629-322F-4D9F-AEA3-337F629A4AC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-68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3)Stabiliti o relatie intre tabel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: Legatura intre doua tabele nu se poate face dupa orice campuri, ci numai dupa acelea care intr-o tabela sunt cheie primara si in cealalta tabela reprezinta cheie extern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e doua campuri prin care se stabileste relatia trebuie sa fie de acelasi tip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7DF-17F3-4E81-9CF0-E2DB9514D33C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C7823-8B8C-464B-854C-08646A7BAB2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0" y="9720"/>
            <a:ext cx="93628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6)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4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afiseze  jucatorii care nu au marcat niciun go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7)Creati o interogare numita i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5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care fac parte si din echipa nationala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8) 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6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al caror nume incep cu “D” sau al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or  prenume incep cu “C”. (like “D*” or like “C*”)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9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0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1)Creati un formulare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Echipe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Jucator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1)Creati un raport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2) Creati un raport asupra tabelei Jucatori,in care numel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lor sa fie ordonat alfabetic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3)Creati un raport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D49-84CA-4E5C-96A6-5C92DE76D000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B9A1E-4CD9-482F-96F3-3C1C8116B9E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491400" y="1740600"/>
            <a:ext cx="68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abele – contin toate inregistraril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nterogari – localizeaza inregistrari specific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Formulare – afiseaza inregistrarile din tabele, una cite una 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Rapoarte – tiparesc loturi de inregistrari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 de acces la date – pun la dispozitie date prin intermediu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lor We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crocomenzi – actiuni automate uzual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60A-2EF5-455B-8F40-996227C93A0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F2FED-E3CF-44A7-9A13-0BC163F8DE0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4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b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447920"/>
            <a:ext cx="8432640" cy="4570920"/>
            <a:chOff x="380880" y="1447920"/>
            <a:chExt cx="8432640" cy="4570920"/>
          </a:xfrm>
        </p:grpSpPr>
        <p:sp>
          <p:nvSpPr>
            <p:cNvPr id="146" name=""/>
            <p:cNvSpPr/>
            <p:nvPr/>
          </p:nvSpPr>
          <p:spPr>
            <a:xfrm>
              <a:off x="380880" y="1447920"/>
              <a:ext cx="843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1447920"/>
              <a:ext cx="8432640" cy="45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8920" bIns="22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nt cele mai importante obiecte ale unei baze de date.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acă o BD nu conţine cel puţin un tabel, crearea altor clase de obiecte devine lipsită de sens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ntru fiecare cîmp al tabelului se specifică 3 caracteristici, şi anume: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Field Name (denumirea  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ata Type (tipul c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escription (descrierea cîmpului, opţional).</a:t>
              </a:r>
              <a:br>
                <a:rPr sz="2000"/>
              </a:b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1BE-5ADD-4D49-A3B2-B02318CDE7C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937DB-4CA3-46AF-BBF1-16D180D4162D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9144000" cy="298800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o interogare pentru găsirea și preluarea doar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a datelor care îndeplinesc condițiile precizate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inclusiv datele din tabele   multipl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80880"/>
            <a:ext cx="6846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0066"/>
                </a:solidFill>
                <a:latin typeface="Lucida Sans Unicode"/>
              </a:rPr>
              <a:t>Interogari</a:t>
            </a:r>
            <a:br>
              <a:rPr sz="4100"/>
            </a:br>
            <a:endParaRPr b="0" lang="en-US" sz="55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41D-B722-4B0B-908B-4742D3AAA1E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E6247-910D-48A0-95BE-6DFF285DF1A7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mul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66880"/>
            <a:ext cx="9144000" cy="10976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un formular pentru vizualizarea, introducerea, și modificarea ușoară a datelor direct într-un tabel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DD9-B35A-4397-A319-EC368F3A77C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2A5E8-D42C-42F6-9070-B28829CE4ED6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Rapoarte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ntru a creea rapoarte trebuie să stabiliți mai întâi care câmpuri conțin datele pe care doriți să le vedeți în raport și în ce tabele sau interogări se afl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251-4217-4EB0-9AF8-5392E3E40C0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2F0F5-A841-4367-9549-15093B8B210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6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6360" y="28584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PLICATIE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)Creez o baza de date numita FOTBAL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2)Creez tabela: ECHIPE  (in modul DESIGN VIEW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500120" y="2357280"/>
            <a:ext cx="6494400" cy="3924360"/>
          </a:xfrm>
          <a:prstGeom prst="rect">
            <a:avLst/>
          </a:prstGeom>
          <a:ln w="9360">
            <a:solidFill>
              <a:srgbClr val="a7ccd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BF8-F6B7-4571-9092-4A482CAD131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94F0D-0796-44CA-B420-8E038AABEDB6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-7920" y="5400"/>
            <a:ext cx="893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)Stabiliti  campul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od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heie primara a tabelei.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ANT:Cheia primara a unei tabele este un camp sau o combin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 campuri prin care se identifica in mod unic  o anumita inregistrar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 tabel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AA6-E40B-4ACC-AE3B-12E743246D3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95CE4-6ED2-41EA-B471-BDBC0C0F372D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9:33:30Z</dcterms:created>
  <dc:creator>amdl</dc:creator>
  <dc:description/>
  <dc:language>en-US</dc:language>
  <cp:lastModifiedBy>Cris</cp:lastModifiedBy>
  <dcterms:modified xsi:type="dcterms:W3CDTF">2010-05-24T11:57:30Z</dcterms:modified>
  <cp:revision>59</cp:revision>
  <dc:subject/>
  <dc:title>Rapoarte</dc:title>
</cp:coreProperties>
</file>