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glass.wav" ContentType="audio/x-wav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4039-797B-4331-9240-224C2A1AB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774A-BEA1-45C7-B8B9-41BB0C477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050C-CC05-4642-896A-F26D86EF0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97B8-79ED-41A6-A2E3-703B1736E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C7813-CD5A-43C7-B455-5BBB452B2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D93E0-D265-416D-AE07-207BF9F14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D0844-16D8-42FC-B60E-689BE222A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FA255-8FC7-44B6-84BF-2E938F53B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12DE5-25B3-403E-96DA-48D246120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89CDA-1C5F-4B83-89E3-CB1330054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2560C-F32B-46A6-9C7D-5DF11255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9047-EAD0-4754-89EC-4A4A5B9FC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73881-7ED1-4B02-B628-01D5C29F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C88CB-F046-40C1-B26E-7518A26A0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E89B5-14BB-4FBB-BC1E-F0F098EC7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A3793-42BB-4EC9-ACE1-BC82140D9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5B0E4-8BA3-42A9-802B-8B822F7FC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72E7-8056-46B1-A348-8106A77B5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EA16-0C19-4D45-9DA9-ECA074CF0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8356-BA44-44EC-949B-2F4210F9D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DD00-8B3F-4DC8-9188-73EC3EBBB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4884-E42A-4B09-8AFB-5AAA66A6D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EB7E-D3FA-4296-88C4-339E8B070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3EF4-9BB4-4B95-AE43-B2D4E3E0C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4ED84-D510-4524-A583-44B8F07A3881}" type="datetime3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2F0C0-175A-4968-84AA-1487EAF4B6C7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229DA-1ED8-4017-BF33-6360EEFBB229}" type="datetime3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822A6-6BCE-41E7-BEDE-ECE71213E037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audio" Target="../media/glass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audio" Target="../media/glass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biective  operaţionale: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algn="just">
              <a:spcBef>
                <a:spcPts val="624"/>
              </a:spcBef>
              <a:buClr>
                <a:srgbClr val="660066"/>
              </a:buClr>
              <a:buSzPct val="90000"/>
              <a:buFont typeface="Wingdings 3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660066"/>
                </a:solidFill>
                <a:latin typeface="Tahoma"/>
              </a:rPr>
              <a:t>să  definească  noţiunile  de  baze  de  date;</a:t>
            </a:r>
            <a:endParaRPr b="0" lang="en-US" sz="2500" spc="-1" strike="noStrike">
              <a:solidFill>
                <a:srgbClr val="545472"/>
              </a:solidFill>
              <a:latin typeface="Tahoma"/>
            </a:endParaRPr>
          </a:p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45472"/>
              </a:solidFill>
              <a:latin typeface="Tahoma"/>
            </a:endParaRPr>
          </a:p>
          <a:p>
            <a:pPr algn="just">
              <a:spcBef>
                <a:spcPts val="624"/>
              </a:spcBef>
              <a:buClr>
                <a:srgbClr val="660066"/>
              </a:buClr>
              <a:buSzPct val="90000"/>
              <a:buFont typeface="Wingdings 3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660066"/>
                </a:solidFill>
                <a:latin typeface="Tahoma"/>
              </a:rPr>
              <a:t>să  descrie etapele de  obţinere a  unei  baze  de  date, a unui  tabel, a unei  interogări, a unui formular şi raport;</a:t>
            </a:r>
            <a:endParaRPr b="0" lang="en-US" sz="2500" spc="-1" strike="noStrike">
              <a:solidFill>
                <a:srgbClr val="545472"/>
              </a:solidFill>
              <a:latin typeface="Tahoma"/>
            </a:endParaRPr>
          </a:p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45472"/>
              </a:solidFill>
              <a:latin typeface="Tahoma"/>
            </a:endParaRPr>
          </a:p>
          <a:p>
            <a:pPr algn="just">
              <a:spcBef>
                <a:spcPts val="624"/>
              </a:spcBef>
              <a:buClr>
                <a:srgbClr val="660066"/>
              </a:buClr>
              <a:buSzPct val="90000"/>
              <a:buFont typeface="Wingdings 3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660066"/>
                </a:solidFill>
                <a:latin typeface="Tahoma"/>
              </a:rPr>
              <a:t>să  evidenţieze  obiectele aplicaţiei  Access  pentru  realizarea  bazelor  de  date;</a:t>
            </a:r>
            <a:endParaRPr b="0" lang="en-US" sz="2500" spc="-1" strike="noStrike">
              <a:solidFill>
                <a:srgbClr val="545472"/>
              </a:solidFill>
              <a:latin typeface="Tahoma"/>
            </a:endParaRPr>
          </a:p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45472"/>
              </a:solidFill>
              <a:latin typeface="Tahoma"/>
            </a:endParaRPr>
          </a:p>
          <a:p>
            <a:pPr algn="just">
              <a:spcBef>
                <a:spcPts val="624"/>
              </a:spcBef>
              <a:buClr>
                <a:srgbClr val="660066"/>
              </a:buClr>
              <a:buSzPct val="90000"/>
              <a:buFont typeface="Wingdings 3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660066"/>
                </a:solidFill>
                <a:latin typeface="Tahoma"/>
              </a:rPr>
              <a:t>să  utilizeze  corect  toate  obiectele  din  fereastra aplicaţiei  Access  pentru  rezolvarea  aplicaţiei;</a:t>
            </a:r>
            <a:endParaRPr b="0" lang="en-US" sz="25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1149-2DFF-4F04-A26A-294AB685BDE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D9F7F4-B3C8-409B-8F55-98B3C24EF611}" type="datetime3">
              <a:rPr lang="en-US"/>
              <a:t>July 29, 2026</a:t>
            </a:fld>
          </a:p>
        </p:txBody>
      </p:sp>
    </p:spTree>
  </p:cSld>
  <p:transition spd="slow">
    <p:cover dir="ru"/>
    <p:sndAc>
      <p:stSnd>
        <p:snd r:embed="rId2" name="glas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"/>
          <p:cNvSpPr/>
          <p:nvPr/>
        </p:nvSpPr>
        <p:spPr>
          <a:xfrm>
            <a:off x="214200" y="0"/>
            <a:ext cx="871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Arial"/>
              </a:rPr>
              <a:t>4)Introduceti urmatoarele inregistrari in tabela Echipe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2"/>
          <a:stretch/>
        </p:blipFill>
        <p:spPr>
          <a:xfrm>
            <a:off x="571680" y="1357200"/>
            <a:ext cx="8507160" cy="5176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77FA-3950-4244-8ADF-B65E63158F34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4A9DD1-2D55-432A-B26A-AECC2A618B3B}" type="datetime3">
              <a:rPr lang="en-US"/>
              <a:t>July 29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1"/>
          <p:cNvSpPr/>
          <p:nvPr/>
        </p:nvSpPr>
        <p:spPr>
          <a:xfrm>
            <a:off x="-12600" y="2160"/>
            <a:ext cx="86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5) </a:t>
            </a: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Utilizand instrumentul de cautare, gasiti inregistrarea din localitatea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Cluj-Napoca. Modificati localitatea in Cluj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2"/>
          <a:stretch/>
        </p:blipFill>
        <p:spPr>
          <a:xfrm>
            <a:off x="642960" y="1285920"/>
            <a:ext cx="6912000" cy="431964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68A0-A12F-48C4-A272-120AEB87A865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51BF1C-75C3-4298-B889-B6997B988A4D}" type="datetime3">
              <a:rPr lang="en-US"/>
              <a:t>July 29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0" y="112320"/>
            <a:ext cx="973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Arial"/>
                <a:ea typeface="Times New Roman"/>
              </a:rPr>
              <a:t>6)Adaugati urmatorul atribut  Numar_campioana (tip integer) si completati 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Arial"/>
                <a:ea typeface="Times New Roman"/>
              </a:rPr>
              <a:t>inregistrarile cu urmatoarele numere:15, 6, 2 , 10.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78" name="Picture 1" descr=""/>
          <p:cNvPicPr/>
          <p:nvPr/>
        </p:nvPicPr>
        <p:blipFill>
          <a:blip r:embed="rId2"/>
          <a:stretch/>
        </p:blipFill>
        <p:spPr>
          <a:xfrm>
            <a:off x="285840" y="1357200"/>
            <a:ext cx="8286840" cy="4891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88B8-40F8-4E85-AEC3-932C0436E748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FA94EA-1458-4E7A-B0B3-077135CB2003}" type="datetime3">
              <a:rPr lang="en-US"/>
              <a:t>July 29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-7560" y="720"/>
            <a:ext cx="711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7) Modificati lungimea coloanei </a:t>
            </a:r>
            <a:r>
              <a:rPr b="1" i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nume</a:t>
            </a: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 la 100 de caractere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80" name="Picture 1" descr=""/>
          <p:cNvPicPr/>
          <p:nvPr/>
        </p:nvPicPr>
        <p:blipFill>
          <a:blip r:embed="rId2"/>
          <a:stretch/>
        </p:blipFill>
        <p:spPr>
          <a:xfrm>
            <a:off x="857160" y="1928880"/>
            <a:ext cx="7150320" cy="431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9DF4-72AC-4A38-B83B-26D3462D8B7E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151A0B-F801-4E66-9E6C-9A79E5032719}" type="datetime3">
              <a:rPr lang="en-US"/>
              <a:t>July 29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-10440" y="360720"/>
            <a:ext cx="8661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8)Introduceti inca o inregistrare in tabela </a:t>
            </a:r>
            <a:r>
              <a:rPr b="1" i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Echipe:</a:t>
            </a: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2, Steaua, Bucuresti, 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Str Ghencea 19, 12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82" name="Picture 1" descr=""/>
          <p:cNvPicPr/>
          <p:nvPr/>
        </p:nvPicPr>
        <p:blipFill>
          <a:blip r:embed="rId2"/>
          <a:stretch/>
        </p:blipFill>
        <p:spPr>
          <a:xfrm>
            <a:off x="928800" y="1571760"/>
            <a:ext cx="7149960" cy="431928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3"/>
          <p:cNvSpPr/>
          <p:nvPr/>
        </p:nvSpPr>
        <p:spPr>
          <a:xfrm>
            <a:off x="0" y="3772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99B1-1144-473E-ACE9-E643C13FD53A}" type="slidenum">
              <a:t>1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9BD159-77C3-452F-8A3D-6DD5BBB3FE56}" type="datetime3">
              <a:rPr lang="en-US"/>
              <a:t>July 29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720" y="122040"/>
            <a:ext cx="839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Arial"/>
                <a:ea typeface="Times New Roman"/>
              </a:rPr>
              <a:t>9) Redenumiti coloana </a:t>
            </a:r>
            <a:r>
              <a:rPr b="1" i="1" lang="en-US" sz="1800" spc="-1" strike="noStrike">
                <a:solidFill>
                  <a:srgbClr val="545472"/>
                </a:solidFill>
                <a:latin typeface="Arial"/>
                <a:ea typeface="Times New Roman"/>
              </a:rPr>
              <a:t>adresa_club</a:t>
            </a:r>
            <a:r>
              <a:rPr b="1" lang="en-US" sz="1800" spc="-1" strike="noStrike">
                <a:solidFill>
                  <a:srgbClr val="545472"/>
                </a:solidFill>
                <a:latin typeface="Arial"/>
                <a:ea typeface="Times New Roman"/>
              </a:rPr>
              <a:t> in </a:t>
            </a:r>
            <a:r>
              <a:rPr b="1" i="1" lang="en-US" sz="1800" spc="-1" strike="noStrike">
                <a:solidFill>
                  <a:srgbClr val="545472"/>
                </a:solidFill>
                <a:latin typeface="Arial"/>
                <a:ea typeface="Times New Roman"/>
              </a:rPr>
              <a:t>adresa</a:t>
            </a:r>
            <a:r>
              <a:rPr b="1" lang="en-US" sz="1800" spc="-1" strike="noStrike">
                <a:solidFill>
                  <a:srgbClr val="545472"/>
                </a:solidFill>
                <a:latin typeface="Arial"/>
                <a:ea typeface="Times New Roman"/>
              </a:rPr>
              <a:t> si apoi sortati crescator dupa 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Arial"/>
                <a:ea typeface="Times New Roman"/>
              </a:rPr>
              <a:t>campul </a:t>
            </a:r>
            <a:r>
              <a:rPr b="1" i="1" lang="en-US" sz="1800" spc="-1" strike="noStrike">
                <a:solidFill>
                  <a:srgbClr val="545472"/>
                </a:solidFill>
                <a:latin typeface="Arial"/>
                <a:ea typeface="Times New Roman"/>
              </a:rPr>
              <a:t>nume.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85" name="Picture 1" descr=""/>
          <p:cNvPicPr/>
          <p:nvPr/>
        </p:nvPicPr>
        <p:blipFill>
          <a:blip r:embed="rId2"/>
          <a:stretch/>
        </p:blipFill>
        <p:spPr>
          <a:xfrm>
            <a:off x="1071720" y="1428840"/>
            <a:ext cx="6911640" cy="431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A219-0343-44CA-BB7A-AE8172FA7E04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C781AE-5AA9-4B1C-A0DC-A38A79AE57D0}" type="datetime3">
              <a:rPr lang="en-US"/>
              <a:t>July 29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>
            <a:off x="-6840" y="2160"/>
            <a:ext cx="59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10)Creeati tabela echipe (in modul design view) 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87" name="Picture 1" descr=""/>
          <p:cNvPicPr/>
          <p:nvPr/>
        </p:nvPicPr>
        <p:blipFill>
          <a:blip r:embed="rId2"/>
          <a:stretch/>
        </p:blipFill>
        <p:spPr>
          <a:xfrm>
            <a:off x="571680" y="1357200"/>
            <a:ext cx="7149960" cy="431964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3"/>
          <p:cNvSpPr/>
          <p:nvPr/>
        </p:nvSpPr>
        <p:spPr>
          <a:xfrm>
            <a:off x="0" y="3772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3CC4-62F9-495C-A25F-4D4BBB7C0089}" type="slidenum">
              <a:t>1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EEA0E6-4761-4DFE-8C8A-FCF3BEB18DCF}" type="datetime3">
              <a:rPr lang="en-US"/>
              <a:t>July 29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0" y="-101880"/>
            <a:ext cx="65865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11)  Introduceti urmatoarele inregistrari in tabela   Ju</a:t>
            </a:r>
            <a:r>
              <a:rPr b="1" i="1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catori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90" name="Picture 1" descr=""/>
          <p:cNvPicPr/>
          <p:nvPr/>
        </p:nvPicPr>
        <p:blipFill>
          <a:blip r:embed="rId2"/>
          <a:stretch/>
        </p:blipFill>
        <p:spPr>
          <a:xfrm>
            <a:off x="1000080" y="2214720"/>
            <a:ext cx="7150320" cy="4319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420B-9FD7-44C1-A62E-B2D3C17D8C2C}" type="slidenum">
              <a:t>1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256304-4FA1-4B13-9432-554F2D08A94C}" type="datetime3">
              <a:rPr lang="en-US"/>
              <a:t>July 29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-11880" y="2160"/>
            <a:ext cx="918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11)Creati o interogare asupra tabelei </a:t>
            </a:r>
            <a:r>
              <a:rPr b="1" i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echipe</a:t>
            </a: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 in care sa afisati doar primele 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3 campuri din tabela</a:t>
            </a:r>
            <a:r>
              <a:rPr b="0" lang="en-US" sz="1200" spc="-1" strike="noStrike">
                <a:solidFill>
                  <a:srgbClr val="545472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92" name="Picture 1" descr=""/>
          <p:cNvPicPr/>
          <p:nvPr/>
        </p:nvPicPr>
        <p:blipFill>
          <a:blip r:embed="rId2"/>
          <a:stretch/>
        </p:blipFill>
        <p:spPr>
          <a:xfrm>
            <a:off x="928800" y="1214280"/>
            <a:ext cx="7812000" cy="450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4FF0-7476-4995-8C1A-07FFDC0CA1C8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80B417-6CB7-4004-9848-BF55F9D669A5}" type="datetime3">
              <a:rPr lang="en-US"/>
              <a:t>July 29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-3240" y="720"/>
            <a:ext cx="40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Salvati-o cu numele </a:t>
            </a:r>
            <a:r>
              <a:rPr b="1" i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Interogare1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94" name="Picture 1" descr=""/>
          <p:cNvPicPr/>
          <p:nvPr/>
        </p:nvPicPr>
        <p:blipFill>
          <a:blip r:embed="rId2"/>
          <a:stretch/>
        </p:blipFill>
        <p:spPr>
          <a:xfrm>
            <a:off x="1000080" y="1785960"/>
            <a:ext cx="7150320" cy="431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3385-2A2D-4542-B518-42B2842565B4}" type="slidenum">
              <a:t>1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49195B-AD64-403D-8418-45C2138FCA2C}" type="datetime3">
              <a:rPr lang="en-US"/>
              <a:t>July 29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660066"/>
                </a:solidFill>
                <a:latin typeface="Tahoma"/>
              </a:rPr>
              <a:t>Baze de date</a:t>
            </a:r>
            <a:endParaRPr b="0" lang="en-US" sz="53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85800" y="2895480"/>
            <a:ext cx="9295920" cy="2226960"/>
            <a:chOff x="685800" y="2895480"/>
            <a:chExt cx="9295920" cy="2226960"/>
          </a:xfrm>
        </p:grpSpPr>
        <p:sp>
          <p:nvSpPr>
            <p:cNvPr id="138" name=""/>
            <p:cNvSpPr/>
            <p:nvPr/>
          </p:nvSpPr>
          <p:spPr>
            <a:xfrm>
              <a:off x="685800" y="2895480"/>
              <a:ext cx="92959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85800" y="2895480"/>
              <a:ext cx="929592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45353"/>
                  </a:solidFill>
                  <a:latin typeface="Tahoma"/>
                </a:rPr>
                <a:t>O baza de date (BD) reprezinta o colectie de </a:t>
              </a:r>
              <a:endParaRPr b="0" lang="en-US" sz="2800" spc="-1" strike="noStrike">
                <a:solidFill>
                  <a:srgbClr val="545472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45353"/>
                  </a:solidFill>
                  <a:latin typeface="Tahoma"/>
                </a:rPr>
                <a:t>date       integrata, anume structurata si dotata </a:t>
              </a:r>
              <a:endParaRPr b="0" lang="en-US" sz="2800" spc="-1" strike="noStrike">
                <a:solidFill>
                  <a:srgbClr val="545472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45353"/>
                  </a:solidFill>
                  <a:latin typeface="Tahoma"/>
                </a:rPr>
                <a:t>cu o descriere a structurii si a relatiilor dintre </a:t>
              </a:r>
              <a:endParaRPr b="0" lang="en-US" sz="2800" spc="-1" strike="noStrike">
                <a:solidFill>
                  <a:srgbClr val="545472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45353"/>
                  </a:solidFill>
                  <a:latin typeface="Tahoma"/>
                </a:rPr>
                <a:t>Date.</a:t>
              </a:r>
              <a:endParaRPr b="0" lang="en-US" sz="2800" spc="-1" strike="noStrike">
                <a:solidFill>
                  <a:srgbClr val="545472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2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5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5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A8E2-E6AD-4866-B59D-1C9EE5BF42C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A5449B-12C4-4C69-9A44-5E950C7D9D21}" type="datetime3">
              <a:rPr lang="en-US"/>
              <a:t>July 29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-12960" y="-11520"/>
            <a:ext cx="9838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13) Creati o interogare asupra tabelei echipe in care sa se afiseze doar echipele 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care au castigat campionatul de cel putin 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10 ori. Salvati-o cu numele  I</a:t>
            </a:r>
            <a:r>
              <a:rPr b="1" i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nterogare2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96" name="Picture 1" descr=""/>
          <p:cNvPicPr/>
          <p:nvPr/>
        </p:nvPicPr>
        <p:blipFill>
          <a:blip r:embed="rId2"/>
          <a:stretch/>
        </p:blipFill>
        <p:spPr>
          <a:xfrm>
            <a:off x="1000080" y="1857240"/>
            <a:ext cx="7150320" cy="431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7254-6690-400A-8B78-1A8238CBF1E7}" type="slidenum">
              <a:t>2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867DA3-0DBB-4ACE-AC87-8E9392BCA559}" type="datetime3">
              <a:rPr lang="en-US"/>
              <a:t>July 29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-12960" y="2160"/>
            <a:ext cx="909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14)Creati o interogare si salvati-o cu numele </a:t>
            </a:r>
            <a:r>
              <a:rPr b="0" i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interogare3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 asupra tabelei  echipe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in care sa apara doar echipele din Bucuresti.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98" name="Picture 1" descr=""/>
          <p:cNvPicPr/>
          <p:nvPr/>
        </p:nvPicPr>
        <p:blipFill>
          <a:blip r:embed="rId2"/>
          <a:stretch/>
        </p:blipFill>
        <p:spPr>
          <a:xfrm>
            <a:off x="1143000" y="2000160"/>
            <a:ext cx="7149960" cy="431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D104-3CCC-43F8-AF55-3A5C8C0A3B2B}" type="slidenum">
              <a:t>2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C33178-FB1D-43B8-8A84-F833562FFCED}" type="datetime3">
              <a:rPr lang="en-US"/>
              <a:t>July 29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-13680" y="2160"/>
            <a:ext cx="945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15) Modificati </a:t>
            </a:r>
            <a:r>
              <a:rPr b="1" i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interogare1</a:t>
            </a: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 astfel incat sa afiseze doar echipele al caror nume 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incep cu “U”.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200" name="Picture 1" descr=""/>
          <p:cNvPicPr/>
          <p:nvPr/>
        </p:nvPicPr>
        <p:blipFill>
          <a:blip r:embed="rId2"/>
          <a:stretch/>
        </p:blipFill>
        <p:spPr>
          <a:xfrm>
            <a:off x="1143000" y="1785960"/>
            <a:ext cx="7149960" cy="431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73C1-B161-4D78-B48D-B2A79681CD30}" type="slidenum">
              <a:t>2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22A024-B380-4437-B688-10085C519105}" type="datetime3">
              <a:rPr lang="en-US"/>
              <a:t>July 29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1"/>
          <p:cNvSpPr/>
          <p:nvPr/>
        </p:nvSpPr>
        <p:spPr>
          <a:xfrm>
            <a:off x="0" y="0"/>
            <a:ext cx="900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22)Creati un raport asupra tabelei </a:t>
            </a:r>
            <a:r>
              <a:rPr b="0" i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Jucatori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. Salvati-l cu numele de </a:t>
            </a:r>
            <a:r>
              <a:rPr b="0" i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Jucatori_raport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, si apoi scrieti titlul raportului cu rosu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2"/>
          <a:stretch/>
        </p:blipFill>
        <p:spPr>
          <a:xfrm>
            <a:off x="304920" y="1143000"/>
            <a:ext cx="7149960" cy="431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7DD4-0DA2-4F3A-90E3-F74DC340F9DC}" type="slidenum">
              <a:t>2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787CA5-4693-4275-A044-3B1499D81BBB}" type="datetime3">
              <a:rPr lang="en-US"/>
              <a:t>July 29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0" y="-6840"/>
            <a:ext cx="9144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23)Stabiliti o relatie intre tabelele </a:t>
            </a:r>
            <a:r>
              <a:rPr b="1" i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Echipe</a:t>
            </a: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 si </a:t>
            </a:r>
            <a:r>
              <a:rPr b="1" i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Jucatori.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Regula: Legatura intre doua tabele nu se poate face dupa orice campuri, ci numai dupa acelea care intr-o tabela sunt cheie primara si in cealalta tabela reprezinta cheie externa.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Cele doua campuri prin care se stabileste relatia trebuie sa fie de acelasi tip.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204" name="Picture 1" descr=""/>
          <p:cNvPicPr/>
          <p:nvPr/>
        </p:nvPicPr>
        <p:blipFill>
          <a:blip r:embed="rId2"/>
          <a:stretch/>
        </p:blipFill>
        <p:spPr>
          <a:xfrm>
            <a:off x="1000080" y="2000160"/>
            <a:ext cx="7150320" cy="43196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8F79-90EE-4E5F-B412-C6CD20E51A25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E00C49-5E42-45D9-8110-173F6D7D7D5A}" type="datetime3">
              <a:rPr lang="en-US"/>
              <a:t>July 29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/>
          <p:cNvSpPr/>
          <p:nvPr/>
        </p:nvSpPr>
        <p:spPr>
          <a:xfrm>
            <a:off x="4680" y="9720"/>
            <a:ext cx="9362880" cy="67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16)Creati o interogare numita </a:t>
            </a:r>
            <a:r>
              <a:rPr b="0" i="1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interogare4</a:t>
            </a: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 asupra tabelei </a:t>
            </a:r>
            <a:r>
              <a:rPr b="0" i="1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jucatori</a:t>
            </a: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care sa afiseze  jucatorii care nu au marcat niciun gol.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17)Creati o interogare numita i</a:t>
            </a:r>
            <a:r>
              <a:rPr b="0" i="1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nterogare5</a:t>
            </a: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 asupra tabelei </a:t>
            </a:r>
            <a:r>
              <a:rPr b="0" i="1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jucatori</a:t>
            </a: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,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care sa  afiseze doar jucatorii care fac parte si din echipa nationala.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18) Creati o interogare numita </a:t>
            </a:r>
            <a:r>
              <a:rPr b="0" i="1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interogare6</a:t>
            </a: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 asupra tabelei </a:t>
            </a:r>
            <a:r>
              <a:rPr b="0" i="1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jucatori</a:t>
            </a: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,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care sa  afiseze doar jucatorii al caror nume incep cu “D” sau al 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Caror  prenume incep cu “C”. (like “D*” or like “C*”).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19)Creati un formular pe tabela </a:t>
            </a:r>
            <a:r>
              <a:rPr b="0" i="1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Echipe.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20)Creati un formular pe tabela </a:t>
            </a:r>
            <a:r>
              <a:rPr b="0" i="1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Jucatori</a:t>
            </a: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21)Creati un formulare pe tabelele </a:t>
            </a:r>
            <a:r>
              <a:rPr b="0" i="1" lang="en-US" sz="2400" spc="-1" strike="noStrike">
                <a:solidFill>
                  <a:srgbClr val="545472"/>
                </a:solidFill>
                <a:latin typeface="Arial"/>
              </a:rPr>
              <a:t>Echipe </a:t>
            </a: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si </a:t>
            </a:r>
            <a:r>
              <a:rPr b="0" i="1" lang="en-US" sz="2400" spc="-1" strike="noStrike">
                <a:solidFill>
                  <a:srgbClr val="545472"/>
                </a:solidFill>
                <a:latin typeface="Arial"/>
              </a:rPr>
              <a:t>Jucatori.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21)Creati un raport asupra tabelei </a:t>
            </a:r>
            <a:r>
              <a:rPr b="0" i="1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Echipe.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22) Creati un raport asupra tabelei Jucatori,in care numele 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jucatorilor sa fie ordonat alfabetic.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23)Creati un raport pe tabelele </a:t>
            </a:r>
            <a:r>
              <a:rPr b="0" i="1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Jucatori</a:t>
            </a: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 si </a:t>
            </a:r>
            <a:r>
              <a:rPr b="0" i="1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Echipe.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9D60-0F33-47BB-B3B4-ED0B78000D6D}" type="slidenum">
              <a:t>2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C4470E-B02A-4C05-8CE5-4F6D731AA7AE}" type="datetime3">
              <a:rPr lang="en-US"/>
              <a:t>July 29, 2026</a:t>
            </a:fld>
          </a:p>
        </p:txBody>
      </p:sp>
    </p:spTree>
  </p:cSld>
  <p:transition spd="slow">
    <p:cover dir="ru"/>
    <p:sndAc>
      <p:stSnd>
        <p:snd r:embed="rId2" name="glas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Rectangle 4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5"/>
          <p:cNvSpPr/>
          <p:nvPr/>
        </p:nvSpPr>
        <p:spPr>
          <a:xfrm>
            <a:off x="491400" y="1740600"/>
            <a:ext cx="680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54547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Tabele – contin toate inregistrarile</a:t>
            </a:r>
            <a:br>
              <a:rPr sz="1800"/>
            </a:b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>
              <a:buClr>
                <a:srgbClr val="54547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Interogari – localizeaza inregistrari specifice</a:t>
            </a:r>
            <a:br>
              <a:rPr sz="1800"/>
            </a:b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>
              <a:buClr>
                <a:srgbClr val="54547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Formulare – afiseaza inregistrarile din tabele, una cite una </a:t>
            </a:r>
            <a:br>
              <a:rPr sz="1800"/>
            </a:b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>
              <a:buClr>
                <a:srgbClr val="54547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Rapoarte – tiparesc loturi de inregistrari</a:t>
            </a:r>
            <a:br>
              <a:rPr sz="1800"/>
            </a:b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>
              <a:buClr>
                <a:srgbClr val="54547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Pagini de acces la date – pun la dispozitie date prin intermediul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paginilor Web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>
              <a:buClr>
                <a:srgbClr val="54547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Macrocomenzi – actiuni automate uzuale 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273B-BE85-4C08-A7D7-D785F5A17CC1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A4CE4B-BD9B-4B90-B3D3-7EA9E7B43BE7}" type="datetime3">
              <a:rPr lang="en-US"/>
              <a:t>July 29, 2026</a:t>
            </a:fld>
          </a:p>
        </p:txBody>
      </p:sp>
    </p:spTree>
  </p:cSld>
  <p:transition spd="slow">
    <p:cover dir="ru"/>
    <p:sndAc>
      <p:stSnd>
        <p:snd r:embed="rId4" name="glas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abel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80880" y="1447920"/>
            <a:ext cx="8432640" cy="4570920"/>
            <a:chOff x="380880" y="1447920"/>
            <a:chExt cx="8432640" cy="4570920"/>
          </a:xfrm>
        </p:grpSpPr>
        <p:sp>
          <p:nvSpPr>
            <p:cNvPr id="146" name=""/>
            <p:cNvSpPr/>
            <p:nvPr/>
          </p:nvSpPr>
          <p:spPr>
            <a:xfrm>
              <a:off x="380880" y="1447920"/>
              <a:ext cx="84326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0880" y="1447920"/>
              <a:ext cx="8432640" cy="45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88920" bIns="22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45472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unt cele mai importante obiecte ale unei baze de date.</a:t>
              </a:r>
              <a:endParaRPr b="0" lang="en-US" sz="2000" spc="-1" strike="noStrike">
                <a:solidFill>
                  <a:srgbClr val="545472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Dacă o BD nu conţine cel puţin un tabel, crearea altor clase de obiecte devine lipsită de sens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entru fiecare cîmp al tabelului se specifică 3 caracteristici, şi anume:</a:t>
              </a:r>
              <a:br>
                <a:rPr sz="2000"/>
              </a:b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• Field Name (denumirea  împului, obligatoriu);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• Data Type (tipul cîmpului, obligatoriu);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• Description (descrierea cîmpului, opţional).</a:t>
              </a:r>
              <a:br>
                <a:rPr sz="2000"/>
              </a:br>
              <a:endParaRPr b="0" lang="en-US" sz="2000" spc="-1" strike="noStrike">
                <a:solidFill>
                  <a:srgbClr val="545472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D2C9-9B11-4FF1-A6BA-188F3F3DC1D4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5FFF98-2861-48CB-A5C7-39E7F214992D}" type="datetime3">
              <a:rPr lang="en-US"/>
              <a:t>July 29, 2026</a:t>
            </a:fld>
          </a:p>
        </p:txBody>
      </p:sp>
    </p:spTree>
  </p:cSld>
  <p:transition spd="slow">
    <p:cover dir="ru"/>
    <p:sndAc>
      <p:stSnd>
        <p:snd r:embed="rId2" name="glas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3170160"/>
            <a:ext cx="9144000" cy="972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170160"/>
            <a:ext cx="9144000" cy="972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3170160"/>
            <a:ext cx="9144000" cy="972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3170160"/>
            <a:ext cx="9144000" cy="972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3170160"/>
            <a:ext cx="9144000" cy="972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2438280"/>
            <a:ext cx="9144000" cy="298800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  <a:ea typeface="Tahoma"/>
              </a:rPr>
              <a:t>Se creează o interogare pentru găsirea și preluarea doar 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  <a:ea typeface="Tahoma"/>
              </a:rPr>
              <a:t>a datelor care îndeplinesc condițiile precizate,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  <a:ea typeface="Tahoma"/>
              </a:rPr>
              <a:t>inclusiv datele din tabele   multiple.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170160"/>
            <a:ext cx="9144000" cy="9720"/>
          </a:xfrm>
          <a:prstGeom prst="rect">
            <a:avLst/>
          </a:prstGeom>
          <a:solidFill>
            <a:srgbClr val="f7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solidFill>
            <a:srgbClr val="f7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380880"/>
            <a:ext cx="684684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660066"/>
                </a:solidFill>
                <a:latin typeface="Lucida Sans Unicode"/>
              </a:rPr>
              <a:t>Interogari</a:t>
            </a:r>
            <a:br>
              <a:rPr sz="4100"/>
            </a:br>
            <a:endParaRPr b="0" lang="en-US" sz="55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F73D-B96B-403D-AE68-6D77371EA582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BACDB2-80AF-4E69-977B-12CC11894CCE}" type="datetime3">
              <a:rPr lang="en-US"/>
              <a:t>July 29, 2026</a:t>
            </a:fld>
          </a:p>
        </p:txBody>
      </p:sp>
    </p:spTree>
  </p:cSld>
  <p:transition spd="slow">
    <p:cover dir="ru"/>
    <p:sndAc>
      <p:stSnd>
        <p:snd r:embed="rId2" name="glas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ormul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3230640"/>
            <a:ext cx="9144000" cy="936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3230640"/>
            <a:ext cx="9144000" cy="936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230640"/>
            <a:ext cx="9144000" cy="936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3230640"/>
            <a:ext cx="9144000" cy="936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3230640"/>
            <a:ext cx="9144000" cy="936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2666880"/>
            <a:ext cx="9144000" cy="109764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  <a:ea typeface="Tahoma"/>
              </a:rPr>
              <a:t>Se creează un formular pentru vizualizarea, introducerea, și modificarea ușoară a datelor direct într-un tabel. 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3230640"/>
            <a:ext cx="9144000" cy="9360"/>
          </a:xfrm>
          <a:prstGeom prst="rect">
            <a:avLst/>
          </a:prstGeom>
          <a:solidFill>
            <a:srgbClr val="f7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solidFill>
            <a:srgbClr val="f7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24E6-BF4F-41B2-9D4E-08E42B8AF3A5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A3312B-0B64-4C76-9C40-FBB6E4367E63}" type="datetime3">
              <a:rPr lang="en-US"/>
              <a:t>July 29, 2026</a:t>
            </a:fld>
          </a:p>
        </p:txBody>
      </p:sp>
    </p:spTree>
  </p:cSld>
  <p:transition spd="slow">
    <p:cover dir="ru"/>
    <p:sndAc>
      <p:stSnd>
        <p:snd r:embed="rId2" name="glas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457200" y="533520"/>
            <a:ext cx="8229600" cy="54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  <a:ea typeface="Tahoma"/>
              </a:rPr>
              <a:t>Rapoarte</a:t>
            </a:r>
            <a:endParaRPr b="0" lang="en-US" sz="4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Pentru a creea rapoarte trebuie să stabiliți mai întâi care câmpuri conțin datele pe care doriți să le vedeți în raport și în ce tabele sau interogări se află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5DCE-A282-4999-8ECC-179C467FFE3C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E2B501-10B2-4B55-BC2E-C0436641127A}" type="datetime3">
              <a:rPr lang="en-US"/>
              <a:t>July 29, 2026</a:t>
            </a:fld>
          </a:p>
        </p:txBody>
      </p:sp>
    </p:spTree>
  </p:cSld>
  <p:transition spd="slow">
    <p:cover dir="ru"/>
    <p:sndAc>
      <p:stSnd>
        <p:snd r:embed="rId6" name="glas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"/>
          <p:cNvSpPr/>
          <p:nvPr/>
        </p:nvSpPr>
        <p:spPr>
          <a:xfrm>
            <a:off x="36360" y="285840"/>
            <a:ext cx="839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Arial"/>
              </a:rPr>
              <a:t>APLICATIE: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545472"/>
                </a:solidFill>
                <a:latin typeface="Arial"/>
              </a:rPr>
              <a:t>)Creez o baza de date numita FOTBAL.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545472"/>
                </a:solidFill>
                <a:latin typeface="Arial"/>
              </a:rPr>
              <a:t>2)Creez tabela: ECHIPE  (in modul DESIGN VIEW)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2"/>
          <a:stretch/>
        </p:blipFill>
        <p:spPr>
          <a:xfrm>
            <a:off x="1500120" y="2357280"/>
            <a:ext cx="6494400" cy="3924360"/>
          </a:xfrm>
          <a:prstGeom prst="rect">
            <a:avLst/>
          </a:prstGeom>
          <a:ln w="9360">
            <a:solidFill>
              <a:srgbClr val="a7ccd9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8D43-C191-4777-8921-8171A9DC37F0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F03996-62B9-412D-9B4E-430EF799FB56}" type="datetime3">
              <a:rPr lang="en-US"/>
              <a:t>July 29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"/>
          <p:cNvSpPr/>
          <p:nvPr/>
        </p:nvSpPr>
        <p:spPr>
          <a:xfrm>
            <a:off x="-7920" y="5400"/>
            <a:ext cx="8930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3)Stabiliti  campul </a:t>
            </a:r>
            <a:r>
              <a:rPr b="1" i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cod </a:t>
            </a: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cheie primara a tabelei.  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IMPORTANT:Cheia primara a unei tabele este un camp sau o combinatie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de campuri prin care se identifica in mod unic  o anumita inregistrare 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din tabela.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2"/>
          <a:stretch/>
        </p:blipFill>
        <p:spPr>
          <a:xfrm>
            <a:off x="785880" y="1571760"/>
            <a:ext cx="7149960" cy="4319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23B3-E5C7-4D1D-A545-F0B0C96D6A11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E9D06B-27D4-45A8-936B-F882DE8661DC}" type="datetime3">
              <a:rPr lang="en-US"/>
              <a:t>July 29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5T09:33:30Z</dcterms:created>
  <dc:creator>amdl</dc:creator>
  <dc:description/>
  <dc:language>en-US</dc:language>
  <cp:lastModifiedBy>Cris</cp:lastModifiedBy>
  <dcterms:modified xsi:type="dcterms:W3CDTF">2010-05-24T11:57:30Z</dcterms:modified>
  <cp:revision>59</cp:revision>
  <dc:subject/>
  <dc:title>Rapoarte</dc:title>
</cp:coreProperties>
</file>