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glass.wav" ContentType="audio/x-wav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A74-7EB0-4B07-A862-B63F8520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64A-1D62-489A-B239-A8DF9DA7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0D5-DC80-425C-A996-C4D57E84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3C5-3338-4BD5-B641-D56A4448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CF28-253E-42F1-A338-71B22149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65D6-395A-4C3F-A6A8-46FA4520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9985-AC16-4EE2-BC45-CC460DC5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4FB1-BAEC-4ADF-9C55-EE0D3A22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F06F-FE4E-402B-9ED3-8B33A7DD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C59B-B3BF-4128-91E3-4D32269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76D0-3105-4176-BBDA-BB697172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E99-4246-45A4-BA25-51C23A34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68D9-D3E8-4D72-91B2-FDA4AD8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6795-2F9B-4498-A7E6-958EE764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F538-9337-4ADC-B2C1-F040941D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154D-8D1E-4F5E-996A-55880573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0431-A4E9-49FA-8BF7-C2FED481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566-ECC1-4A3C-AE11-CDFB50F6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93F-AA32-479E-B898-D43596AF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18D-8F13-4A97-8B55-2F8B696D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E54-1C32-45E1-AF4F-AC473015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0B4-76E4-48E9-AC0C-659FF90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D1A-FF1B-4430-8B98-FA2A343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A0A-F971-466A-8E1A-A97895C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4C9B-B139-4DCA-82C0-9659A760C08E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E06F-E56C-4F1C-8333-0D1B09AAFDD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9B42-EA59-4126-9297-38FC7AD55F0D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E4F6-DE04-4959-98C9-251DA9667D7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iective  operaţional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finească  noţiunile  de  baze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scrie etapele de  obţinere a  unei  baze  de  date, a unui  tabel, a unei  interogări, a unui formular şi raport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evidenţieze  obiectele aplicaţiei  Access  pentru  realizarea  bazelor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utilizeze  corect  toate  obiectele  din  fereastra aplicaţiei  Access  pentru  rezolvarea  aplicaţiei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50C-D537-4A58-BD49-43994DA6CC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FB88A-1B01-40FB-9C04-5E741CEE8242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14200" y="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4)Introduceti urmatoarele inregistrari in tabela Echip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850716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9C1-59DE-4B0E-844F-4EC6E973DF6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1D50F-F395-45D9-ADCC-E166A52314FF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-12600" y="216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5)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Utilizand instrumentul de cautare, gasiti inregistrarea din localitate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luj-Napoca. Modificati localitatea in Cluj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6912000" cy="431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CA4-7C7D-4746-82D3-45E21B0710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078EE-62EE-4ED8-A000-4E78902483E6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112320"/>
            <a:ext cx="973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6)Adaugati urmatorul atribut  Numar_campioana (tip integer) si completati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inregistrarile cu urmatoarele numere:15, 6, 2 , 10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286840" cy="48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71C-9477-4597-9AFE-9853B4D1CCC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B1D8F-6B87-4F2A-8235-43793F4B0F1F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7560" y="720"/>
            <a:ext cx="71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7) Modificati lungimea coloan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um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la 100 de caractere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857160" y="192888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1CD-AD23-4D96-BB91-CCB46C143C5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9506B-490B-41FF-8659-E02DD6267FE3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-10440" y="360720"/>
            <a:ext cx="86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8)Introduceti inca o inregistrare in tabela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: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, Steaua, Bucuresti,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tr Ghencea 19, 12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BFB-90C8-42DF-9AB6-1447A8D5C554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8F4C5-6B7F-4C6A-AE3D-C9DF25B50404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20" y="1220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9) Redenumiti coloana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_club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in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si apoi sortati crescator dupa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campul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nume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691164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ADA-6B38-46A9-8080-03F7B9680AE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0D973-7A01-49B7-89BB-4325905604F7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-6840" y="2160"/>
            <a:ext cx="59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)Creeati tabela echipe (in modul design view)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6AC-CF68-4057-BBDC-6C8AB53F0CC7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EBF52-677D-4B12-B0F3-210B443BE3F5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-101880"/>
            <a:ext cx="6586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1)  Introduceti urmatoarele inregistrari in tabela   Ju</a:t>
            </a:r>
            <a:r>
              <a:rPr b="1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tor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15032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52D-5D08-4142-9D24-27D0036D598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2927B-6B80-4FBB-A1FC-0CD97A292F48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-11880" y="2160"/>
            <a:ext cx="91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1)Creati o interogare asupra tabel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in care sa afisati doar prim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 campuri din tabela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7812000" cy="45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5FB-B7C3-487D-90D1-F9E3503C3506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31DBB-DA0B-4215-86D6-FF1E559E02EA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240" y="72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alvati-o cu num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C6D-2B5A-42D3-A8C6-0F0B956D7179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7300F-0E33-407C-9BAF-05958C0255BC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660066"/>
                </a:solidFill>
                <a:latin typeface="Tahoma"/>
              </a:rPr>
              <a:t>Baze de date</a:t>
            </a:r>
            <a:endParaRPr b="0" lang="en-US" sz="53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2895480"/>
            <a:ext cx="9295920" cy="2226960"/>
            <a:chOff x="685800" y="2895480"/>
            <a:chExt cx="9295920" cy="2226960"/>
          </a:xfrm>
        </p:grpSpPr>
        <p:sp>
          <p:nvSpPr>
            <p:cNvPr id="138" name=""/>
            <p:cNvSpPr/>
            <p:nvPr/>
          </p:nvSpPr>
          <p:spPr>
            <a:xfrm>
              <a:off x="685800" y="2895480"/>
              <a:ext cx="929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895480"/>
              <a:ext cx="92959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O baza de date (BD) reprezinta o colectie d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       integrata, anume structurata si dotata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cu o descriere a structurii si a relatiilor dintr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.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5FF-F997-4E04-AEDF-993D599405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7E7CE-7510-41DC-AF03-307B14DDCA76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-12960" y="-11520"/>
            <a:ext cx="983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3) Creati o interogare asupra tabelei echipe in care sa se afiseze doar echip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are au castigat campionatul de cel putin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 ori. Salvati-o cu numele  I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2"/>
          <a:stretch/>
        </p:blipFill>
        <p:spPr>
          <a:xfrm>
            <a:off x="1000080" y="185724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BE6-379A-456A-A952-2D6F0AF0CBB8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B5379-14C6-4053-8304-B447083A915B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12960" y="2160"/>
            <a:ext cx="90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4)Creati o interogare si salvati-o cu numel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3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 echip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 care sa apara doar echipele din Bucurest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1BA-FAE6-4E96-87BC-7EB0D0F3FE3E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1335A-24AC-4897-8465-E40BD34E7F41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-13680" y="2160"/>
            <a:ext cx="94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5) Modificat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tfel incat sa afiseze doar echipele al caror num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cep cu “U”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1143000" y="17859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185-F4BF-42A2-96A0-29B2D8F8FAAB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F8B8C-9335-4801-929B-B1F5D415A407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2)Creati un raport asupra tabelei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 Salvati-l cu numele d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_raport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, si apoi scrieti titlul raportului cu rosu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643-5803-45CB-A21D-961381244529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3F408-3B0E-4DA6-872A-8C18D099DB64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-68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3)Stabiliti o relatie intre tabel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gula: Legatura intre doua tabele nu se poate face dupa orice campuri, ci numai dupa acelea care intr-o tabela sunt cheie primara si in cealalta tabela reprezinta cheie extern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le doua campuri prin care se stabileste relatia trebuie sa fie de acelasi tip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49F-7559-4DB4-B8D1-916A6E89ABA7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7E0CA-C091-4E31-9F7C-49FF985A3D86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80" y="9720"/>
            <a:ext cx="936288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6)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4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afiseze  jucatorii care nu au marcat niciun gol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7)Creati o interogare numita i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5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care fac parte si din echipa nationala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8) 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6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al caror nume incep cu “D” sau al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or  prenume incep cu “C”. (like “D*” or like “C*”)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9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0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1)Creati un formulare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Echipe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Jucatori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1)Creati un raport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2) Creati un raport asupra tabelei Jucatori,in care numele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lor sa fie ordonat alfabetic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3)Creati un raport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69E-4F03-4AEF-8B48-DE9F1A94221C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600B6-1C40-4587-9A8B-EAB972E4B0D2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491400" y="1740600"/>
            <a:ext cx="68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abele – contin toate inregistraril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Interogari – localizeaza inregistrari specific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Formulare – afiseaza inregistrarile din tabele, una cite una 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Rapoarte – tiparesc loturi de inregistrari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 de acces la date – pun la dispozitie date prin intermediu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lor Web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acrocomenzi – actiuni automate uzual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11D-78B8-4F2E-866D-956B1D252A9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99071-7282-4EFF-8861-76681225944C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4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b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447920"/>
            <a:ext cx="8432640" cy="4570920"/>
            <a:chOff x="380880" y="1447920"/>
            <a:chExt cx="8432640" cy="4570920"/>
          </a:xfrm>
        </p:grpSpPr>
        <p:sp>
          <p:nvSpPr>
            <p:cNvPr id="146" name=""/>
            <p:cNvSpPr/>
            <p:nvPr/>
          </p:nvSpPr>
          <p:spPr>
            <a:xfrm>
              <a:off x="380880" y="1447920"/>
              <a:ext cx="843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1447920"/>
              <a:ext cx="8432640" cy="45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8920" bIns="22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nt cele mai importante obiecte ale unei baze de date.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acă o BD nu conţine cel puţin un tabel, crearea altor clase de obiecte devine lipsită de sens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ntru fiecare cîmp al tabelului se specifică 3 caracteristici, şi anume: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Field Name (denumirea  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ata Type (tipul c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escription (descrierea cîmpului, opţional).</a:t>
              </a:r>
              <a:br>
                <a:rPr sz="2000"/>
              </a:b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ACC-FA9B-44B0-A61D-E92098B60D0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C0C77-D34E-4659-9FC5-AA4F39F707EA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9144000" cy="298800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o interogare pentru găsirea și preluarea doar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a datelor care îndeplinesc condițiile precizate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inclusiv datele din tabele   multipl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80880"/>
            <a:ext cx="6846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0066"/>
                </a:solidFill>
                <a:latin typeface="Lucida Sans Unicode"/>
              </a:rPr>
              <a:t>Interogari</a:t>
            </a:r>
            <a:br>
              <a:rPr sz="4100"/>
            </a:br>
            <a:endParaRPr b="0" lang="en-US" sz="55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62A-315A-46AD-9D06-89EFB5854C9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6985D-1DEB-40D4-888E-0136FA44EE51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mul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66880"/>
            <a:ext cx="9144000" cy="10976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un formular pentru vizualizarea, introducerea, și modificarea ușoară a datelor direct într-un tabel.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816-D0A5-4636-A4C8-E1A8D84D882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59C67-B79A-4F71-9E77-8A168A6AF44C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Rapoarte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entru a creea rapoarte trebuie să stabiliți mai întâi care câmpuri conțin datele pe care doriți să le vedeți în raport și în ce tabele sau interogări se afl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26C-A573-4FB4-B0A1-75CE6B849E7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2DDD3-1F99-4B3C-8452-C327A02DC3E8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6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6360" y="28584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PLICATIE: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)Creez o baza de date numita FOTBAL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2)Creez tabela: ECHIPE  (in modul DESIGN VIEW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500120" y="2357280"/>
            <a:ext cx="6494400" cy="3924360"/>
          </a:xfrm>
          <a:prstGeom prst="rect">
            <a:avLst/>
          </a:prstGeom>
          <a:ln w="9360">
            <a:solidFill>
              <a:srgbClr val="a7ccd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BCF-4A87-45D1-818C-F8581D9CE9F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8A32B-46C9-4372-AE94-69AB79FECB6D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-7920" y="5400"/>
            <a:ext cx="893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)Stabiliti  campul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od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heie primara a tabelei.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ANT:Cheia primara a unei tabele este un camp sau o combin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 campuri prin care se identifica in mod unic  o anumita inregistrar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 tabel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E4A-7F12-4A7C-9992-A9B5D9AE2BA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4E895-2C07-4875-953C-15463AD9F17C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9:33:30Z</dcterms:created>
  <dc:creator>amdl</dc:creator>
  <dc:description/>
  <dc:language>en-US</dc:language>
  <cp:lastModifiedBy>Cris</cp:lastModifiedBy>
  <dcterms:modified xsi:type="dcterms:W3CDTF">2010-05-24T11:57:30Z</dcterms:modified>
  <cp:revision>59</cp:revision>
  <dc:subject/>
  <dc:title>Rapoarte</dc:title>
</cp:coreProperties>
</file>